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90583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9220320"/>
            <a:ext cx="5562720" cy="62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  址：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京市海淀区四道口路甲一号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号楼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3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室          邮    编：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86 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电    话：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10-62255588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转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2, 323 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手    机：</a:t>
            </a:r>
            <a:r>
              <a:rPr b="1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913229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mall_logo2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799920" cy="48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2.wmf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jpeg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2.wmf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2.wmf"/><Relationship Id="rId9" Type="http://schemas.openxmlformats.org/officeDocument/2006/relationships/image" Target="../media/image5.png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5334120"/>
            <a:ext cx="820080" cy="526680"/>
            <a:chOff x="5334120" y="5334120"/>
            <a:chExt cx="820080" cy="526680"/>
          </a:xfrm>
        </p:grpSpPr>
        <p:sp>
          <p:nvSpPr>
            <p:cNvPr id="42" name=""/>
            <p:cNvSpPr/>
            <p:nvPr/>
          </p:nvSpPr>
          <p:spPr>
            <a:xfrm>
              <a:off x="5334120" y="5495400"/>
              <a:ext cx="422280" cy="287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731920" y="5483520"/>
              <a:ext cx="422280" cy="287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8800" y="5410800"/>
              <a:ext cx="16884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918760" y="5681880"/>
              <a:ext cx="168480" cy="1666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784480" y="5406480"/>
              <a:ext cx="16776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48680" y="5695200"/>
              <a:ext cx="16884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539320" y="5334120"/>
              <a:ext cx="331560" cy="299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30040" y="5556960"/>
              <a:ext cx="331560" cy="299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9880" y="7783560"/>
            <a:ext cx="324000" cy="25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265640" y="7783560"/>
            <a:ext cx="325440" cy="258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751280" y="7783560"/>
            <a:ext cx="325440" cy="258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49600" y="5524560"/>
            <a:ext cx="8132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9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51200" y="6095880"/>
            <a:ext cx="66528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9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7200" y="6622920"/>
            <a:ext cx="409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9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网络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720" y="8174160"/>
            <a:ext cx="8557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9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 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7920" y="7467480"/>
            <a:ext cx="0" cy="31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webramp" descr=""/>
          <p:cNvPicPr/>
          <p:nvPr/>
        </p:nvPicPr>
        <p:blipFill>
          <a:blip r:embed="rId4"/>
          <a:stretch/>
        </p:blipFill>
        <p:spPr>
          <a:xfrm>
            <a:off x="4267080" y="6477120"/>
            <a:ext cx="5778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784760" y="5810400"/>
            <a:ext cx="182520" cy="104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027760" y="5985000"/>
            <a:ext cx="182520" cy="106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5270400" y="6195960"/>
            <a:ext cx="182520" cy="106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116680" y="7467480"/>
            <a:ext cx="3650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632480" y="5880240"/>
            <a:ext cx="21240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692600" y="6091200"/>
            <a:ext cx="365040" cy="38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784760" y="6302160"/>
            <a:ext cx="546120" cy="17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67280" y="5668560"/>
            <a:ext cx="30312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149800" y="5738760"/>
            <a:ext cx="303120" cy="246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392800" y="5775480"/>
            <a:ext cx="243000" cy="420480"/>
          </a:xfrm>
          <a:prstGeom prst="line">
            <a:avLst/>
          </a:prstGeom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40120" y="7467480"/>
            <a:ext cx="185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03920" y="7467480"/>
            <a:ext cx="0" cy="31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7467480"/>
            <a:ext cx="0" cy="31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5211720" y="7783560"/>
            <a:ext cx="325440" cy="25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64000" y="7467480"/>
            <a:ext cx="0" cy="31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648320" y="6933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952880"/>
            <a:ext cx="320040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集路由器、集线器、多路复用器于一体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串口可连接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台不同速率的调制解调器，分别连接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3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SP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网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ub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，可分别连接多个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ub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扩充网络规模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asyIP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技术允许单个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SP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帐号多人使用，享受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,FTP,Mail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ernet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务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优化连接技术能够根据网络负载的具体情况分别启动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-3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调制解调器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HCP Server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功能自动分配客户端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P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址多达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3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户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防火墙（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irewall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和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P/CHAP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证功能，设定上网权限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支持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FTP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议，便于软件升级；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装极其简便，采用基于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配置管理模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2590920" y="1219320"/>
            <a:ext cx="1371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85800" y="4419720"/>
            <a:ext cx="16765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“</a:t>
            </a: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网络通”就是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120348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1160" y="2666880"/>
            <a:ext cx="281088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最省钱，最快捷，最省事，全公司接入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网络通” 能为您的公司顺利接入国际网络做到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057400" y="990720"/>
            <a:ext cx="2666880" cy="380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787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微软简行楷"/>
              </a:rPr>
              <a:t>网 络 通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微软简行楷"/>
              <a:ea typeface="微软简行楷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328840" y="195264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WeBRamp M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2" name=""/>
          <p:cNvSpPr/>
          <p:nvPr/>
        </p:nvSpPr>
        <p:spPr>
          <a:xfrm>
            <a:off x="1542240" y="3200400"/>
            <a:ext cx="327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拥有一个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帐号，可让全公司同时访问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erne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：省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人拥有私人帐号，在公司网络上可直接接收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l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：省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同时复合使用三条电话线，公司网络提高带宽三倍：快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设置方便，维护简单，升级容易，投资少，收益大：便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162400" y="618804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95280" y="895320"/>
            <a:ext cx="4343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“</a:t>
            </a: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网络通”帮你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透过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Internet</a:t>
            </a: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建立企业网络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85" name=""/>
          <p:cNvSpPr/>
          <p:nvPr/>
        </p:nvSpPr>
        <p:spPr>
          <a:xfrm>
            <a:off x="5162400" y="5807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5960" y="5883120"/>
            <a:ext cx="60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企业内部网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Intra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51480" y="5959440"/>
            <a:ext cx="36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路由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96120" y="5578560"/>
            <a:ext cx="36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防火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324320" y="4816440"/>
            <a:ext cx="407880" cy="422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83120" y="4816440"/>
            <a:ext cx="407880" cy="422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592600" y="4816440"/>
            <a:ext cx="4082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172040" y="5425920"/>
            <a:ext cx="1828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33840" y="519732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62400" y="519732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72240" y="519732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00840" y="5349960"/>
            <a:ext cx="0" cy="152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72040" y="5349960"/>
            <a:ext cx="0" cy="152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933800" y="5578560"/>
            <a:ext cx="533520" cy="228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62400" y="5425920"/>
            <a:ext cx="0" cy="152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905360" y="5959440"/>
            <a:ext cx="533520" cy="228600"/>
            <a:chOff x="4905360" y="5959440"/>
            <a:chExt cx="533520" cy="228600"/>
          </a:xfrm>
        </p:grpSpPr>
        <p:grpSp>
          <p:nvGrpSpPr>
            <p:cNvPr id="101" name=""/>
            <p:cNvGrpSpPr/>
            <p:nvPr/>
          </p:nvGrpSpPr>
          <p:grpSpPr>
            <a:xfrm>
              <a:off x="4917600" y="5970240"/>
              <a:ext cx="521280" cy="217800"/>
              <a:chOff x="4917600" y="5970240"/>
              <a:chExt cx="521280" cy="217800"/>
            </a:xfrm>
          </p:grpSpPr>
          <p:sp>
            <p:nvSpPr>
              <p:cNvPr id="102" name=""/>
              <p:cNvSpPr/>
              <p:nvPr/>
            </p:nvSpPr>
            <p:spPr>
              <a:xfrm>
                <a:off x="4917600" y="6048360"/>
                <a:ext cx="521280" cy="63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917600" y="6059520"/>
                <a:ext cx="521280" cy="128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17600" y="5970240"/>
                <a:ext cx="521280" cy="141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4905360" y="6035400"/>
              <a:ext cx="521280" cy="6660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05360" y="6035400"/>
              <a:ext cx="521280" cy="14148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05360" y="5959440"/>
              <a:ext cx="521280" cy="1310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003280" y="5980320"/>
              <a:ext cx="324720" cy="99360"/>
              <a:chOff x="5003280" y="5980320"/>
              <a:chExt cx="324720" cy="9936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5003280" y="5980320"/>
                <a:ext cx="324720" cy="99360"/>
                <a:chOff x="5003280" y="5980320"/>
                <a:chExt cx="324720" cy="993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5003280" y="5980320"/>
                  <a:ext cx="142560" cy="36000"/>
                </a:xfrm>
                <a:custGeom>
                  <a:avLst/>
                  <a:gdLst/>
                  <a:ahLst/>
                  <a:rect l="l" t="t" r="r" b="b"/>
                  <a:pathLst>
                    <a:path w="150" h="53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121" y="26"/>
                      </a:lnTo>
                      <a:lnTo>
                        <a:pt x="149" y="13"/>
                      </a:lnTo>
                      <a:lnTo>
                        <a:pt x="135" y="52"/>
                      </a:lnTo>
                      <a:lnTo>
                        <a:pt x="40" y="52"/>
                      </a:lnTo>
                      <a:lnTo>
                        <a:pt x="81" y="3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5184360" y="6048000"/>
                  <a:ext cx="143640" cy="31680"/>
                </a:xfrm>
                <a:custGeom>
                  <a:avLst/>
                  <a:gdLst/>
                  <a:ahLst/>
                  <a:rect l="l" t="t" r="r" b="b"/>
                  <a:pathLst>
                    <a:path w="151" h="47">
                      <a:moveTo>
                        <a:pt x="150" y="34"/>
                      </a:moveTo>
                      <a:lnTo>
                        <a:pt x="121" y="46"/>
                      </a:lnTo>
                      <a:lnTo>
                        <a:pt x="41" y="23"/>
                      </a:lnTo>
                      <a:lnTo>
                        <a:pt x="0" y="34"/>
                      </a:lnTo>
                      <a:lnTo>
                        <a:pt x="13" y="0"/>
                      </a:lnTo>
                      <a:lnTo>
                        <a:pt x="121" y="0"/>
                      </a:lnTo>
                      <a:lnTo>
                        <a:pt x="82" y="11"/>
                      </a:lnTo>
                      <a:lnTo>
                        <a:pt x="15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16240" y="5980320"/>
                <a:ext cx="297000" cy="99360"/>
                <a:chOff x="5016240" y="5980320"/>
                <a:chExt cx="297000" cy="993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172480" y="5980320"/>
                  <a:ext cx="140760" cy="36000"/>
                </a:xfrm>
                <a:custGeom>
                  <a:avLst/>
                  <a:gdLst/>
                  <a:ahLst/>
                  <a:rect l="l" t="t" r="r" b="b"/>
                  <a:pathLst>
                    <a:path w="148" h="53">
                      <a:moveTo>
                        <a:pt x="0" y="39"/>
                      </a:moveTo>
                      <a:lnTo>
                        <a:pt x="40" y="52"/>
                      </a:lnTo>
                      <a:lnTo>
                        <a:pt x="106" y="13"/>
                      </a:lnTo>
                      <a:lnTo>
                        <a:pt x="147" y="26"/>
                      </a:lnTo>
                      <a:lnTo>
                        <a:pt x="134" y="0"/>
                      </a:lnTo>
                      <a:lnTo>
                        <a:pt x="40" y="0"/>
                      </a:lnTo>
                      <a:lnTo>
                        <a:pt x="93" y="0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016240" y="6035040"/>
                  <a:ext cx="141120" cy="44640"/>
                </a:xfrm>
                <a:custGeom>
                  <a:avLst/>
                  <a:gdLst/>
                  <a:ahLst/>
                  <a:rect l="l" t="t" r="r" b="b"/>
                  <a:pathLst>
                    <a:path w="148" h="66">
                      <a:moveTo>
                        <a:pt x="147" y="12"/>
                      </a:moveTo>
                      <a:lnTo>
                        <a:pt x="106" y="0"/>
                      </a:lnTo>
                      <a:lnTo>
                        <a:pt x="40" y="38"/>
                      </a:lnTo>
                      <a:lnTo>
                        <a:pt x="0" y="26"/>
                      </a:lnTo>
                      <a:lnTo>
                        <a:pt x="12" y="65"/>
                      </a:lnTo>
                      <a:lnTo>
                        <a:pt x="106" y="65"/>
                      </a:lnTo>
                      <a:lnTo>
                        <a:pt x="66" y="52"/>
                      </a:lnTo>
                      <a:lnTo>
                        <a:pt x="147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5" name=""/>
          <p:cNvGrpSpPr/>
          <p:nvPr/>
        </p:nvGrpSpPr>
        <p:grpSpPr>
          <a:xfrm>
            <a:off x="4552920" y="6423120"/>
            <a:ext cx="1201680" cy="526680"/>
            <a:chOff x="4552920" y="6423120"/>
            <a:chExt cx="1201680" cy="526680"/>
          </a:xfrm>
        </p:grpSpPr>
        <p:sp>
          <p:nvSpPr>
            <p:cNvPr id="116" name=""/>
            <p:cNvSpPr/>
            <p:nvPr/>
          </p:nvSpPr>
          <p:spPr>
            <a:xfrm>
              <a:off x="4552920" y="6584400"/>
              <a:ext cx="618840" cy="287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35760" y="6572520"/>
              <a:ext cx="618840" cy="287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91520" y="6499800"/>
              <a:ext cx="24732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09000" y="6770880"/>
              <a:ext cx="246960" cy="1666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212440" y="6495480"/>
              <a:ext cx="24588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66840" y="6784200"/>
              <a:ext cx="24732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53520" y="6423120"/>
              <a:ext cx="485640" cy="299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86360" y="6645960"/>
              <a:ext cx="485640" cy="299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813560" y="6548400"/>
            <a:ext cx="805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00560" y="4511520"/>
            <a:ext cx="473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75200" y="4511520"/>
            <a:ext cx="406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98720" y="4511520"/>
            <a:ext cx="37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43440" y="4511520"/>
            <a:ext cx="2286000" cy="175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4084560" y="8551800"/>
            <a:ext cx="324000" cy="258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4540320" y="8551800"/>
            <a:ext cx="325440" cy="258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5025960" y="8551800"/>
            <a:ext cx="325440" cy="2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261760" y="7696080"/>
            <a:ext cx="409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9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网络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43920" y="8769240"/>
            <a:ext cx="8557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9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 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92600" y="823608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webramp" descr=""/>
          <p:cNvPicPr/>
          <p:nvPr/>
        </p:nvPicPr>
        <p:blipFill>
          <a:blip r:embed="rId8"/>
          <a:stretch/>
        </p:blipFill>
        <p:spPr>
          <a:xfrm>
            <a:off x="4629240" y="7559640"/>
            <a:ext cx="577800" cy="457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9"/>
          <a:stretch/>
        </p:blipFill>
        <p:spPr>
          <a:xfrm>
            <a:off x="4676760" y="7397640"/>
            <a:ext cx="182520" cy="104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0"/>
          <a:stretch/>
        </p:blipFill>
        <p:spPr>
          <a:xfrm>
            <a:off x="4886280" y="7397640"/>
            <a:ext cx="182520" cy="106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1"/>
          <a:stretch/>
        </p:blipFill>
        <p:spPr>
          <a:xfrm>
            <a:off x="5086440" y="7386480"/>
            <a:ext cx="182520" cy="1065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391000" y="8236080"/>
            <a:ext cx="365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8236080"/>
            <a:ext cx="185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823608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37200" y="823608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5486400" y="8551800"/>
            <a:ext cx="325440" cy="258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38680" y="823608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2880" y="8007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781520" y="751212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7502400"/>
            <a:ext cx="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33960" y="7502400"/>
            <a:ext cx="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49840" y="695016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0" y="288"/>
                </a:moveTo>
                <a:lnTo>
                  <a:pt x="96" y="144"/>
                </a:lnTo>
                <a:lnTo>
                  <a:pt x="0" y="192"/>
                </a:lnTo>
                <a:lnTo>
                  <a:pt x="14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21200" y="695016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0" y="288"/>
                </a:moveTo>
                <a:lnTo>
                  <a:pt x="96" y="144"/>
                </a:lnTo>
                <a:lnTo>
                  <a:pt x="0" y="192"/>
                </a:lnTo>
                <a:lnTo>
                  <a:pt x="14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30720" y="695016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0" y="288"/>
                </a:moveTo>
                <a:lnTo>
                  <a:pt x="96" y="144"/>
                </a:lnTo>
                <a:lnTo>
                  <a:pt x="0" y="192"/>
                </a:lnTo>
                <a:lnTo>
                  <a:pt x="14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43440" y="7254720"/>
            <a:ext cx="2286000" cy="175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63960" y="7245360"/>
            <a:ext cx="48564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远程办公室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3"/>
          <a:stretch/>
        </p:blipFill>
        <p:spPr>
          <a:xfrm>
            <a:off x="2624040" y="1857240"/>
            <a:ext cx="1371600" cy="8953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2362320" y="2590920"/>
            <a:ext cx="228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WeBRamp M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1028880" y="3225960"/>
            <a:ext cx="4525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网络通”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WeBRamp M3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EasyIP</a:t>
            </a:r>
            <a:r>
              <a:rPr b="1" lang="zh-CN" sz="12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COLT </a:t>
            </a:r>
            <a:r>
              <a:rPr b="1" lang="zh-CN" sz="12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技术，在普通电话线上能够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11920" y="3497400"/>
            <a:ext cx="2618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个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帐号多个用户同时使用，访问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三个串行端口连接三个调制解调器，根据负载接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S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复合使用三条拨号线路，总体带宽提高三倍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具有防火墙和身份验证功能，控制对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访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61480" y="4668840"/>
            <a:ext cx="1458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微软简魏碑"/>
              </a:rPr>
              <a:t>为什么选用“网络通”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1800" y="5105520"/>
            <a:ext cx="19674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建立广域企业网，投资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个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帐号多个用户使用，费用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复合使用三条电话提供三倍带宽，速度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按需启动拨号，消费合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集中控制用户帐号，管理简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38400" y="446868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企业总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5040" y="6629400"/>
            <a:ext cx="6685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微软简魏碑"/>
              </a:rPr>
              <a:t>建设网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7010280"/>
            <a:ext cx="3276360" cy="14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建立内部网络，并通过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接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用户集中管理，在中心服务器建立帐号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在内部网络上建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eb,FTP,DN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等服务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远程办公室申请本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帐号，接入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办公室用户通过“网络通”接受存放在企业邮件服务器上的内部电子邮件或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邮件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办公室用户通过本办公室的网络透明访问企业网络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540320" y="697392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0" y="288"/>
                </a:moveTo>
                <a:lnTo>
                  <a:pt x="96" y="144"/>
                </a:lnTo>
                <a:lnTo>
                  <a:pt x="0" y="192"/>
                </a:lnTo>
                <a:lnTo>
                  <a:pt x="14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11680" y="697392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0" y="288"/>
                </a:moveTo>
                <a:lnTo>
                  <a:pt x="96" y="144"/>
                </a:lnTo>
                <a:lnTo>
                  <a:pt x="0" y="192"/>
                </a:lnTo>
                <a:lnTo>
                  <a:pt x="14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21200" y="6973920"/>
            <a:ext cx="228600" cy="45720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0" y="288"/>
                </a:moveTo>
                <a:lnTo>
                  <a:pt x="96" y="144"/>
                </a:lnTo>
                <a:lnTo>
                  <a:pt x="0" y="192"/>
                </a:lnTo>
                <a:lnTo>
                  <a:pt x="14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95280" y="895320"/>
            <a:ext cx="43434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建立都市企业网络的最佳工具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-“</a:t>
            </a: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隶书"/>
              </a:rPr>
              <a:t>网络通”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隶书"/>
              <a:ea typeface="隶书"/>
            </a:endParaRPr>
          </a:p>
        </p:txBody>
      </p:sp>
      <p:sp>
        <p:nvSpPr>
          <p:cNvPr id="167" name=""/>
          <p:cNvSpPr/>
          <p:nvPr/>
        </p:nvSpPr>
        <p:spPr>
          <a:xfrm>
            <a:off x="3826440" y="6178680"/>
            <a:ext cx="608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企业内部网络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Intra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343400" y="6647040"/>
            <a:ext cx="1201680" cy="526680"/>
            <a:chOff x="4343400" y="6647040"/>
            <a:chExt cx="1201680" cy="526680"/>
          </a:xfrm>
        </p:grpSpPr>
        <p:sp>
          <p:nvSpPr>
            <p:cNvPr id="169" name=""/>
            <p:cNvSpPr/>
            <p:nvPr/>
          </p:nvSpPr>
          <p:spPr>
            <a:xfrm>
              <a:off x="4343400" y="6808320"/>
              <a:ext cx="618840" cy="287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26240" y="6796440"/>
              <a:ext cx="618840" cy="287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82000" y="6723720"/>
              <a:ext cx="24732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99480" y="6994800"/>
              <a:ext cx="246960" cy="1666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02920" y="6719400"/>
              <a:ext cx="24588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57320" y="7008120"/>
              <a:ext cx="24732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4000" y="6647040"/>
              <a:ext cx="485640" cy="299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76840" y="6869880"/>
              <a:ext cx="485640" cy="299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282640" y="6254640"/>
            <a:ext cx="489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访问服务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86600" y="5873760"/>
            <a:ext cx="36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防火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5340240"/>
            <a:ext cx="1828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48000" y="59500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86400" y="59500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5264280"/>
            <a:ext cx="0" cy="152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264280"/>
            <a:ext cx="0" cy="152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648320" y="5035680"/>
            <a:ext cx="533160" cy="228600"/>
            <a:chOff x="4648320" y="5035680"/>
            <a:chExt cx="533160" cy="228600"/>
          </a:xfrm>
        </p:grpSpPr>
        <p:grpSp>
          <p:nvGrpSpPr>
            <p:cNvPr id="185" name=""/>
            <p:cNvGrpSpPr/>
            <p:nvPr/>
          </p:nvGrpSpPr>
          <p:grpSpPr>
            <a:xfrm>
              <a:off x="4660560" y="5046480"/>
              <a:ext cx="520920" cy="217800"/>
              <a:chOff x="4660560" y="5046480"/>
              <a:chExt cx="520920" cy="217800"/>
            </a:xfrm>
          </p:grpSpPr>
          <p:sp>
            <p:nvSpPr>
              <p:cNvPr id="186" name=""/>
              <p:cNvSpPr/>
              <p:nvPr/>
            </p:nvSpPr>
            <p:spPr>
              <a:xfrm>
                <a:off x="4660560" y="5124600"/>
                <a:ext cx="520920" cy="63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60560" y="5135760"/>
                <a:ext cx="520920" cy="128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60560" y="5046480"/>
                <a:ext cx="520920" cy="141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648320" y="5111640"/>
              <a:ext cx="520920" cy="66600"/>
            </a:xfrm>
            <a:prstGeom prst="rect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8320" y="5111640"/>
              <a:ext cx="520920" cy="141480"/>
            </a:xfrm>
            <a:prstGeom prst="ellipse">
              <a:avLst/>
            </a:prstGeom>
            <a:solidFill>
              <a:srgbClr val="004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48320" y="5035680"/>
              <a:ext cx="520920" cy="131040"/>
            </a:xfrm>
            <a:prstGeom prst="ellipse">
              <a:avLst/>
            </a:prstGeom>
            <a:solidFill>
              <a:srgbClr val="55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4746240" y="5056560"/>
              <a:ext cx="324000" cy="99360"/>
              <a:chOff x="4746240" y="5056560"/>
              <a:chExt cx="324000" cy="9936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746240" y="5056560"/>
                <a:ext cx="324000" cy="99360"/>
                <a:chOff x="4746240" y="5056560"/>
                <a:chExt cx="324000" cy="993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746240" y="5056560"/>
                  <a:ext cx="142560" cy="36000"/>
                </a:xfrm>
                <a:custGeom>
                  <a:avLst/>
                  <a:gdLst/>
                  <a:ahLst/>
                  <a:rect l="l" t="t" r="r" b="b"/>
                  <a:pathLst>
                    <a:path w="150" h="53">
                      <a:moveTo>
                        <a:pt x="0" y="0"/>
                      </a:moveTo>
                      <a:lnTo>
                        <a:pt x="40" y="0"/>
                      </a:lnTo>
                      <a:lnTo>
                        <a:pt x="121" y="26"/>
                      </a:lnTo>
                      <a:lnTo>
                        <a:pt x="149" y="13"/>
                      </a:lnTo>
                      <a:lnTo>
                        <a:pt x="135" y="52"/>
                      </a:lnTo>
                      <a:lnTo>
                        <a:pt x="40" y="52"/>
                      </a:lnTo>
                      <a:lnTo>
                        <a:pt x="81" y="3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26960" y="5124240"/>
                  <a:ext cx="143280" cy="31680"/>
                </a:xfrm>
                <a:custGeom>
                  <a:avLst/>
                  <a:gdLst/>
                  <a:ahLst/>
                  <a:rect l="l" t="t" r="r" b="b"/>
                  <a:pathLst>
                    <a:path w="151" h="47">
                      <a:moveTo>
                        <a:pt x="150" y="34"/>
                      </a:moveTo>
                      <a:lnTo>
                        <a:pt x="121" y="46"/>
                      </a:lnTo>
                      <a:lnTo>
                        <a:pt x="41" y="23"/>
                      </a:lnTo>
                      <a:lnTo>
                        <a:pt x="0" y="34"/>
                      </a:lnTo>
                      <a:lnTo>
                        <a:pt x="13" y="0"/>
                      </a:lnTo>
                      <a:lnTo>
                        <a:pt x="121" y="0"/>
                      </a:lnTo>
                      <a:lnTo>
                        <a:pt x="82" y="11"/>
                      </a:lnTo>
                      <a:lnTo>
                        <a:pt x="15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759200" y="5056560"/>
                <a:ext cx="297000" cy="99360"/>
                <a:chOff x="4759200" y="5056560"/>
                <a:chExt cx="297000" cy="9936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915440" y="5056560"/>
                  <a:ext cx="140760" cy="36000"/>
                </a:xfrm>
                <a:custGeom>
                  <a:avLst/>
                  <a:gdLst/>
                  <a:ahLst/>
                  <a:rect l="l" t="t" r="r" b="b"/>
                  <a:pathLst>
                    <a:path w="148" h="53">
                      <a:moveTo>
                        <a:pt x="0" y="39"/>
                      </a:moveTo>
                      <a:lnTo>
                        <a:pt x="40" y="52"/>
                      </a:lnTo>
                      <a:lnTo>
                        <a:pt x="106" y="13"/>
                      </a:lnTo>
                      <a:lnTo>
                        <a:pt x="147" y="26"/>
                      </a:lnTo>
                      <a:lnTo>
                        <a:pt x="134" y="0"/>
                      </a:lnTo>
                      <a:lnTo>
                        <a:pt x="40" y="0"/>
                      </a:lnTo>
                      <a:lnTo>
                        <a:pt x="93" y="0"/>
                      </a:lnTo>
                      <a:lnTo>
                        <a:pt x="0" y="39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759200" y="5111280"/>
                  <a:ext cx="140760" cy="44640"/>
                </a:xfrm>
                <a:custGeom>
                  <a:avLst/>
                  <a:gdLst/>
                  <a:ahLst/>
                  <a:rect l="l" t="t" r="r" b="b"/>
                  <a:pathLst>
                    <a:path w="148" h="66">
                      <a:moveTo>
                        <a:pt x="147" y="12"/>
                      </a:moveTo>
                      <a:lnTo>
                        <a:pt x="106" y="0"/>
                      </a:lnTo>
                      <a:lnTo>
                        <a:pt x="40" y="38"/>
                      </a:lnTo>
                      <a:lnTo>
                        <a:pt x="0" y="26"/>
                      </a:lnTo>
                      <a:lnTo>
                        <a:pt x="12" y="65"/>
                      </a:lnTo>
                      <a:lnTo>
                        <a:pt x="106" y="65"/>
                      </a:lnTo>
                      <a:lnTo>
                        <a:pt x="66" y="52"/>
                      </a:lnTo>
                      <a:lnTo>
                        <a:pt x="147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9" name=""/>
          <p:cNvSpPr/>
          <p:nvPr/>
        </p:nvSpPr>
        <p:spPr>
          <a:xfrm>
            <a:off x="4211640" y="5356080"/>
            <a:ext cx="473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86280" y="5356080"/>
            <a:ext cx="406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509800" y="5356080"/>
            <a:ext cx="37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服务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4916520"/>
            <a:ext cx="2286000" cy="164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75040" y="8575560"/>
            <a:ext cx="324000" cy="2588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330800" y="8575560"/>
            <a:ext cx="325440" cy="258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4816440" y="8575560"/>
            <a:ext cx="325440" cy="258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052240" y="7719840"/>
            <a:ext cx="4093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9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网络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34400" y="8793000"/>
            <a:ext cx="85572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89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et 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83080" y="825984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webramp" descr=""/>
          <p:cNvPicPr/>
          <p:nvPr/>
        </p:nvPicPr>
        <p:blipFill>
          <a:blip r:embed="rId4"/>
          <a:stretch/>
        </p:blipFill>
        <p:spPr>
          <a:xfrm>
            <a:off x="4419720" y="7583400"/>
            <a:ext cx="577800" cy="457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4467240" y="7421400"/>
            <a:ext cx="182520" cy="104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4676760" y="7421400"/>
            <a:ext cx="182520" cy="106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7"/>
          <a:stretch/>
        </p:blipFill>
        <p:spPr>
          <a:xfrm>
            <a:off x="4876920" y="7410600"/>
            <a:ext cx="182520" cy="1062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181480" y="8259840"/>
            <a:ext cx="365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05280" y="8259840"/>
            <a:ext cx="185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68720" y="825984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027320" y="825984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5276880" y="8575560"/>
            <a:ext cx="325440" cy="258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429160" y="8259840"/>
            <a:ext cx="0" cy="31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743360" y="803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7535880"/>
            <a:ext cx="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43360" y="7526160"/>
            <a:ext cx="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24440" y="7526160"/>
            <a:ext cx="0" cy="76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7278840"/>
            <a:ext cx="2286000" cy="1752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1600" y="7280280"/>
            <a:ext cx="60732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本城远地办公室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9"/>
          <a:stretch/>
        </p:blipFill>
        <p:spPr>
          <a:xfrm>
            <a:off x="2624040" y="1857240"/>
            <a:ext cx="1371600" cy="895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2362320" y="2590920"/>
            <a:ext cx="228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WeBRamp M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27" name=""/>
          <p:cNvSpPr/>
          <p:nvPr/>
        </p:nvSpPr>
        <p:spPr>
          <a:xfrm>
            <a:off x="1028880" y="3225960"/>
            <a:ext cx="452556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网络通”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WeBRamp M3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EasyIP</a:t>
            </a:r>
            <a:r>
              <a:rPr b="1" lang="zh-CN" sz="12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COLT </a:t>
            </a:r>
            <a:r>
              <a:rPr b="1" lang="zh-CN" sz="1200" spc="-1" strike="noStrike">
                <a:solidFill>
                  <a:srgbClr val="000000"/>
                </a:solidFill>
                <a:latin typeface="Symbol"/>
                <a:ea typeface="Symbol"/>
              </a:rPr>
              <a:t>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技术，在普通电话线上能够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11920" y="3497400"/>
            <a:ext cx="2618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个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帐号多个用户同时使用，访问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三个串行端口连接三个调制解调器，根据负载接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S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复合使用三条拨号线路，总体带宽提高三倍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具有防火墙和身份验证功能，控制对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的访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1480" y="4668840"/>
            <a:ext cx="14580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微软简魏碑"/>
              </a:rPr>
              <a:t>为什么选用“网络通”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5094360"/>
            <a:ext cx="327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利用电话网络连接企业同城各部门，投资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需申请专用线路，费用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复合使用三条电话提供三倍带宽，速度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按需启动拨号，消费合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集中控制用户帐号，管理简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移动计算用户可直接拨号接入企业网络或部门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28880" y="4916520"/>
            <a:ext cx="42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企业总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5040" y="6629400"/>
            <a:ext cx="6685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微软简魏碑"/>
              </a:rPr>
              <a:t>建设网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7010280"/>
            <a:ext cx="3276360" cy="14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建立内部网络，提供远程拨号访问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用户集中管理，在中心服务器建立帐号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企业在内部网络上建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eb,FTP,DNS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等服务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远程办公室利用电话线，接入企业内部网络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办公室用户通过“网络通”接受存放在企业邮件服务器上的内部电子邮件或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邮件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办公室用户通过本办公室的网络透明访问企业网络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24280" y="6330960"/>
            <a:ext cx="457200" cy="158400"/>
            <a:chOff x="4724280" y="6330960"/>
            <a:chExt cx="457200" cy="158400"/>
          </a:xfrm>
        </p:grpSpPr>
        <p:sp>
          <p:nvSpPr>
            <p:cNvPr id="235" name=""/>
            <p:cNvSpPr/>
            <p:nvPr/>
          </p:nvSpPr>
          <p:spPr>
            <a:xfrm>
              <a:off x="4725360" y="6352560"/>
              <a:ext cx="454320" cy="1306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92920" y="6438240"/>
              <a:ext cx="2880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02920" y="6364440"/>
              <a:ext cx="19080" cy="72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8" name="" descr=""/>
            <p:cNvPicPr/>
            <p:nvPr/>
          </p:nvPicPr>
          <p:blipFill>
            <a:blip r:embed="rId10"/>
            <a:stretch/>
          </p:blipFill>
          <p:spPr>
            <a:xfrm>
              <a:off x="5049000" y="6360840"/>
              <a:ext cx="102240" cy="1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" descr=""/>
            <p:cNvPicPr/>
            <p:nvPr/>
          </p:nvPicPr>
          <p:blipFill>
            <a:blip r:embed="rId11"/>
            <a:stretch/>
          </p:blipFill>
          <p:spPr>
            <a:xfrm>
              <a:off x="4745520" y="6358320"/>
              <a:ext cx="80640" cy="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724280" y="638460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75040" y="6330960"/>
              <a:ext cx="183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75040" y="6337080"/>
              <a:ext cx="183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83680" y="6438240"/>
              <a:ext cx="2808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72600" y="6391440"/>
              <a:ext cx="2988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26520" y="6391440"/>
              <a:ext cx="2988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83680" y="6391440"/>
              <a:ext cx="2808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26520" y="6438240"/>
              <a:ext cx="2988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72600" y="6438240"/>
              <a:ext cx="2988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916880" y="6438240"/>
              <a:ext cx="2844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59720" y="6438240"/>
              <a:ext cx="2844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02920" y="6438240"/>
              <a:ext cx="3204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49000" y="6438240"/>
              <a:ext cx="2952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16880" y="6391440"/>
              <a:ext cx="2844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59720" y="6391440"/>
              <a:ext cx="2844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2920" y="6391440"/>
              <a:ext cx="3204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49000" y="6391440"/>
              <a:ext cx="2952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92920" y="6391440"/>
              <a:ext cx="28800" cy="39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51600" y="6405120"/>
              <a:ext cx="1872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39400" y="6405120"/>
              <a:ext cx="1944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4648320" y="6483240"/>
            <a:ext cx="228600" cy="30492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144" y="0"/>
                </a:moveTo>
                <a:lnTo>
                  <a:pt x="48" y="96"/>
                </a:lnTo>
                <a:lnTo>
                  <a:pt x="96" y="96"/>
                </a:lnTo>
                <a:lnTo>
                  <a:pt x="0" y="19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29200" y="6483240"/>
            <a:ext cx="152280" cy="304920"/>
          </a:xfrm>
          <a:custGeom>
            <a:avLst/>
            <a:gdLst/>
            <a:ahLst/>
            <a:rect l="l" t="t" r="r" b="b"/>
            <a:pathLst>
              <a:path w="96" h="192">
                <a:moveTo>
                  <a:pt x="0" y="0"/>
                </a:moveTo>
                <a:lnTo>
                  <a:pt x="96" y="96"/>
                </a:lnTo>
                <a:lnTo>
                  <a:pt x="0" y="96"/>
                </a:lnTo>
                <a:lnTo>
                  <a:pt x="96" y="192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6178680"/>
            <a:ext cx="17528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480" y="6102360"/>
            <a:ext cx="0" cy="152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1320" y="6102360"/>
            <a:ext cx="0" cy="152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59500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2"/>
          <a:stretch/>
        </p:blipFill>
        <p:spPr>
          <a:xfrm>
            <a:off x="4038480" y="5645160"/>
            <a:ext cx="408240" cy="422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13"/>
          <a:stretch/>
        </p:blipFill>
        <p:spPr>
          <a:xfrm>
            <a:off x="4697280" y="5645160"/>
            <a:ext cx="408240" cy="4222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4"/>
          <a:stretch/>
        </p:blipFill>
        <p:spPr>
          <a:xfrm>
            <a:off x="5307120" y="5645160"/>
            <a:ext cx="407880" cy="422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318280" y="5035680"/>
            <a:ext cx="367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路由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4952880" y="6178320"/>
            <a:ext cx="0" cy="152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952880" y="5263920"/>
            <a:ext cx="0" cy="75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229280" y="5339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886280" y="5339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486400" y="5339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06200" y="6756480"/>
            <a:ext cx="637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公共电话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876920" y="4764240"/>
            <a:ext cx="0" cy="304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267080" y="4383000"/>
            <a:ext cx="1201680" cy="526680"/>
            <a:chOff x="4267080" y="4383000"/>
            <a:chExt cx="1201680" cy="526680"/>
          </a:xfrm>
        </p:grpSpPr>
        <p:sp>
          <p:nvSpPr>
            <p:cNvPr id="278" name=""/>
            <p:cNvSpPr/>
            <p:nvPr/>
          </p:nvSpPr>
          <p:spPr>
            <a:xfrm>
              <a:off x="4267080" y="4544280"/>
              <a:ext cx="618840" cy="28764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49920" y="4532400"/>
              <a:ext cx="618840" cy="2872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05680" y="4459680"/>
              <a:ext cx="24732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23160" y="4730760"/>
              <a:ext cx="246960" cy="1666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26600" y="4455360"/>
              <a:ext cx="24588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81000" y="4744080"/>
              <a:ext cx="247320" cy="16560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67680" y="4383000"/>
              <a:ext cx="485640" cy="299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00520" y="4605840"/>
              <a:ext cx="485640" cy="299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399200" y="4529160"/>
            <a:ext cx="8056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1254240" cy="819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20348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83960" y="2422440"/>
            <a:ext cx="281088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最省钱，最快捷，最省事，全公司接入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网络通” 能为您的公司顺利接入网络做到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2133720" y="990720"/>
            <a:ext cx="2439720" cy="29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7879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微软简行楷"/>
              </a:rPr>
              <a:t>网 络 通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微软简行楷"/>
              <a:ea typeface="微软简行楷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405160" y="1952640"/>
            <a:ext cx="20905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WeBRamp M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990720" y="3828960"/>
            <a:ext cx="1752480" cy="14288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3962520" y="5181480"/>
            <a:ext cx="2057400" cy="19242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533520" y="7095960"/>
            <a:ext cx="1981080" cy="19386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429000" y="6095880"/>
            <a:ext cx="0" cy="2819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5640" y="3733920"/>
            <a:ext cx="6073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小型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3800" y="4005360"/>
            <a:ext cx="19224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使用一个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帐号让全公司职员访问国际网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个公司职员可使用个人的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信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动态启动拨号连接，按需求提供合理带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网络访问权限设定，控制使用权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外出人员接入公司网络，传递数据资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560" y="5189400"/>
            <a:ext cx="1637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透过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建立企业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5419800"/>
            <a:ext cx="29718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远程异地的分支机构以网络形式接入当地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ISP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访问企业内部网络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个公司成员可透明地存取企业内部网络的数据资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公司成员的帐号管理统一由企业内部网络管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个远程分支机构具有独立国际网络访问权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7259760"/>
            <a:ext cx="297180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城远地的分支机构以网络拨号形式接入企业内部网络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每个公司成员可透明地存取企业内部网络的数据资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公司成员的帐号管理统一由企业内部网络管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按需求接通企业内部网络，合理分配带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83200" y="8751960"/>
            <a:ext cx="11408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拨号环境下的企业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542240" y="2867040"/>
            <a:ext cx="3272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拥有一个 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SP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帐号，可让全公司同时访问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Interne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：省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个人拥有私人帐号，在公司网络上可直接接收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mail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：省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同时复合使用三条电话线，公司网络提高带宽三倍：快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设置方便，维护简单，升级容易，投资少，收益大：便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9T07:21:18Z</dcterms:created>
  <dc:creator>user</dc:creator>
  <dc:description/>
  <dc:language>en-US</dc:language>
  <cp:lastModifiedBy>user</cp:lastModifiedBy>
  <dcterms:modified xsi:type="dcterms:W3CDTF">1998-12-11T02:08:38Z</dcterms:modified>
  <cp:revision>2</cp:revision>
  <dc:subject/>
  <dc:title>没有幻灯片标题</dc:title>
</cp:coreProperties>
</file>