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3.wmf" ContentType="image/x-wmf"/>
  <Override PartName="/ppt/media/image25.jpeg" ContentType="image/jpeg"/>
  <Override PartName="/ppt/media/image22.wmf" ContentType="image/x-wmf"/>
  <Override PartName="/ppt/media/image19.png" ContentType="image/png"/>
  <Override PartName="/ppt/media/image1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2.wmf" ContentType="image/x-wmf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E51-6749-46AD-905C-E518C28660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67F5-3B44-4284-BFBC-6F8EB34F24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213-DB30-43D4-9BEA-264AC3BC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63A-B87F-4E29-B080-AD3292F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354-1774-4D30-9D06-3CE34A81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6B5-3C39-46C8-8328-6C163D07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619-CB1E-4411-93C0-0A624AF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C24-9122-491A-81B0-B34D302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929-0275-474A-8545-12B6C74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4B6-F6F9-4C57-9731-CCFC1A6D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597-D074-49A8-990C-9855985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0B8-3E73-4595-80BF-ED9A048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61-A91E-49F6-AA2B-6E06D93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7DB-D410-47A3-9655-F233564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3B8A-1A35-4D92-A013-9EE1EC3B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8.wmf"/><Relationship Id="rId6" Type="http://schemas.openxmlformats.org/officeDocument/2006/relationships/hyperlink" Target="file:///tmp/home/.config/libreoffice/4/user/gallery/LASER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EADBEN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9246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38080" y="396252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美天科技企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九九八年十二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8800" y="2362320"/>
            <a:ext cx="27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——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CA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系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57200" y="304920"/>
            <a:ext cx="868680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 -----Interne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子邮件服务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334120" y="1219320"/>
            <a:ext cx="2151000" cy="1160280"/>
            <a:chOff x="5334120" y="1219320"/>
            <a:chExt cx="2151000" cy="1160280"/>
          </a:xfrm>
        </p:grpSpPr>
        <p:sp>
          <p:nvSpPr>
            <p:cNvPr id="780" name=""/>
            <p:cNvSpPr/>
            <p:nvPr/>
          </p:nvSpPr>
          <p:spPr>
            <a:xfrm>
              <a:off x="5334120" y="1219320"/>
              <a:ext cx="2151000" cy="116028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79440" y="163008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2" name="CA300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1295280" cy="8967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86600" y="2438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87840" y="480204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335560" y="327780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213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35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33720" y="343044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59040" y="4419720"/>
            <a:ext cx="98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30720" y="3760920"/>
            <a:ext cx="2151000" cy="1160280"/>
          </a:xfrm>
          <a:custGeom>
            <a:avLst/>
            <a:gdLst/>
            <a:ahLst/>
            <a:rect l="l" t="t" r="r" b="b"/>
            <a:pathLst>
              <a:path w="1355" h="731">
                <a:moveTo>
                  <a:pt x="215" y="172"/>
                </a:moveTo>
                <a:lnTo>
                  <a:pt x="226" y="152"/>
                </a:lnTo>
                <a:lnTo>
                  <a:pt x="243" y="132"/>
                </a:lnTo>
                <a:lnTo>
                  <a:pt x="270" y="115"/>
                </a:lnTo>
                <a:lnTo>
                  <a:pt x="304" y="103"/>
                </a:lnTo>
                <a:lnTo>
                  <a:pt x="332" y="96"/>
                </a:lnTo>
                <a:lnTo>
                  <a:pt x="366" y="88"/>
                </a:lnTo>
                <a:lnTo>
                  <a:pt x="419" y="84"/>
                </a:lnTo>
                <a:lnTo>
                  <a:pt x="470" y="88"/>
                </a:lnTo>
                <a:lnTo>
                  <a:pt x="517" y="96"/>
                </a:lnTo>
                <a:lnTo>
                  <a:pt x="551" y="106"/>
                </a:lnTo>
                <a:lnTo>
                  <a:pt x="571" y="73"/>
                </a:lnTo>
                <a:lnTo>
                  <a:pt x="598" y="47"/>
                </a:lnTo>
                <a:lnTo>
                  <a:pt x="634" y="26"/>
                </a:lnTo>
                <a:lnTo>
                  <a:pt x="681" y="11"/>
                </a:lnTo>
                <a:lnTo>
                  <a:pt x="739" y="1"/>
                </a:lnTo>
                <a:lnTo>
                  <a:pt x="795" y="0"/>
                </a:lnTo>
                <a:lnTo>
                  <a:pt x="846" y="5"/>
                </a:lnTo>
                <a:lnTo>
                  <a:pt x="902" y="18"/>
                </a:lnTo>
                <a:lnTo>
                  <a:pt x="945" y="41"/>
                </a:lnTo>
                <a:lnTo>
                  <a:pt x="976" y="63"/>
                </a:lnTo>
                <a:lnTo>
                  <a:pt x="996" y="85"/>
                </a:lnTo>
                <a:lnTo>
                  <a:pt x="1000" y="113"/>
                </a:lnTo>
                <a:lnTo>
                  <a:pt x="1040" y="104"/>
                </a:lnTo>
                <a:lnTo>
                  <a:pt x="1087" y="107"/>
                </a:lnTo>
                <a:lnTo>
                  <a:pt x="1126" y="115"/>
                </a:lnTo>
                <a:lnTo>
                  <a:pt x="1159" y="135"/>
                </a:lnTo>
                <a:lnTo>
                  <a:pt x="1183" y="161"/>
                </a:lnTo>
                <a:lnTo>
                  <a:pt x="1193" y="188"/>
                </a:lnTo>
                <a:lnTo>
                  <a:pt x="1192" y="209"/>
                </a:lnTo>
                <a:lnTo>
                  <a:pt x="1214" y="208"/>
                </a:lnTo>
                <a:lnTo>
                  <a:pt x="1242" y="213"/>
                </a:lnTo>
                <a:lnTo>
                  <a:pt x="1270" y="222"/>
                </a:lnTo>
                <a:lnTo>
                  <a:pt x="1293" y="234"/>
                </a:lnTo>
                <a:lnTo>
                  <a:pt x="1308" y="243"/>
                </a:lnTo>
                <a:lnTo>
                  <a:pt x="1321" y="256"/>
                </a:lnTo>
                <a:lnTo>
                  <a:pt x="1336" y="272"/>
                </a:lnTo>
                <a:lnTo>
                  <a:pt x="1344" y="292"/>
                </a:lnTo>
                <a:lnTo>
                  <a:pt x="1346" y="307"/>
                </a:lnTo>
                <a:lnTo>
                  <a:pt x="1342" y="322"/>
                </a:lnTo>
                <a:lnTo>
                  <a:pt x="1332" y="341"/>
                </a:lnTo>
                <a:lnTo>
                  <a:pt x="1344" y="362"/>
                </a:lnTo>
                <a:lnTo>
                  <a:pt x="1349" y="381"/>
                </a:lnTo>
                <a:lnTo>
                  <a:pt x="1352" y="402"/>
                </a:lnTo>
                <a:lnTo>
                  <a:pt x="1346" y="426"/>
                </a:lnTo>
                <a:lnTo>
                  <a:pt x="1341" y="441"/>
                </a:lnTo>
                <a:lnTo>
                  <a:pt x="1325" y="458"/>
                </a:lnTo>
                <a:lnTo>
                  <a:pt x="1346" y="483"/>
                </a:lnTo>
                <a:lnTo>
                  <a:pt x="1352" y="499"/>
                </a:lnTo>
                <a:lnTo>
                  <a:pt x="1354" y="521"/>
                </a:lnTo>
                <a:lnTo>
                  <a:pt x="1349" y="543"/>
                </a:lnTo>
                <a:lnTo>
                  <a:pt x="1337" y="568"/>
                </a:lnTo>
                <a:lnTo>
                  <a:pt x="1321" y="587"/>
                </a:lnTo>
                <a:lnTo>
                  <a:pt x="1297" y="603"/>
                </a:lnTo>
                <a:lnTo>
                  <a:pt x="1258" y="621"/>
                </a:lnTo>
                <a:lnTo>
                  <a:pt x="1214" y="626"/>
                </a:lnTo>
                <a:lnTo>
                  <a:pt x="1176" y="621"/>
                </a:lnTo>
                <a:lnTo>
                  <a:pt x="1150" y="612"/>
                </a:lnTo>
                <a:lnTo>
                  <a:pt x="1133" y="630"/>
                </a:lnTo>
                <a:lnTo>
                  <a:pt x="1114" y="644"/>
                </a:lnTo>
                <a:lnTo>
                  <a:pt x="1098" y="653"/>
                </a:lnTo>
                <a:lnTo>
                  <a:pt x="1067" y="665"/>
                </a:lnTo>
                <a:lnTo>
                  <a:pt x="1040" y="673"/>
                </a:lnTo>
                <a:lnTo>
                  <a:pt x="1000" y="679"/>
                </a:lnTo>
                <a:lnTo>
                  <a:pt x="961" y="677"/>
                </a:lnTo>
                <a:lnTo>
                  <a:pt x="922" y="669"/>
                </a:lnTo>
                <a:lnTo>
                  <a:pt x="889" y="655"/>
                </a:lnTo>
                <a:lnTo>
                  <a:pt x="868" y="680"/>
                </a:lnTo>
                <a:lnTo>
                  <a:pt x="850" y="694"/>
                </a:lnTo>
                <a:lnTo>
                  <a:pt x="826" y="705"/>
                </a:lnTo>
                <a:lnTo>
                  <a:pt x="797" y="714"/>
                </a:lnTo>
                <a:lnTo>
                  <a:pt x="766" y="719"/>
                </a:lnTo>
                <a:lnTo>
                  <a:pt x="736" y="719"/>
                </a:lnTo>
                <a:lnTo>
                  <a:pt x="708" y="714"/>
                </a:lnTo>
                <a:lnTo>
                  <a:pt x="673" y="702"/>
                </a:lnTo>
                <a:lnTo>
                  <a:pt x="653" y="690"/>
                </a:lnTo>
                <a:lnTo>
                  <a:pt x="634" y="705"/>
                </a:lnTo>
                <a:lnTo>
                  <a:pt x="614" y="714"/>
                </a:lnTo>
                <a:lnTo>
                  <a:pt x="590" y="723"/>
                </a:lnTo>
                <a:lnTo>
                  <a:pt x="556" y="730"/>
                </a:lnTo>
                <a:lnTo>
                  <a:pt x="519" y="727"/>
                </a:lnTo>
                <a:lnTo>
                  <a:pt x="481" y="720"/>
                </a:lnTo>
                <a:lnTo>
                  <a:pt x="453" y="709"/>
                </a:lnTo>
                <a:lnTo>
                  <a:pt x="426" y="689"/>
                </a:lnTo>
                <a:lnTo>
                  <a:pt x="410" y="669"/>
                </a:lnTo>
                <a:lnTo>
                  <a:pt x="382" y="676"/>
                </a:lnTo>
                <a:lnTo>
                  <a:pt x="350" y="681"/>
                </a:lnTo>
                <a:lnTo>
                  <a:pt x="311" y="680"/>
                </a:lnTo>
                <a:lnTo>
                  <a:pt x="278" y="670"/>
                </a:lnTo>
                <a:lnTo>
                  <a:pt x="253" y="658"/>
                </a:lnTo>
                <a:lnTo>
                  <a:pt x="231" y="644"/>
                </a:lnTo>
                <a:lnTo>
                  <a:pt x="214" y="624"/>
                </a:lnTo>
                <a:lnTo>
                  <a:pt x="210" y="603"/>
                </a:lnTo>
                <a:lnTo>
                  <a:pt x="191" y="608"/>
                </a:lnTo>
                <a:lnTo>
                  <a:pt x="160" y="609"/>
                </a:lnTo>
                <a:lnTo>
                  <a:pt x="126" y="603"/>
                </a:lnTo>
                <a:lnTo>
                  <a:pt x="90" y="589"/>
                </a:lnTo>
                <a:lnTo>
                  <a:pt x="66" y="571"/>
                </a:lnTo>
                <a:lnTo>
                  <a:pt x="46" y="546"/>
                </a:lnTo>
                <a:lnTo>
                  <a:pt x="34" y="521"/>
                </a:lnTo>
                <a:lnTo>
                  <a:pt x="31" y="487"/>
                </a:lnTo>
                <a:lnTo>
                  <a:pt x="32" y="463"/>
                </a:lnTo>
                <a:lnTo>
                  <a:pt x="43" y="428"/>
                </a:lnTo>
                <a:lnTo>
                  <a:pt x="18" y="409"/>
                </a:lnTo>
                <a:lnTo>
                  <a:pt x="6" y="383"/>
                </a:lnTo>
                <a:lnTo>
                  <a:pt x="0" y="355"/>
                </a:lnTo>
                <a:lnTo>
                  <a:pt x="0" y="327"/>
                </a:lnTo>
                <a:lnTo>
                  <a:pt x="7" y="296"/>
                </a:lnTo>
                <a:lnTo>
                  <a:pt x="23" y="274"/>
                </a:lnTo>
                <a:lnTo>
                  <a:pt x="50" y="249"/>
                </a:lnTo>
                <a:lnTo>
                  <a:pt x="78" y="230"/>
                </a:lnTo>
                <a:lnTo>
                  <a:pt x="112" y="213"/>
                </a:lnTo>
                <a:lnTo>
                  <a:pt x="155" y="201"/>
                </a:lnTo>
                <a:lnTo>
                  <a:pt x="195" y="194"/>
                </a:lnTo>
                <a:lnTo>
                  <a:pt x="214" y="191"/>
                </a:lnTo>
                <a:lnTo>
                  <a:pt x="215" y="172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694560" y="4029120"/>
            <a:ext cx="565200" cy="558720"/>
            <a:chOff x="6694560" y="4029120"/>
            <a:chExt cx="565200" cy="558720"/>
          </a:xfrm>
        </p:grpSpPr>
        <p:sp>
          <p:nvSpPr>
            <p:cNvPr id="794" name=""/>
            <p:cNvSpPr/>
            <p:nvPr/>
          </p:nvSpPr>
          <p:spPr>
            <a:xfrm>
              <a:off x="6886440" y="4405320"/>
              <a:ext cx="274680" cy="6516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40"/>
                  </a:moveTo>
                  <a:lnTo>
                    <a:pt x="130" y="40"/>
                  </a:lnTo>
                  <a:lnTo>
                    <a:pt x="172" y="0"/>
                  </a:lnTo>
                  <a:lnTo>
                    <a:pt x="40" y="0"/>
                  </a:lnTo>
                  <a:lnTo>
                    <a:pt x="0" y="4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66000" y="4417920"/>
              <a:ext cx="98280" cy="334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20"/>
                  </a:moveTo>
                  <a:lnTo>
                    <a:pt x="61" y="2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91280" y="4400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1"/>
                  </a:moveTo>
                  <a:lnTo>
                    <a:pt x="44" y="0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55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6440" y="4471920"/>
              <a:ext cx="20664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66000" y="4408560"/>
              <a:ext cx="141120" cy="4428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0" y="7"/>
                  </a:lnTo>
                  <a:lnTo>
                    <a:pt x="62" y="7"/>
                  </a:lnTo>
                  <a:lnTo>
                    <a:pt x="62" y="27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08680" y="4075200"/>
              <a:ext cx="403200" cy="33660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83440" y="450540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0" y="50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17"/>
                  </a:lnTo>
                  <a:lnTo>
                    <a:pt x="0" y="5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13680" y="4029120"/>
              <a:ext cx="46080" cy="384120"/>
            </a:xfrm>
            <a:custGeom>
              <a:avLst/>
              <a:gdLst/>
              <a:ahLst/>
              <a:rect l="l" t="t" r="r" b="b"/>
              <a:pathLst>
                <a:path w="29" h="242">
                  <a:moveTo>
                    <a:pt x="0" y="29"/>
                  </a:moveTo>
                  <a:lnTo>
                    <a:pt x="28" y="0"/>
                  </a:lnTo>
                  <a:lnTo>
                    <a:pt x="28" y="212"/>
                  </a:lnTo>
                  <a:lnTo>
                    <a:pt x="0" y="241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05440" y="4030560"/>
              <a:ext cx="451080" cy="4464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27"/>
                  </a:moveTo>
                  <a:lnTo>
                    <a:pt x="28" y="0"/>
                  </a:lnTo>
                  <a:lnTo>
                    <a:pt x="283" y="0"/>
                  </a:lnTo>
                  <a:lnTo>
                    <a:pt x="254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48640" y="4116240"/>
              <a:ext cx="325440" cy="243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204" y="152"/>
                  </a:moveTo>
                  <a:lnTo>
                    <a:pt x="0" y="152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52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48640" y="4116240"/>
              <a:ext cx="323640" cy="243000"/>
            </a:xfrm>
            <a:custGeom>
              <a:avLst/>
              <a:gdLst/>
              <a:ahLst/>
              <a:rect l="l" t="t" r="r" b="b"/>
              <a:pathLst>
                <a:path w="204" h="153">
                  <a:moveTo>
                    <a:pt x="203" y="0"/>
                  </a:moveTo>
                  <a:lnTo>
                    <a:pt x="0" y="0"/>
                  </a:lnTo>
                  <a:lnTo>
                    <a:pt x="0" y="152"/>
                  </a:lnTo>
                  <a:lnTo>
                    <a:pt x="48" y="103"/>
                  </a:lnTo>
                  <a:lnTo>
                    <a:pt x="148" y="53"/>
                  </a:lnTo>
                  <a:lnTo>
                    <a:pt x="203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96000" y="4556160"/>
              <a:ext cx="488880" cy="31680"/>
            </a:xfrm>
            <a:custGeom>
              <a:avLst/>
              <a:gdLst/>
              <a:ahLst/>
              <a:rect l="l" t="t" r="r" b="b"/>
              <a:pathLst>
                <a:path w="308" h="20">
                  <a:moveTo>
                    <a:pt x="307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7" y="19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94560" y="4505400"/>
              <a:ext cx="547560" cy="52200"/>
            </a:xfrm>
            <a:custGeom>
              <a:avLst/>
              <a:gdLst/>
              <a:ahLst/>
              <a:rect l="l" t="t" r="r" b="b"/>
              <a:pathLst>
                <a:path w="345" h="33">
                  <a:moveTo>
                    <a:pt x="344" y="0"/>
                  </a:moveTo>
                  <a:lnTo>
                    <a:pt x="311" y="32"/>
                  </a:lnTo>
                  <a:lnTo>
                    <a:pt x="0" y="32"/>
                  </a:lnTo>
                  <a:lnTo>
                    <a:pt x="33" y="0"/>
                  </a:lnTo>
                  <a:lnTo>
                    <a:pt x="34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6730920" y="4514760"/>
              <a:ext cx="474840" cy="33480"/>
              <a:chOff x="6730920" y="4514760"/>
              <a:chExt cx="474840" cy="33480"/>
            </a:xfrm>
          </p:grpSpPr>
          <p:sp>
            <p:nvSpPr>
              <p:cNvPr id="808" name=""/>
              <p:cNvSpPr/>
              <p:nvPr/>
            </p:nvSpPr>
            <p:spPr>
              <a:xfrm>
                <a:off x="6761160" y="45147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750000" y="45291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40640" y="45385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730920" y="4548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6864480" y="4127400"/>
              <a:ext cx="29340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84" y="139"/>
                  </a:moveTo>
                  <a:lnTo>
                    <a:pt x="0" y="139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9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3763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5657760" y="2886120"/>
            <a:ext cx="532080" cy="555480"/>
            <a:chOff x="5657760" y="2886120"/>
            <a:chExt cx="532080" cy="555480"/>
          </a:xfrm>
        </p:grpSpPr>
        <p:sp>
          <p:nvSpPr>
            <p:cNvPr id="814" name=""/>
            <p:cNvSpPr/>
            <p:nvPr/>
          </p:nvSpPr>
          <p:spPr>
            <a:xfrm>
              <a:off x="5819760" y="3260880"/>
              <a:ext cx="27000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41"/>
                  </a:moveTo>
                  <a:lnTo>
                    <a:pt x="127" y="41"/>
                  </a:lnTo>
                  <a:lnTo>
                    <a:pt x="169" y="0"/>
                  </a:lnTo>
                  <a:lnTo>
                    <a:pt x="40" y="0"/>
                  </a:lnTo>
                  <a:lnTo>
                    <a:pt x="0" y="4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99320" y="3274920"/>
              <a:ext cx="96840" cy="3348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20"/>
                  </a:moveTo>
                  <a:lnTo>
                    <a:pt x="60" y="2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24600" y="3257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"/>
                  </a:moveTo>
                  <a:lnTo>
                    <a:pt x="43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54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19760" y="3325680"/>
              <a:ext cx="20628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99320" y="3263760"/>
              <a:ext cx="137880" cy="446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0"/>
                  </a:moveTo>
                  <a:lnTo>
                    <a:pt x="0" y="7"/>
                  </a:lnTo>
                  <a:lnTo>
                    <a:pt x="60" y="7"/>
                  </a:lnTo>
                  <a:lnTo>
                    <a:pt x="60" y="27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14960" y="3362400"/>
              <a:ext cx="5580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49"/>
                  </a:moveTo>
                  <a:lnTo>
                    <a:pt x="0" y="32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0" y="4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43760" y="2886120"/>
              <a:ext cx="46080" cy="380880"/>
            </a:xfrm>
            <a:custGeom>
              <a:avLst/>
              <a:gdLst/>
              <a:ahLst/>
              <a:rect l="l" t="t" r="r" b="b"/>
              <a:pathLst>
                <a:path w="29" h="240">
                  <a:moveTo>
                    <a:pt x="0" y="29"/>
                  </a:moveTo>
                  <a:lnTo>
                    <a:pt x="28" y="0"/>
                  </a:lnTo>
                  <a:lnTo>
                    <a:pt x="28" y="210"/>
                  </a:lnTo>
                  <a:lnTo>
                    <a:pt x="0" y="239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42000" y="2887560"/>
              <a:ext cx="446040" cy="44640"/>
            </a:xfrm>
            <a:custGeom>
              <a:avLst/>
              <a:gdLst/>
              <a:ahLst/>
              <a:rect l="l" t="t" r="r" b="b"/>
              <a:pathLst>
                <a:path w="281" h="28">
                  <a:moveTo>
                    <a:pt x="0" y="27"/>
                  </a:moveTo>
                  <a:lnTo>
                    <a:pt x="28" y="0"/>
                  </a:lnTo>
                  <a:lnTo>
                    <a:pt x="280" y="0"/>
                  </a:lnTo>
                  <a:lnTo>
                    <a:pt x="252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657760" y="3370320"/>
              <a:ext cx="476280" cy="34920"/>
              <a:chOff x="5657760" y="3370320"/>
              <a:chExt cx="476280" cy="34920"/>
            </a:xfrm>
          </p:grpSpPr>
          <p:sp>
            <p:nvSpPr>
              <p:cNvPr id="823" name=""/>
              <p:cNvSpPr/>
              <p:nvPr/>
            </p:nvSpPr>
            <p:spPr>
              <a:xfrm>
                <a:off x="5692680" y="33703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683320" y="338148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672160" y="3394080"/>
                <a:ext cx="4428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657760" y="3405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742000" y="2930400"/>
              <a:ext cx="401760" cy="33516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153"/>
                  </a:moveTo>
                  <a:lnTo>
                    <a:pt x="0" y="153"/>
                  </a:lnTo>
                  <a:lnTo>
                    <a:pt x="0" y="0"/>
                  </a:lnTo>
                  <a:lnTo>
                    <a:pt x="200" y="0"/>
                  </a:lnTo>
                  <a:lnTo>
                    <a:pt x="200" y="153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8" y="104"/>
                  </a:lnTo>
                  <a:lnTo>
                    <a:pt x="146" y="54"/>
                  </a:lnTo>
                  <a:lnTo>
                    <a:pt x="20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92760" y="298620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8d8db1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931000" y="5324400"/>
            <a:ext cx="563400" cy="557280"/>
            <a:chOff x="5931000" y="5324400"/>
            <a:chExt cx="563400" cy="557280"/>
          </a:xfrm>
        </p:grpSpPr>
        <p:grpSp>
          <p:nvGrpSpPr>
            <p:cNvPr id="832" name=""/>
            <p:cNvGrpSpPr/>
            <p:nvPr/>
          </p:nvGrpSpPr>
          <p:grpSpPr>
            <a:xfrm>
              <a:off x="5931000" y="5324400"/>
              <a:ext cx="563400" cy="557280"/>
              <a:chOff x="5931000" y="5324400"/>
              <a:chExt cx="563400" cy="557280"/>
            </a:xfrm>
          </p:grpSpPr>
          <p:sp>
            <p:nvSpPr>
              <p:cNvPr id="833" name=""/>
              <p:cNvSpPr/>
              <p:nvPr/>
            </p:nvSpPr>
            <p:spPr>
              <a:xfrm>
                <a:off x="6124680" y="569916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03880" y="571356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29520" y="569592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24680" y="576432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203880" y="570240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419880" y="580068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448320" y="532440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46920" y="532620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32440" y="585144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931000" y="580068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5962680" y="5808600"/>
                <a:ext cx="476280" cy="34920"/>
                <a:chOff x="5962680" y="5808600"/>
                <a:chExt cx="476280" cy="349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5997600" y="5808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987880" y="581976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977080" y="583236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962680" y="584352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>
                <a:off x="6046920" y="536904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6097680" y="542448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af001b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258920" y="3608280"/>
            <a:ext cx="2628720" cy="1498680"/>
          </a:xfrm>
          <a:custGeom>
            <a:avLst/>
            <a:gdLst/>
            <a:ahLst/>
            <a:rect l="l" t="t" r="r" b="b"/>
            <a:pathLst>
              <a:path w="1656" h="944">
                <a:moveTo>
                  <a:pt x="263" y="223"/>
                </a:moveTo>
                <a:lnTo>
                  <a:pt x="276" y="197"/>
                </a:lnTo>
                <a:lnTo>
                  <a:pt x="297" y="170"/>
                </a:lnTo>
                <a:lnTo>
                  <a:pt x="330" y="149"/>
                </a:lnTo>
                <a:lnTo>
                  <a:pt x="371" y="133"/>
                </a:lnTo>
                <a:lnTo>
                  <a:pt x="405" y="124"/>
                </a:lnTo>
                <a:lnTo>
                  <a:pt x="448" y="113"/>
                </a:lnTo>
                <a:lnTo>
                  <a:pt x="512" y="109"/>
                </a:lnTo>
                <a:lnTo>
                  <a:pt x="574" y="113"/>
                </a:lnTo>
                <a:lnTo>
                  <a:pt x="632" y="124"/>
                </a:lnTo>
                <a:lnTo>
                  <a:pt x="674" y="137"/>
                </a:lnTo>
                <a:lnTo>
                  <a:pt x="698" y="94"/>
                </a:lnTo>
                <a:lnTo>
                  <a:pt x="731" y="61"/>
                </a:lnTo>
                <a:lnTo>
                  <a:pt x="776" y="34"/>
                </a:lnTo>
                <a:lnTo>
                  <a:pt x="832" y="14"/>
                </a:lnTo>
                <a:lnTo>
                  <a:pt x="903" y="1"/>
                </a:lnTo>
                <a:lnTo>
                  <a:pt x="972" y="0"/>
                </a:lnTo>
                <a:lnTo>
                  <a:pt x="1034" y="7"/>
                </a:lnTo>
                <a:lnTo>
                  <a:pt x="1102" y="23"/>
                </a:lnTo>
                <a:lnTo>
                  <a:pt x="1155" y="53"/>
                </a:lnTo>
                <a:lnTo>
                  <a:pt x="1193" y="82"/>
                </a:lnTo>
                <a:lnTo>
                  <a:pt x="1217" y="110"/>
                </a:lnTo>
                <a:lnTo>
                  <a:pt x="1222" y="146"/>
                </a:lnTo>
                <a:lnTo>
                  <a:pt x="1271" y="134"/>
                </a:lnTo>
                <a:lnTo>
                  <a:pt x="1329" y="139"/>
                </a:lnTo>
                <a:lnTo>
                  <a:pt x="1376" y="149"/>
                </a:lnTo>
                <a:lnTo>
                  <a:pt x="1417" y="175"/>
                </a:lnTo>
                <a:lnTo>
                  <a:pt x="1446" y="208"/>
                </a:lnTo>
                <a:lnTo>
                  <a:pt x="1458" y="243"/>
                </a:lnTo>
                <a:lnTo>
                  <a:pt x="1457" y="270"/>
                </a:lnTo>
                <a:lnTo>
                  <a:pt x="1485" y="269"/>
                </a:lnTo>
                <a:lnTo>
                  <a:pt x="1519" y="275"/>
                </a:lnTo>
                <a:lnTo>
                  <a:pt x="1553" y="287"/>
                </a:lnTo>
                <a:lnTo>
                  <a:pt x="1581" y="302"/>
                </a:lnTo>
                <a:lnTo>
                  <a:pt x="1599" y="314"/>
                </a:lnTo>
                <a:lnTo>
                  <a:pt x="1615" y="330"/>
                </a:lnTo>
                <a:lnTo>
                  <a:pt x="1633" y="351"/>
                </a:lnTo>
                <a:lnTo>
                  <a:pt x="1643" y="377"/>
                </a:lnTo>
                <a:lnTo>
                  <a:pt x="1645" y="396"/>
                </a:lnTo>
                <a:lnTo>
                  <a:pt x="1640" y="416"/>
                </a:lnTo>
                <a:lnTo>
                  <a:pt x="1628" y="441"/>
                </a:lnTo>
                <a:lnTo>
                  <a:pt x="1643" y="468"/>
                </a:lnTo>
                <a:lnTo>
                  <a:pt x="1649" y="492"/>
                </a:lnTo>
                <a:lnTo>
                  <a:pt x="1653" y="519"/>
                </a:lnTo>
                <a:lnTo>
                  <a:pt x="1645" y="550"/>
                </a:lnTo>
                <a:lnTo>
                  <a:pt x="1639" y="570"/>
                </a:lnTo>
                <a:lnTo>
                  <a:pt x="1620" y="592"/>
                </a:lnTo>
                <a:lnTo>
                  <a:pt x="1645" y="624"/>
                </a:lnTo>
                <a:lnTo>
                  <a:pt x="1653" y="645"/>
                </a:lnTo>
                <a:lnTo>
                  <a:pt x="1655" y="673"/>
                </a:lnTo>
                <a:lnTo>
                  <a:pt x="1649" y="702"/>
                </a:lnTo>
                <a:lnTo>
                  <a:pt x="1635" y="734"/>
                </a:lnTo>
                <a:lnTo>
                  <a:pt x="1615" y="758"/>
                </a:lnTo>
                <a:lnTo>
                  <a:pt x="1586" y="779"/>
                </a:lnTo>
                <a:lnTo>
                  <a:pt x="1537" y="802"/>
                </a:lnTo>
                <a:lnTo>
                  <a:pt x="1485" y="809"/>
                </a:lnTo>
                <a:lnTo>
                  <a:pt x="1437" y="802"/>
                </a:lnTo>
                <a:lnTo>
                  <a:pt x="1405" y="791"/>
                </a:lnTo>
                <a:lnTo>
                  <a:pt x="1384" y="814"/>
                </a:lnTo>
                <a:lnTo>
                  <a:pt x="1362" y="832"/>
                </a:lnTo>
                <a:lnTo>
                  <a:pt x="1342" y="844"/>
                </a:lnTo>
                <a:lnTo>
                  <a:pt x="1304" y="859"/>
                </a:lnTo>
                <a:lnTo>
                  <a:pt x="1271" y="869"/>
                </a:lnTo>
                <a:lnTo>
                  <a:pt x="1222" y="877"/>
                </a:lnTo>
                <a:lnTo>
                  <a:pt x="1175" y="875"/>
                </a:lnTo>
                <a:lnTo>
                  <a:pt x="1127" y="865"/>
                </a:lnTo>
                <a:lnTo>
                  <a:pt x="1087" y="847"/>
                </a:lnTo>
                <a:lnTo>
                  <a:pt x="1062" y="878"/>
                </a:lnTo>
                <a:lnTo>
                  <a:pt x="1039" y="896"/>
                </a:lnTo>
                <a:lnTo>
                  <a:pt x="1010" y="911"/>
                </a:lnTo>
                <a:lnTo>
                  <a:pt x="975" y="923"/>
                </a:lnTo>
                <a:lnTo>
                  <a:pt x="936" y="929"/>
                </a:lnTo>
                <a:lnTo>
                  <a:pt x="899" y="929"/>
                </a:lnTo>
                <a:lnTo>
                  <a:pt x="865" y="923"/>
                </a:lnTo>
                <a:lnTo>
                  <a:pt x="823" y="907"/>
                </a:lnTo>
                <a:lnTo>
                  <a:pt x="798" y="892"/>
                </a:lnTo>
                <a:lnTo>
                  <a:pt x="776" y="911"/>
                </a:lnTo>
                <a:lnTo>
                  <a:pt x="751" y="923"/>
                </a:lnTo>
                <a:lnTo>
                  <a:pt x="722" y="934"/>
                </a:lnTo>
                <a:lnTo>
                  <a:pt x="679" y="943"/>
                </a:lnTo>
                <a:lnTo>
                  <a:pt x="635" y="940"/>
                </a:lnTo>
                <a:lnTo>
                  <a:pt x="589" y="931"/>
                </a:lnTo>
                <a:lnTo>
                  <a:pt x="554" y="916"/>
                </a:lnTo>
                <a:lnTo>
                  <a:pt x="521" y="890"/>
                </a:lnTo>
                <a:lnTo>
                  <a:pt x="502" y="865"/>
                </a:lnTo>
                <a:lnTo>
                  <a:pt x="467" y="874"/>
                </a:lnTo>
                <a:lnTo>
                  <a:pt x="428" y="880"/>
                </a:lnTo>
                <a:lnTo>
                  <a:pt x="380" y="878"/>
                </a:lnTo>
                <a:lnTo>
                  <a:pt x="339" y="866"/>
                </a:lnTo>
                <a:lnTo>
                  <a:pt x="309" y="850"/>
                </a:lnTo>
                <a:lnTo>
                  <a:pt x="283" y="832"/>
                </a:lnTo>
                <a:lnTo>
                  <a:pt x="262" y="806"/>
                </a:lnTo>
                <a:lnTo>
                  <a:pt x="256" y="779"/>
                </a:lnTo>
                <a:lnTo>
                  <a:pt x="234" y="785"/>
                </a:lnTo>
                <a:lnTo>
                  <a:pt x="196" y="787"/>
                </a:lnTo>
                <a:lnTo>
                  <a:pt x="154" y="779"/>
                </a:lnTo>
                <a:lnTo>
                  <a:pt x="110" y="761"/>
                </a:lnTo>
                <a:lnTo>
                  <a:pt x="81" y="737"/>
                </a:lnTo>
                <a:lnTo>
                  <a:pt x="56" y="706"/>
                </a:lnTo>
                <a:lnTo>
                  <a:pt x="42" y="673"/>
                </a:lnTo>
                <a:lnTo>
                  <a:pt x="38" y="630"/>
                </a:lnTo>
                <a:lnTo>
                  <a:pt x="39" y="598"/>
                </a:lnTo>
                <a:lnTo>
                  <a:pt x="52" y="553"/>
                </a:lnTo>
                <a:lnTo>
                  <a:pt x="22" y="528"/>
                </a:lnTo>
                <a:lnTo>
                  <a:pt x="7" y="495"/>
                </a:lnTo>
                <a:lnTo>
                  <a:pt x="0" y="459"/>
                </a:lnTo>
                <a:lnTo>
                  <a:pt x="0" y="423"/>
                </a:lnTo>
                <a:lnTo>
                  <a:pt x="9" y="383"/>
                </a:lnTo>
                <a:lnTo>
                  <a:pt x="28" y="354"/>
                </a:lnTo>
                <a:lnTo>
                  <a:pt x="61" y="321"/>
                </a:lnTo>
                <a:lnTo>
                  <a:pt x="96" y="297"/>
                </a:lnTo>
                <a:lnTo>
                  <a:pt x="137" y="275"/>
                </a:lnTo>
                <a:lnTo>
                  <a:pt x="189" y="260"/>
                </a:lnTo>
                <a:lnTo>
                  <a:pt x="238" y="251"/>
                </a:lnTo>
                <a:lnTo>
                  <a:pt x="262" y="246"/>
                </a:lnTo>
                <a:lnTo>
                  <a:pt x="263" y="223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981080" y="5335560"/>
            <a:ext cx="349200" cy="636480"/>
            <a:chOff x="1981080" y="5335560"/>
            <a:chExt cx="349200" cy="636480"/>
          </a:xfrm>
        </p:grpSpPr>
        <p:sp>
          <p:nvSpPr>
            <p:cNvPr id="854" name=""/>
            <p:cNvSpPr/>
            <p:nvPr/>
          </p:nvSpPr>
          <p:spPr>
            <a:xfrm>
              <a:off x="2022480" y="544680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43000" y="5473800"/>
              <a:ext cx="50760" cy="10620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182680" y="5530680"/>
              <a:ext cx="10476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4480" y="533556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23920" y="563868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49480" y="560232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21040" y="5335560"/>
              <a:ext cx="271440" cy="11124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23920" y="588816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84480" y="582444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81080" y="5931000"/>
              <a:ext cx="239760" cy="4104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23920" y="593424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09480" y="3811680"/>
            <a:ext cx="349200" cy="636480"/>
            <a:chOff x="609480" y="3811680"/>
            <a:chExt cx="349200" cy="636480"/>
          </a:xfrm>
        </p:grpSpPr>
        <p:sp>
          <p:nvSpPr>
            <p:cNvPr id="866" name=""/>
            <p:cNvSpPr/>
            <p:nvPr/>
          </p:nvSpPr>
          <p:spPr>
            <a:xfrm>
              <a:off x="650880" y="39225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1400" y="39495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1080" y="40064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2880" y="38116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2320" y="41148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7880" y="40784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9440" y="38116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2320" y="43639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2880" y="43005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9480" y="44067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2320" y="44100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981080" y="2897280"/>
            <a:ext cx="349200" cy="636480"/>
            <a:chOff x="1981080" y="2897280"/>
            <a:chExt cx="349200" cy="636480"/>
          </a:xfrm>
        </p:grpSpPr>
        <p:sp>
          <p:nvSpPr>
            <p:cNvPr id="878" name=""/>
            <p:cNvSpPr/>
            <p:nvPr/>
          </p:nvSpPr>
          <p:spPr>
            <a:xfrm>
              <a:off x="2022480" y="30081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43000" y="30351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182680" y="30920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4480" y="28972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23920" y="32004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49480" y="31640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1040" y="28972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f6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3920" y="34495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84480" y="33861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81080" y="34923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23920" y="34956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057400" y="4343400"/>
            <a:ext cx="457344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624"/>
                </a:moveTo>
                <a:lnTo>
                  <a:pt x="0" y="0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382480" y="3048120"/>
            <a:ext cx="11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电子邮件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90720" y="3352680"/>
            <a:ext cx="4725720" cy="916200"/>
          </a:xfrm>
          <a:custGeom>
            <a:avLst/>
            <a:gdLst/>
            <a:ahLst/>
            <a:rect l="l" t="t" r="r" b="b"/>
            <a:pathLst>
              <a:path w="2977" h="577">
                <a:moveTo>
                  <a:pt x="0" y="576"/>
                </a:moveTo>
                <a:lnTo>
                  <a:pt x="2400" y="576"/>
                </a:lnTo>
                <a:lnTo>
                  <a:pt x="2976" y="0"/>
                </a:lnTo>
              </a:path>
            </a:pathLst>
          </a:custGeom>
          <a:noFill/>
          <a:ln cap="rnd" w="25560">
            <a:solidFill>
              <a:srgbClr val="0099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3581280"/>
            <a:ext cx="3888000" cy="1677960"/>
          </a:xfrm>
          <a:custGeom>
            <a:avLst/>
            <a:gdLst/>
            <a:ahLst/>
            <a:rect l="l" t="t" r="r" b="b"/>
            <a:pathLst>
              <a:path w="2449" h="1057">
                <a:moveTo>
                  <a:pt x="0" y="0"/>
                </a:moveTo>
                <a:lnTo>
                  <a:pt x="0" y="24"/>
                </a:lnTo>
                <a:lnTo>
                  <a:pt x="0" y="384"/>
                </a:lnTo>
                <a:lnTo>
                  <a:pt x="1776" y="384"/>
                </a:lnTo>
                <a:lnTo>
                  <a:pt x="2448" y="1056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7672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371600" y="25909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2666880"/>
            <a:ext cx="17460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266688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724280" y="1447920"/>
            <a:ext cx="6098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00600" y="1523880"/>
            <a:ext cx="17460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4880" y="5942160"/>
            <a:ext cx="6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一个外部邮件多人共享，并有独立信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304920"/>
            <a:ext cx="868680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 -----Interne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子邮件服务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5334120" y="1219320"/>
            <a:ext cx="2151000" cy="1160280"/>
            <a:chOff x="5334120" y="1219320"/>
            <a:chExt cx="2151000" cy="1160280"/>
          </a:xfrm>
        </p:grpSpPr>
        <p:sp>
          <p:nvSpPr>
            <p:cNvPr id="903" name=""/>
            <p:cNvSpPr/>
            <p:nvPr/>
          </p:nvSpPr>
          <p:spPr>
            <a:xfrm>
              <a:off x="5334120" y="1219320"/>
              <a:ext cx="2151000" cy="116028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79440" y="163008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CA300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1295280" cy="8967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86600" y="2438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487840" y="480204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335560" y="327780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213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35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343044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59040" y="4419720"/>
            <a:ext cx="98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267080" y="3809880"/>
            <a:ext cx="2151360" cy="1160640"/>
          </a:xfrm>
          <a:custGeom>
            <a:avLst/>
            <a:gdLst/>
            <a:ahLst/>
            <a:rect l="l" t="t" r="r" b="b"/>
            <a:pathLst>
              <a:path w="1355" h="731">
                <a:moveTo>
                  <a:pt x="215" y="172"/>
                </a:moveTo>
                <a:lnTo>
                  <a:pt x="226" y="152"/>
                </a:lnTo>
                <a:lnTo>
                  <a:pt x="243" y="132"/>
                </a:lnTo>
                <a:lnTo>
                  <a:pt x="270" y="115"/>
                </a:lnTo>
                <a:lnTo>
                  <a:pt x="304" y="103"/>
                </a:lnTo>
                <a:lnTo>
                  <a:pt x="332" y="96"/>
                </a:lnTo>
                <a:lnTo>
                  <a:pt x="366" y="88"/>
                </a:lnTo>
                <a:lnTo>
                  <a:pt x="419" y="84"/>
                </a:lnTo>
                <a:lnTo>
                  <a:pt x="470" y="88"/>
                </a:lnTo>
                <a:lnTo>
                  <a:pt x="517" y="96"/>
                </a:lnTo>
                <a:lnTo>
                  <a:pt x="551" y="106"/>
                </a:lnTo>
                <a:lnTo>
                  <a:pt x="571" y="73"/>
                </a:lnTo>
                <a:lnTo>
                  <a:pt x="598" y="47"/>
                </a:lnTo>
                <a:lnTo>
                  <a:pt x="634" y="26"/>
                </a:lnTo>
                <a:lnTo>
                  <a:pt x="681" y="11"/>
                </a:lnTo>
                <a:lnTo>
                  <a:pt x="739" y="1"/>
                </a:lnTo>
                <a:lnTo>
                  <a:pt x="795" y="0"/>
                </a:lnTo>
                <a:lnTo>
                  <a:pt x="846" y="5"/>
                </a:lnTo>
                <a:lnTo>
                  <a:pt x="902" y="18"/>
                </a:lnTo>
                <a:lnTo>
                  <a:pt x="945" y="41"/>
                </a:lnTo>
                <a:lnTo>
                  <a:pt x="976" y="63"/>
                </a:lnTo>
                <a:lnTo>
                  <a:pt x="996" y="85"/>
                </a:lnTo>
                <a:lnTo>
                  <a:pt x="1000" y="113"/>
                </a:lnTo>
                <a:lnTo>
                  <a:pt x="1040" y="104"/>
                </a:lnTo>
                <a:lnTo>
                  <a:pt x="1087" y="107"/>
                </a:lnTo>
                <a:lnTo>
                  <a:pt x="1126" y="115"/>
                </a:lnTo>
                <a:lnTo>
                  <a:pt x="1159" y="135"/>
                </a:lnTo>
                <a:lnTo>
                  <a:pt x="1183" y="161"/>
                </a:lnTo>
                <a:lnTo>
                  <a:pt x="1193" y="188"/>
                </a:lnTo>
                <a:lnTo>
                  <a:pt x="1192" y="209"/>
                </a:lnTo>
                <a:lnTo>
                  <a:pt x="1214" y="208"/>
                </a:lnTo>
                <a:lnTo>
                  <a:pt x="1242" y="213"/>
                </a:lnTo>
                <a:lnTo>
                  <a:pt x="1270" y="222"/>
                </a:lnTo>
                <a:lnTo>
                  <a:pt x="1293" y="234"/>
                </a:lnTo>
                <a:lnTo>
                  <a:pt x="1308" y="243"/>
                </a:lnTo>
                <a:lnTo>
                  <a:pt x="1321" y="256"/>
                </a:lnTo>
                <a:lnTo>
                  <a:pt x="1336" y="272"/>
                </a:lnTo>
                <a:lnTo>
                  <a:pt x="1344" y="292"/>
                </a:lnTo>
                <a:lnTo>
                  <a:pt x="1346" y="307"/>
                </a:lnTo>
                <a:lnTo>
                  <a:pt x="1342" y="322"/>
                </a:lnTo>
                <a:lnTo>
                  <a:pt x="1332" y="341"/>
                </a:lnTo>
                <a:lnTo>
                  <a:pt x="1344" y="362"/>
                </a:lnTo>
                <a:lnTo>
                  <a:pt x="1349" y="381"/>
                </a:lnTo>
                <a:lnTo>
                  <a:pt x="1352" y="402"/>
                </a:lnTo>
                <a:lnTo>
                  <a:pt x="1346" y="426"/>
                </a:lnTo>
                <a:lnTo>
                  <a:pt x="1341" y="441"/>
                </a:lnTo>
                <a:lnTo>
                  <a:pt x="1325" y="458"/>
                </a:lnTo>
                <a:lnTo>
                  <a:pt x="1346" y="483"/>
                </a:lnTo>
                <a:lnTo>
                  <a:pt x="1352" y="499"/>
                </a:lnTo>
                <a:lnTo>
                  <a:pt x="1354" y="521"/>
                </a:lnTo>
                <a:lnTo>
                  <a:pt x="1349" y="543"/>
                </a:lnTo>
                <a:lnTo>
                  <a:pt x="1337" y="568"/>
                </a:lnTo>
                <a:lnTo>
                  <a:pt x="1321" y="587"/>
                </a:lnTo>
                <a:lnTo>
                  <a:pt x="1297" y="603"/>
                </a:lnTo>
                <a:lnTo>
                  <a:pt x="1258" y="621"/>
                </a:lnTo>
                <a:lnTo>
                  <a:pt x="1214" y="626"/>
                </a:lnTo>
                <a:lnTo>
                  <a:pt x="1176" y="621"/>
                </a:lnTo>
                <a:lnTo>
                  <a:pt x="1150" y="612"/>
                </a:lnTo>
                <a:lnTo>
                  <a:pt x="1133" y="630"/>
                </a:lnTo>
                <a:lnTo>
                  <a:pt x="1114" y="644"/>
                </a:lnTo>
                <a:lnTo>
                  <a:pt x="1098" y="653"/>
                </a:lnTo>
                <a:lnTo>
                  <a:pt x="1067" y="665"/>
                </a:lnTo>
                <a:lnTo>
                  <a:pt x="1040" y="673"/>
                </a:lnTo>
                <a:lnTo>
                  <a:pt x="1000" y="679"/>
                </a:lnTo>
                <a:lnTo>
                  <a:pt x="961" y="677"/>
                </a:lnTo>
                <a:lnTo>
                  <a:pt x="922" y="669"/>
                </a:lnTo>
                <a:lnTo>
                  <a:pt x="889" y="655"/>
                </a:lnTo>
                <a:lnTo>
                  <a:pt x="868" y="680"/>
                </a:lnTo>
                <a:lnTo>
                  <a:pt x="850" y="694"/>
                </a:lnTo>
                <a:lnTo>
                  <a:pt x="826" y="705"/>
                </a:lnTo>
                <a:lnTo>
                  <a:pt x="797" y="714"/>
                </a:lnTo>
                <a:lnTo>
                  <a:pt x="766" y="719"/>
                </a:lnTo>
                <a:lnTo>
                  <a:pt x="736" y="719"/>
                </a:lnTo>
                <a:lnTo>
                  <a:pt x="708" y="714"/>
                </a:lnTo>
                <a:lnTo>
                  <a:pt x="673" y="702"/>
                </a:lnTo>
                <a:lnTo>
                  <a:pt x="653" y="690"/>
                </a:lnTo>
                <a:lnTo>
                  <a:pt x="634" y="705"/>
                </a:lnTo>
                <a:lnTo>
                  <a:pt x="614" y="714"/>
                </a:lnTo>
                <a:lnTo>
                  <a:pt x="590" y="723"/>
                </a:lnTo>
                <a:lnTo>
                  <a:pt x="556" y="730"/>
                </a:lnTo>
                <a:lnTo>
                  <a:pt x="519" y="727"/>
                </a:lnTo>
                <a:lnTo>
                  <a:pt x="481" y="720"/>
                </a:lnTo>
                <a:lnTo>
                  <a:pt x="453" y="709"/>
                </a:lnTo>
                <a:lnTo>
                  <a:pt x="426" y="689"/>
                </a:lnTo>
                <a:lnTo>
                  <a:pt x="410" y="669"/>
                </a:lnTo>
                <a:lnTo>
                  <a:pt x="382" y="676"/>
                </a:lnTo>
                <a:lnTo>
                  <a:pt x="350" y="681"/>
                </a:lnTo>
                <a:lnTo>
                  <a:pt x="311" y="680"/>
                </a:lnTo>
                <a:lnTo>
                  <a:pt x="278" y="670"/>
                </a:lnTo>
                <a:lnTo>
                  <a:pt x="253" y="658"/>
                </a:lnTo>
                <a:lnTo>
                  <a:pt x="231" y="644"/>
                </a:lnTo>
                <a:lnTo>
                  <a:pt x="214" y="624"/>
                </a:lnTo>
                <a:lnTo>
                  <a:pt x="210" y="603"/>
                </a:lnTo>
                <a:lnTo>
                  <a:pt x="191" y="608"/>
                </a:lnTo>
                <a:lnTo>
                  <a:pt x="160" y="609"/>
                </a:lnTo>
                <a:lnTo>
                  <a:pt x="126" y="603"/>
                </a:lnTo>
                <a:lnTo>
                  <a:pt x="90" y="589"/>
                </a:lnTo>
                <a:lnTo>
                  <a:pt x="66" y="571"/>
                </a:lnTo>
                <a:lnTo>
                  <a:pt x="46" y="546"/>
                </a:lnTo>
                <a:lnTo>
                  <a:pt x="34" y="521"/>
                </a:lnTo>
                <a:lnTo>
                  <a:pt x="31" y="487"/>
                </a:lnTo>
                <a:lnTo>
                  <a:pt x="32" y="463"/>
                </a:lnTo>
                <a:lnTo>
                  <a:pt x="43" y="428"/>
                </a:lnTo>
                <a:lnTo>
                  <a:pt x="18" y="409"/>
                </a:lnTo>
                <a:lnTo>
                  <a:pt x="6" y="383"/>
                </a:lnTo>
                <a:lnTo>
                  <a:pt x="0" y="355"/>
                </a:lnTo>
                <a:lnTo>
                  <a:pt x="0" y="327"/>
                </a:lnTo>
                <a:lnTo>
                  <a:pt x="7" y="296"/>
                </a:lnTo>
                <a:lnTo>
                  <a:pt x="23" y="274"/>
                </a:lnTo>
                <a:lnTo>
                  <a:pt x="50" y="249"/>
                </a:lnTo>
                <a:lnTo>
                  <a:pt x="78" y="230"/>
                </a:lnTo>
                <a:lnTo>
                  <a:pt x="112" y="213"/>
                </a:lnTo>
                <a:lnTo>
                  <a:pt x="155" y="201"/>
                </a:lnTo>
                <a:lnTo>
                  <a:pt x="195" y="194"/>
                </a:lnTo>
                <a:lnTo>
                  <a:pt x="214" y="191"/>
                </a:lnTo>
                <a:lnTo>
                  <a:pt x="215" y="172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694560" y="4029120"/>
            <a:ext cx="565200" cy="558720"/>
            <a:chOff x="6694560" y="4029120"/>
            <a:chExt cx="565200" cy="558720"/>
          </a:xfrm>
        </p:grpSpPr>
        <p:sp>
          <p:nvSpPr>
            <p:cNvPr id="917" name=""/>
            <p:cNvSpPr/>
            <p:nvPr/>
          </p:nvSpPr>
          <p:spPr>
            <a:xfrm>
              <a:off x="6886440" y="4405320"/>
              <a:ext cx="274680" cy="6516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40"/>
                  </a:moveTo>
                  <a:lnTo>
                    <a:pt x="130" y="40"/>
                  </a:lnTo>
                  <a:lnTo>
                    <a:pt x="172" y="0"/>
                  </a:lnTo>
                  <a:lnTo>
                    <a:pt x="40" y="0"/>
                  </a:lnTo>
                  <a:lnTo>
                    <a:pt x="0" y="4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66000" y="4417920"/>
              <a:ext cx="98280" cy="334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20"/>
                  </a:moveTo>
                  <a:lnTo>
                    <a:pt x="61" y="2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91280" y="4400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1"/>
                  </a:moveTo>
                  <a:lnTo>
                    <a:pt x="44" y="0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55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86440" y="4471920"/>
              <a:ext cx="20664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66000" y="4408560"/>
              <a:ext cx="141120" cy="4428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0" y="7"/>
                  </a:lnTo>
                  <a:lnTo>
                    <a:pt x="62" y="7"/>
                  </a:lnTo>
                  <a:lnTo>
                    <a:pt x="62" y="27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08680" y="4075200"/>
              <a:ext cx="403200" cy="33660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83440" y="450540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0" y="50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17"/>
                  </a:lnTo>
                  <a:lnTo>
                    <a:pt x="0" y="5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3680" y="4029120"/>
              <a:ext cx="46080" cy="384120"/>
            </a:xfrm>
            <a:custGeom>
              <a:avLst/>
              <a:gdLst/>
              <a:ahLst/>
              <a:rect l="l" t="t" r="r" b="b"/>
              <a:pathLst>
                <a:path w="29" h="242">
                  <a:moveTo>
                    <a:pt x="0" y="29"/>
                  </a:moveTo>
                  <a:lnTo>
                    <a:pt x="28" y="0"/>
                  </a:lnTo>
                  <a:lnTo>
                    <a:pt x="28" y="212"/>
                  </a:lnTo>
                  <a:lnTo>
                    <a:pt x="0" y="241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05440" y="4030560"/>
              <a:ext cx="451080" cy="4464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27"/>
                  </a:moveTo>
                  <a:lnTo>
                    <a:pt x="28" y="0"/>
                  </a:lnTo>
                  <a:lnTo>
                    <a:pt x="283" y="0"/>
                  </a:lnTo>
                  <a:lnTo>
                    <a:pt x="254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48640" y="4116240"/>
              <a:ext cx="325440" cy="243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204" y="152"/>
                  </a:moveTo>
                  <a:lnTo>
                    <a:pt x="0" y="152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52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48640" y="4116240"/>
              <a:ext cx="323640" cy="243000"/>
            </a:xfrm>
            <a:custGeom>
              <a:avLst/>
              <a:gdLst/>
              <a:ahLst/>
              <a:rect l="l" t="t" r="r" b="b"/>
              <a:pathLst>
                <a:path w="204" h="153">
                  <a:moveTo>
                    <a:pt x="203" y="0"/>
                  </a:moveTo>
                  <a:lnTo>
                    <a:pt x="0" y="0"/>
                  </a:lnTo>
                  <a:lnTo>
                    <a:pt x="0" y="152"/>
                  </a:lnTo>
                  <a:lnTo>
                    <a:pt x="48" y="103"/>
                  </a:lnTo>
                  <a:lnTo>
                    <a:pt x="148" y="53"/>
                  </a:lnTo>
                  <a:lnTo>
                    <a:pt x="203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96000" y="4556160"/>
              <a:ext cx="488880" cy="31680"/>
            </a:xfrm>
            <a:custGeom>
              <a:avLst/>
              <a:gdLst/>
              <a:ahLst/>
              <a:rect l="l" t="t" r="r" b="b"/>
              <a:pathLst>
                <a:path w="308" h="20">
                  <a:moveTo>
                    <a:pt x="307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7" y="19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94560" y="4505400"/>
              <a:ext cx="547560" cy="52200"/>
            </a:xfrm>
            <a:custGeom>
              <a:avLst/>
              <a:gdLst/>
              <a:ahLst/>
              <a:rect l="l" t="t" r="r" b="b"/>
              <a:pathLst>
                <a:path w="345" h="33">
                  <a:moveTo>
                    <a:pt x="344" y="0"/>
                  </a:moveTo>
                  <a:lnTo>
                    <a:pt x="311" y="32"/>
                  </a:lnTo>
                  <a:lnTo>
                    <a:pt x="0" y="32"/>
                  </a:lnTo>
                  <a:lnTo>
                    <a:pt x="33" y="0"/>
                  </a:lnTo>
                  <a:lnTo>
                    <a:pt x="34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730920" y="4514760"/>
              <a:ext cx="474840" cy="33480"/>
              <a:chOff x="6730920" y="4514760"/>
              <a:chExt cx="474840" cy="33480"/>
            </a:xfrm>
          </p:grpSpPr>
          <p:sp>
            <p:nvSpPr>
              <p:cNvPr id="931" name=""/>
              <p:cNvSpPr/>
              <p:nvPr/>
            </p:nvSpPr>
            <p:spPr>
              <a:xfrm>
                <a:off x="6761160" y="45147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750000" y="45291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740640" y="45385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730920" y="4548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6864480" y="4127400"/>
              <a:ext cx="29340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84" y="139"/>
                  </a:moveTo>
                  <a:lnTo>
                    <a:pt x="0" y="139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9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3763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657760" y="2886120"/>
            <a:ext cx="532080" cy="555480"/>
            <a:chOff x="5657760" y="2886120"/>
            <a:chExt cx="532080" cy="555480"/>
          </a:xfrm>
        </p:grpSpPr>
        <p:sp>
          <p:nvSpPr>
            <p:cNvPr id="937" name=""/>
            <p:cNvSpPr/>
            <p:nvPr/>
          </p:nvSpPr>
          <p:spPr>
            <a:xfrm>
              <a:off x="5819760" y="3260880"/>
              <a:ext cx="27000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41"/>
                  </a:moveTo>
                  <a:lnTo>
                    <a:pt x="127" y="41"/>
                  </a:lnTo>
                  <a:lnTo>
                    <a:pt x="169" y="0"/>
                  </a:lnTo>
                  <a:lnTo>
                    <a:pt x="40" y="0"/>
                  </a:lnTo>
                  <a:lnTo>
                    <a:pt x="0" y="4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99320" y="3274920"/>
              <a:ext cx="96840" cy="3348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20"/>
                  </a:moveTo>
                  <a:lnTo>
                    <a:pt x="60" y="2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24600" y="3257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"/>
                  </a:moveTo>
                  <a:lnTo>
                    <a:pt x="43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54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19760" y="3325680"/>
              <a:ext cx="20628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99320" y="3263760"/>
              <a:ext cx="137880" cy="446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0"/>
                  </a:moveTo>
                  <a:lnTo>
                    <a:pt x="0" y="7"/>
                  </a:lnTo>
                  <a:lnTo>
                    <a:pt x="60" y="7"/>
                  </a:lnTo>
                  <a:lnTo>
                    <a:pt x="60" y="27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14960" y="3362400"/>
              <a:ext cx="5580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49"/>
                  </a:moveTo>
                  <a:lnTo>
                    <a:pt x="0" y="32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0" y="4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43760" y="2886120"/>
              <a:ext cx="46080" cy="380880"/>
            </a:xfrm>
            <a:custGeom>
              <a:avLst/>
              <a:gdLst/>
              <a:ahLst/>
              <a:rect l="l" t="t" r="r" b="b"/>
              <a:pathLst>
                <a:path w="29" h="240">
                  <a:moveTo>
                    <a:pt x="0" y="29"/>
                  </a:moveTo>
                  <a:lnTo>
                    <a:pt x="28" y="0"/>
                  </a:lnTo>
                  <a:lnTo>
                    <a:pt x="28" y="210"/>
                  </a:lnTo>
                  <a:lnTo>
                    <a:pt x="0" y="239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42000" y="2887560"/>
              <a:ext cx="446040" cy="44640"/>
            </a:xfrm>
            <a:custGeom>
              <a:avLst/>
              <a:gdLst/>
              <a:ahLst/>
              <a:rect l="l" t="t" r="r" b="b"/>
              <a:pathLst>
                <a:path w="281" h="28">
                  <a:moveTo>
                    <a:pt x="0" y="27"/>
                  </a:moveTo>
                  <a:lnTo>
                    <a:pt x="28" y="0"/>
                  </a:lnTo>
                  <a:lnTo>
                    <a:pt x="280" y="0"/>
                  </a:lnTo>
                  <a:lnTo>
                    <a:pt x="252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657760" y="3370320"/>
              <a:ext cx="476280" cy="34920"/>
              <a:chOff x="5657760" y="3370320"/>
              <a:chExt cx="476280" cy="34920"/>
            </a:xfrm>
          </p:grpSpPr>
          <p:sp>
            <p:nvSpPr>
              <p:cNvPr id="946" name=""/>
              <p:cNvSpPr/>
              <p:nvPr/>
            </p:nvSpPr>
            <p:spPr>
              <a:xfrm>
                <a:off x="5692680" y="33703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683320" y="338148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72160" y="3394080"/>
                <a:ext cx="4428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657760" y="3405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5742000" y="2930400"/>
              <a:ext cx="401760" cy="33516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153"/>
                  </a:moveTo>
                  <a:lnTo>
                    <a:pt x="0" y="153"/>
                  </a:lnTo>
                  <a:lnTo>
                    <a:pt x="0" y="0"/>
                  </a:lnTo>
                  <a:lnTo>
                    <a:pt x="200" y="0"/>
                  </a:lnTo>
                  <a:lnTo>
                    <a:pt x="200" y="153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8" y="104"/>
                  </a:lnTo>
                  <a:lnTo>
                    <a:pt x="146" y="54"/>
                  </a:lnTo>
                  <a:lnTo>
                    <a:pt x="20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92760" y="298620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8d8db1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931000" y="5324400"/>
            <a:ext cx="563400" cy="557280"/>
            <a:chOff x="5931000" y="5324400"/>
            <a:chExt cx="563400" cy="557280"/>
          </a:xfrm>
        </p:grpSpPr>
        <p:grpSp>
          <p:nvGrpSpPr>
            <p:cNvPr id="955" name=""/>
            <p:cNvGrpSpPr/>
            <p:nvPr/>
          </p:nvGrpSpPr>
          <p:grpSpPr>
            <a:xfrm>
              <a:off x="5931000" y="5324400"/>
              <a:ext cx="563400" cy="557280"/>
              <a:chOff x="5931000" y="5324400"/>
              <a:chExt cx="563400" cy="557280"/>
            </a:xfrm>
          </p:grpSpPr>
          <p:sp>
            <p:nvSpPr>
              <p:cNvPr id="956" name=""/>
              <p:cNvSpPr/>
              <p:nvPr/>
            </p:nvSpPr>
            <p:spPr>
              <a:xfrm>
                <a:off x="6124680" y="569916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203880" y="571356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329520" y="569592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124680" y="576432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203880" y="570240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19880" y="580068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48320" y="532440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46920" y="532620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32440" y="585144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31000" y="580068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5962680" y="5808600"/>
                <a:ext cx="476280" cy="34920"/>
                <a:chOff x="5962680" y="5808600"/>
                <a:chExt cx="476280" cy="349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997600" y="5808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987880" y="581976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977080" y="583236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62680" y="584352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6046920" y="536904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6097680" y="542448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af001b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258920" y="3608280"/>
            <a:ext cx="2628720" cy="1498680"/>
          </a:xfrm>
          <a:custGeom>
            <a:avLst/>
            <a:gdLst/>
            <a:ahLst/>
            <a:rect l="l" t="t" r="r" b="b"/>
            <a:pathLst>
              <a:path w="1656" h="944">
                <a:moveTo>
                  <a:pt x="263" y="223"/>
                </a:moveTo>
                <a:lnTo>
                  <a:pt x="276" y="197"/>
                </a:lnTo>
                <a:lnTo>
                  <a:pt x="297" y="170"/>
                </a:lnTo>
                <a:lnTo>
                  <a:pt x="330" y="149"/>
                </a:lnTo>
                <a:lnTo>
                  <a:pt x="371" y="133"/>
                </a:lnTo>
                <a:lnTo>
                  <a:pt x="405" y="124"/>
                </a:lnTo>
                <a:lnTo>
                  <a:pt x="448" y="113"/>
                </a:lnTo>
                <a:lnTo>
                  <a:pt x="512" y="109"/>
                </a:lnTo>
                <a:lnTo>
                  <a:pt x="574" y="113"/>
                </a:lnTo>
                <a:lnTo>
                  <a:pt x="632" y="124"/>
                </a:lnTo>
                <a:lnTo>
                  <a:pt x="674" y="137"/>
                </a:lnTo>
                <a:lnTo>
                  <a:pt x="698" y="94"/>
                </a:lnTo>
                <a:lnTo>
                  <a:pt x="731" y="61"/>
                </a:lnTo>
                <a:lnTo>
                  <a:pt x="776" y="34"/>
                </a:lnTo>
                <a:lnTo>
                  <a:pt x="832" y="14"/>
                </a:lnTo>
                <a:lnTo>
                  <a:pt x="903" y="1"/>
                </a:lnTo>
                <a:lnTo>
                  <a:pt x="972" y="0"/>
                </a:lnTo>
                <a:lnTo>
                  <a:pt x="1034" y="7"/>
                </a:lnTo>
                <a:lnTo>
                  <a:pt x="1102" y="23"/>
                </a:lnTo>
                <a:lnTo>
                  <a:pt x="1155" y="53"/>
                </a:lnTo>
                <a:lnTo>
                  <a:pt x="1193" y="82"/>
                </a:lnTo>
                <a:lnTo>
                  <a:pt x="1217" y="110"/>
                </a:lnTo>
                <a:lnTo>
                  <a:pt x="1222" y="146"/>
                </a:lnTo>
                <a:lnTo>
                  <a:pt x="1271" y="134"/>
                </a:lnTo>
                <a:lnTo>
                  <a:pt x="1329" y="139"/>
                </a:lnTo>
                <a:lnTo>
                  <a:pt x="1376" y="149"/>
                </a:lnTo>
                <a:lnTo>
                  <a:pt x="1417" y="175"/>
                </a:lnTo>
                <a:lnTo>
                  <a:pt x="1446" y="208"/>
                </a:lnTo>
                <a:lnTo>
                  <a:pt x="1458" y="243"/>
                </a:lnTo>
                <a:lnTo>
                  <a:pt x="1457" y="270"/>
                </a:lnTo>
                <a:lnTo>
                  <a:pt x="1485" y="269"/>
                </a:lnTo>
                <a:lnTo>
                  <a:pt x="1519" y="275"/>
                </a:lnTo>
                <a:lnTo>
                  <a:pt x="1553" y="287"/>
                </a:lnTo>
                <a:lnTo>
                  <a:pt x="1581" y="302"/>
                </a:lnTo>
                <a:lnTo>
                  <a:pt x="1599" y="314"/>
                </a:lnTo>
                <a:lnTo>
                  <a:pt x="1615" y="330"/>
                </a:lnTo>
                <a:lnTo>
                  <a:pt x="1633" y="351"/>
                </a:lnTo>
                <a:lnTo>
                  <a:pt x="1643" y="377"/>
                </a:lnTo>
                <a:lnTo>
                  <a:pt x="1645" y="396"/>
                </a:lnTo>
                <a:lnTo>
                  <a:pt x="1640" y="416"/>
                </a:lnTo>
                <a:lnTo>
                  <a:pt x="1628" y="441"/>
                </a:lnTo>
                <a:lnTo>
                  <a:pt x="1643" y="468"/>
                </a:lnTo>
                <a:lnTo>
                  <a:pt x="1649" y="492"/>
                </a:lnTo>
                <a:lnTo>
                  <a:pt x="1653" y="519"/>
                </a:lnTo>
                <a:lnTo>
                  <a:pt x="1645" y="550"/>
                </a:lnTo>
                <a:lnTo>
                  <a:pt x="1639" y="570"/>
                </a:lnTo>
                <a:lnTo>
                  <a:pt x="1620" y="592"/>
                </a:lnTo>
                <a:lnTo>
                  <a:pt x="1645" y="624"/>
                </a:lnTo>
                <a:lnTo>
                  <a:pt x="1653" y="645"/>
                </a:lnTo>
                <a:lnTo>
                  <a:pt x="1655" y="673"/>
                </a:lnTo>
                <a:lnTo>
                  <a:pt x="1649" y="702"/>
                </a:lnTo>
                <a:lnTo>
                  <a:pt x="1635" y="734"/>
                </a:lnTo>
                <a:lnTo>
                  <a:pt x="1615" y="758"/>
                </a:lnTo>
                <a:lnTo>
                  <a:pt x="1586" y="779"/>
                </a:lnTo>
                <a:lnTo>
                  <a:pt x="1537" y="802"/>
                </a:lnTo>
                <a:lnTo>
                  <a:pt x="1485" y="809"/>
                </a:lnTo>
                <a:lnTo>
                  <a:pt x="1437" y="802"/>
                </a:lnTo>
                <a:lnTo>
                  <a:pt x="1405" y="791"/>
                </a:lnTo>
                <a:lnTo>
                  <a:pt x="1384" y="814"/>
                </a:lnTo>
                <a:lnTo>
                  <a:pt x="1362" y="832"/>
                </a:lnTo>
                <a:lnTo>
                  <a:pt x="1342" y="844"/>
                </a:lnTo>
                <a:lnTo>
                  <a:pt x="1304" y="859"/>
                </a:lnTo>
                <a:lnTo>
                  <a:pt x="1271" y="869"/>
                </a:lnTo>
                <a:lnTo>
                  <a:pt x="1222" y="877"/>
                </a:lnTo>
                <a:lnTo>
                  <a:pt x="1175" y="875"/>
                </a:lnTo>
                <a:lnTo>
                  <a:pt x="1127" y="865"/>
                </a:lnTo>
                <a:lnTo>
                  <a:pt x="1087" y="847"/>
                </a:lnTo>
                <a:lnTo>
                  <a:pt x="1062" y="878"/>
                </a:lnTo>
                <a:lnTo>
                  <a:pt x="1039" y="896"/>
                </a:lnTo>
                <a:lnTo>
                  <a:pt x="1010" y="911"/>
                </a:lnTo>
                <a:lnTo>
                  <a:pt x="975" y="923"/>
                </a:lnTo>
                <a:lnTo>
                  <a:pt x="936" y="929"/>
                </a:lnTo>
                <a:lnTo>
                  <a:pt x="899" y="929"/>
                </a:lnTo>
                <a:lnTo>
                  <a:pt x="865" y="923"/>
                </a:lnTo>
                <a:lnTo>
                  <a:pt x="823" y="907"/>
                </a:lnTo>
                <a:lnTo>
                  <a:pt x="798" y="892"/>
                </a:lnTo>
                <a:lnTo>
                  <a:pt x="776" y="911"/>
                </a:lnTo>
                <a:lnTo>
                  <a:pt x="751" y="923"/>
                </a:lnTo>
                <a:lnTo>
                  <a:pt x="722" y="934"/>
                </a:lnTo>
                <a:lnTo>
                  <a:pt x="679" y="943"/>
                </a:lnTo>
                <a:lnTo>
                  <a:pt x="635" y="940"/>
                </a:lnTo>
                <a:lnTo>
                  <a:pt x="589" y="931"/>
                </a:lnTo>
                <a:lnTo>
                  <a:pt x="554" y="916"/>
                </a:lnTo>
                <a:lnTo>
                  <a:pt x="521" y="890"/>
                </a:lnTo>
                <a:lnTo>
                  <a:pt x="502" y="865"/>
                </a:lnTo>
                <a:lnTo>
                  <a:pt x="467" y="874"/>
                </a:lnTo>
                <a:lnTo>
                  <a:pt x="428" y="880"/>
                </a:lnTo>
                <a:lnTo>
                  <a:pt x="380" y="878"/>
                </a:lnTo>
                <a:lnTo>
                  <a:pt x="339" y="866"/>
                </a:lnTo>
                <a:lnTo>
                  <a:pt x="309" y="850"/>
                </a:lnTo>
                <a:lnTo>
                  <a:pt x="283" y="832"/>
                </a:lnTo>
                <a:lnTo>
                  <a:pt x="262" y="806"/>
                </a:lnTo>
                <a:lnTo>
                  <a:pt x="256" y="779"/>
                </a:lnTo>
                <a:lnTo>
                  <a:pt x="234" y="785"/>
                </a:lnTo>
                <a:lnTo>
                  <a:pt x="196" y="787"/>
                </a:lnTo>
                <a:lnTo>
                  <a:pt x="154" y="779"/>
                </a:lnTo>
                <a:lnTo>
                  <a:pt x="110" y="761"/>
                </a:lnTo>
                <a:lnTo>
                  <a:pt x="81" y="737"/>
                </a:lnTo>
                <a:lnTo>
                  <a:pt x="56" y="706"/>
                </a:lnTo>
                <a:lnTo>
                  <a:pt x="42" y="673"/>
                </a:lnTo>
                <a:lnTo>
                  <a:pt x="38" y="630"/>
                </a:lnTo>
                <a:lnTo>
                  <a:pt x="39" y="598"/>
                </a:lnTo>
                <a:lnTo>
                  <a:pt x="52" y="553"/>
                </a:lnTo>
                <a:lnTo>
                  <a:pt x="22" y="528"/>
                </a:lnTo>
                <a:lnTo>
                  <a:pt x="7" y="495"/>
                </a:lnTo>
                <a:lnTo>
                  <a:pt x="0" y="459"/>
                </a:lnTo>
                <a:lnTo>
                  <a:pt x="0" y="423"/>
                </a:lnTo>
                <a:lnTo>
                  <a:pt x="9" y="383"/>
                </a:lnTo>
                <a:lnTo>
                  <a:pt x="28" y="354"/>
                </a:lnTo>
                <a:lnTo>
                  <a:pt x="61" y="321"/>
                </a:lnTo>
                <a:lnTo>
                  <a:pt x="96" y="297"/>
                </a:lnTo>
                <a:lnTo>
                  <a:pt x="137" y="275"/>
                </a:lnTo>
                <a:lnTo>
                  <a:pt x="189" y="260"/>
                </a:lnTo>
                <a:lnTo>
                  <a:pt x="238" y="251"/>
                </a:lnTo>
                <a:lnTo>
                  <a:pt x="262" y="246"/>
                </a:lnTo>
                <a:lnTo>
                  <a:pt x="263" y="223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981080" y="5335560"/>
            <a:ext cx="349200" cy="636480"/>
            <a:chOff x="1981080" y="5335560"/>
            <a:chExt cx="349200" cy="636480"/>
          </a:xfrm>
        </p:grpSpPr>
        <p:sp>
          <p:nvSpPr>
            <p:cNvPr id="977" name=""/>
            <p:cNvSpPr/>
            <p:nvPr/>
          </p:nvSpPr>
          <p:spPr>
            <a:xfrm>
              <a:off x="2022480" y="544680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43000" y="5473800"/>
              <a:ext cx="50760" cy="10620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182680" y="5530680"/>
              <a:ext cx="10476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84480" y="533556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23920" y="563868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49480" y="560232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21040" y="5335560"/>
              <a:ext cx="271440" cy="11124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3920" y="588816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84480" y="582444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81080" y="5931000"/>
              <a:ext cx="239760" cy="4104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23920" y="593424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09480" y="3811680"/>
            <a:ext cx="349200" cy="636480"/>
            <a:chOff x="609480" y="3811680"/>
            <a:chExt cx="349200" cy="636480"/>
          </a:xfrm>
        </p:grpSpPr>
        <p:sp>
          <p:nvSpPr>
            <p:cNvPr id="989" name=""/>
            <p:cNvSpPr/>
            <p:nvPr/>
          </p:nvSpPr>
          <p:spPr>
            <a:xfrm>
              <a:off x="650880" y="39225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71400" y="39495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811080" y="40064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2880" y="38116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2320" y="41148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7880" y="40784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49440" y="38116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2320" y="43639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2880" y="43005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9480" y="44067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2320" y="44100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981080" y="2897280"/>
            <a:ext cx="349200" cy="636480"/>
            <a:chOff x="1981080" y="2897280"/>
            <a:chExt cx="349200" cy="636480"/>
          </a:xfrm>
        </p:grpSpPr>
        <p:sp>
          <p:nvSpPr>
            <p:cNvPr id="1001" name=""/>
            <p:cNvSpPr/>
            <p:nvPr/>
          </p:nvSpPr>
          <p:spPr>
            <a:xfrm>
              <a:off x="2022480" y="30081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43000" y="30351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2182680" y="30920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84480" y="28972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23920" y="32004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49480" y="31640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21040" y="28972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f6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23920" y="34495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84480" y="33861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81080" y="34923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23920" y="34956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057400" y="4343400"/>
            <a:ext cx="457344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624"/>
                </a:moveTo>
                <a:lnTo>
                  <a:pt x="0" y="0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382480" y="3048120"/>
            <a:ext cx="11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电子邮件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90720" y="3352680"/>
            <a:ext cx="4725720" cy="916200"/>
          </a:xfrm>
          <a:custGeom>
            <a:avLst/>
            <a:gdLst/>
            <a:ahLst/>
            <a:rect l="l" t="t" r="r" b="b"/>
            <a:pathLst>
              <a:path w="2977" h="577">
                <a:moveTo>
                  <a:pt x="0" y="576"/>
                </a:moveTo>
                <a:lnTo>
                  <a:pt x="2400" y="576"/>
                </a:lnTo>
                <a:lnTo>
                  <a:pt x="2976" y="0"/>
                </a:lnTo>
              </a:path>
            </a:pathLst>
          </a:custGeom>
          <a:noFill/>
          <a:ln cap="rnd" w="25560">
            <a:solidFill>
              <a:srgbClr val="0099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209680" y="3581280"/>
            <a:ext cx="3888000" cy="1677960"/>
          </a:xfrm>
          <a:custGeom>
            <a:avLst/>
            <a:gdLst/>
            <a:ahLst/>
            <a:rect l="l" t="t" r="r" b="b"/>
            <a:pathLst>
              <a:path w="2449" h="1057">
                <a:moveTo>
                  <a:pt x="0" y="0"/>
                </a:moveTo>
                <a:lnTo>
                  <a:pt x="0" y="24"/>
                </a:lnTo>
                <a:lnTo>
                  <a:pt x="0" y="384"/>
                </a:lnTo>
                <a:lnTo>
                  <a:pt x="1776" y="384"/>
                </a:lnTo>
                <a:lnTo>
                  <a:pt x="2448" y="1056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7672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14600" y="4952880"/>
            <a:ext cx="17460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24280" y="457200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4648320"/>
            <a:ext cx="17460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800600" y="457200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495288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514600" y="495288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66680" y="3657600"/>
            <a:ext cx="43524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14400" y="36576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3733920"/>
            <a:ext cx="17460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90720" y="358128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374880" y="5942160"/>
            <a:ext cx="6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一个外部邮件多人共享，并有独立信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457200" y="304920"/>
            <a:ext cx="868680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 -----Intrane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子邮件服务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334120" y="1219320"/>
            <a:ext cx="2151000" cy="1160280"/>
            <a:chOff x="5334120" y="1219320"/>
            <a:chExt cx="2151000" cy="1160280"/>
          </a:xfrm>
        </p:grpSpPr>
        <p:sp>
          <p:nvSpPr>
            <p:cNvPr id="1031" name=""/>
            <p:cNvSpPr/>
            <p:nvPr/>
          </p:nvSpPr>
          <p:spPr>
            <a:xfrm>
              <a:off x="5334120" y="1219320"/>
              <a:ext cx="2151000" cy="116028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79440" y="163008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3" name="CA300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1295280" cy="89676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586600" y="2438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87840" y="480204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5335560" y="327780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213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35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133720" y="343044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659040" y="4419720"/>
            <a:ext cx="98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30720" y="3760920"/>
            <a:ext cx="2151000" cy="1160280"/>
          </a:xfrm>
          <a:custGeom>
            <a:avLst/>
            <a:gdLst/>
            <a:ahLst/>
            <a:rect l="l" t="t" r="r" b="b"/>
            <a:pathLst>
              <a:path w="1355" h="731">
                <a:moveTo>
                  <a:pt x="215" y="172"/>
                </a:moveTo>
                <a:lnTo>
                  <a:pt x="226" y="152"/>
                </a:lnTo>
                <a:lnTo>
                  <a:pt x="243" y="132"/>
                </a:lnTo>
                <a:lnTo>
                  <a:pt x="270" y="115"/>
                </a:lnTo>
                <a:lnTo>
                  <a:pt x="304" y="103"/>
                </a:lnTo>
                <a:lnTo>
                  <a:pt x="332" y="96"/>
                </a:lnTo>
                <a:lnTo>
                  <a:pt x="366" y="88"/>
                </a:lnTo>
                <a:lnTo>
                  <a:pt x="419" y="84"/>
                </a:lnTo>
                <a:lnTo>
                  <a:pt x="470" y="88"/>
                </a:lnTo>
                <a:lnTo>
                  <a:pt x="517" y="96"/>
                </a:lnTo>
                <a:lnTo>
                  <a:pt x="551" y="106"/>
                </a:lnTo>
                <a:lnTo>
                  <a:pt x="571" y="73"/>
                </a:lnTo>
                <a:lnTo>
                  <a:pt x="598" y="47"/>
                </a:lnTo>
                <a:lnTo>
                  <a:pt x="634" y="26"/>
                </a:lnTo>
                <a:lnTo>
                  <a:pt x="681" y="11"/>
                </a:lnTo>
                <a:lnTo>
                  <a:pt x="739" y="1"/>
                </a:lnTo>
                <a:lnTo>
                  <a:pt x="795" y="0"/>
                </a:lnTo>
                <a:lnTo>
                  <a:pt x="846" y="5"/>
                </a:lnTo>
                <a:lnTo>
                  <a:pt x="902" y="18"/>
                </a:lnTo>
                <a:lnTo>
                  <a:pt x="945" y="41"/>
                </a:lnTo>
                <a:lnTo>
                  <a:pt x="976" y="63"/>
                </a:lnTo>
                <a:lnTo>
                  <a:pt x="996" y="85"/>
                </a:lnTo>
                <a:lnTo>
                  <a:pt x="1000" y="113"/>
                </a:lnTo>
                <a:lnTo>
                  <a:pt x="1040" y="104"/>
                </a:lnTo>
                <a:lnTo>
                  <a:pt x="1087" y="107"/>
                </a:lnTo>
                <a:lnTo>
                  <a:pt x="1126" y="115"/>
                </a:lnTo>
                <a:lnTo>
                  <a:pt x="1159" y="135"/>
                </a:lnTo>
                <a:lnTo>
                  <a:pt x="1183" y="161"/>
                </a:lnTo>
                <a:lnTo>
                  <a:pt x="1193" y="188"/>
                </a:lnTo>
                <a:lnTo>
                  <a:pt x="1192" y="209"/>
                </a:lnTo>
                <a:lnTo>
                  <a:pt x="1214" y="208"/>
                </a:lnTo>
                <a:lnTo>
                  <a:pt x="1242" y="213"/>
                </a:lnTo>
                <a:lnTo>
                  <a:pt x="1270" y="222"/>
                </a:lnTo>
                <a:lnTo>
                  <a:pt x="1293" y="234"/>
                </a:lnTo>
                <a:lnTo>
                  <a:pt x="1308" y="243"/>
                </a:lnTo>
                <a:lnTo>
                  <a:pt x="1321" y="256"/>
                </a:lnTo>
                <a:lnTo>
                  <a:pt x="1336" y="272"/>
                </a:lnTo>
                <a:lnTo>
                  <a:pt x="1344" y="292"/>
                </a:lnTo>
                <a:lnTo>
                  <a:pt x="1346" y="307"/>
                </a:lnTo>
                <a:lnTo>
                  <a:pt x="1342" y="322"/>
                </a:lnTo>
                <a:lnTo>
                  <a:pt x="1332" y="341"/>
                </a:lnTo>
                <a:lnTo>
                  <a:pt x="1344" y="362"/>
                </a:lnTo>
                <a:lnTo>
                  <a:pt x="1349" y="381"/>
                </a:lnTo>
                <a:lnTo>
                  <a:pt x="1352" y="402"/>
                </a:lnTo>
                <a:lnTo>
                  <a:pt x="1346" y="426"/>
                </a:lnTo>
                <a:lnTo>
                  <a:pt x="1341" y="441"/>
                </a:lnTo>
                <a:lnTo>
                  <a:pt x="1325" y="458"/>
                </a:lnTo>
                <a:lnTo>
                  <a:pt x="1346" y="483"/>
                </a:lnTo>
                <a:lnTo>
                  <a:pt x="1352" y="499"/>
                </a:lnTo>
                <a:lnTo>
                  <a:pt x="1354" y="521"/>
                </a:lnTo>
                <a:lnTo>
                  <a:pt x="1349" y="543"/>
                </a:lnTo>
                <a:lnTo>
                  <a:pt x="1337" y="568"/>
                </a:lnTo>
                <a:lnTo>
                  <a:pt x="1321" y="587"/>
                </a:lnTo>
                <a:lnTo>
                  <a:pt x="1297" y="603"/>
                </a:lnTo>
                <a:lnTo>
                  <a:pt x="1258" y="621"/>
                </a:lnTo>
                <a:lnTo>
                  <a:pt x="1214" y="626"/>
                </a:lnTo>
                <a:lnTo>
                  <a:pt x="1176" y="621"/>
                </a:lnTo>
                <a:lnTo>
                  <a:pt x="1150" y="612"/>
                </a:lnTo>
                <a:lnTo>
                  <a:pt x="1133" y="630"/>
                </a:lnTo>
                <a:lnTo>
                  <a:pt x="1114" y="644"/>
                </a:lnTo>
                <a:lnTo>
                  <a:pt x="1098" y="653"/>
                </a:lnTo>
                <a:lnTo>
                  <a:pt x="1067" y="665"/>
                </a:lnTo>
                <a:lnTo>
                  <a:pt x="1040" y="673"/>
                </a:lnTo>
                <a:lnTo>
                  <a:pt x="1000" y="679"/>
                </a:lnTo>
                <a:lnTo>
                  <a:pt x="961" y="677"/>
                </a:lnTo>
                <a:lnTo>
                  <a:pt x="922" y="669"/>
                </a:lnTo>
                <a:lnTo>
                  <a:pt x="889" y="655"/>
                </a:lnTo>
                <a:lnTo>
                  <a:pt x="868" y="680"/>
                </a:lnTo>
                <a:lnTo>
                  <a:pt x="850" y="694"/>
                </a:lnTo>
                <a:lnTo>
                  <a:pt x="826" y="705"/>
                </a:lnTo>
                <a:lnTo>
                  <a:pt x="797" y="714"/>
                </a:lnTo>
                <a:lnTo>
                  <a:pt x="766" y="719"/>
                </a:lnTo>
                <a:lnTo>
                  <a:pt x="736" y="719"/>
                </a:lnTo>
                <a:lnTo>
                  <a:pt x="708" y="714"/>
                </a:lnTo>
                <a:lnTo>
                  <a:pt x="673" y="702"/>
                </a:lnTo>
                <a:lnTo>
                  <a:pt x="653" y="690"/>
                </a:lnTo>
                <a:lnTo>
                  <a:pt x="634" y="705"/>
                </a:lnTo>
                <a:lnTo>
                  <a:pt x="614" y="714"/>
                </a:lnTo>
                <a:lnTo>
                  <a:pt x="590" y="723"/>
                </a:lnTo>
                <a:lnTo>
                  <a:pt x="556" y="730"/>
                </a:lnTo>
                <a:lnTo>
                  <a:pt x="519" y="727"/>
                </a:lnTo>
                <a:lnTo>
                  <a:pt x="481" y="720"/>
                </a:lnTo>
                <a:lnTo>
                  <a:pt x="453" y="709"/>
                </a:lnTo>
                <a:lnTo>
                  <a:pt x="426" y="689"/>
                </a:lnTo>
                <a:lnTo>
                  <a:pt x="410" y="669"/>
                </a:lnTo>
                <a:lnTo>
                  <a:pt x="382" y="676"/>
                </a:lnTo>
                <a:lnTo>
                  <a:pt x="350" y="681"/>
                </a:lnTo>
                <a:lnTo>
                  <a:pt x="311" y="680"/>
                </a:lnTo>
                <a:lnTo>
                  <a:pt x="278" y="670"/>
                </a:lnTo>
                <a:lnTo>
                  <a:pt x="253" y="658"/>
                </a:lnTo>
                <a:lnTo>
                  <a:pt x="231" y="644"/>
                </a:lnTo>
                <a:lnTo>
                  <a:pt x="214" y="624"/>
                </a:lnTo>
                <a:lnTo>
                  <a:pt x="210" y="603"/>
                </a:lnTo>
                <a:lnTo>
                  <a:pt x="191" y="608"/>
                </a:lnTo>
                <a:lnTo>
                  <a:pt x="160" y="609"/>
                </a:lnTo>
                <a:lnTo>
                  <a:pt x="126" y="603"/>
                </a:lnTo>
                <a:lnTo>
                  <a:pt x="90" y="589"/>
                </a:lnTo>
                <a:lnTo>
                  <a:pt x="66" y="571"/>
                </a:lnTo>
                <a:lnTo>
                  <a:pt x="46" y="546"/>
                </a:lnTo>
                <a:lnTo>
                  <a:pt x="34" y="521"/>
                </a:lnTo>
                <a:lnTo>
                  <a:pt x="31" y="487"/>
                </a:lnTo>
                <a:lnTo>
                  <a:pt x="32" y="463"/>
                </a:lnTo>
                <a:lnTo>
                  <a:pt x="43" y="428"/>
                </a:lnTo>
                <a:lnTo>
                  <a:pt x="18" y="409"/>
                </a:lnTo>
                <a:lnTo>
                  <a:pt x="6" y="383"/>
                </a:lnTo>
                <a:lnTo>
                  <a:pt x="0" y="355"/>
                </a:lnTo>
                <a:lnTo>
                  <a:pt x="0" y="327"/>
                </a:lnTo>
                <a:lnTo>
                  <a:pt x="7" y="296"/>
                </a:lnTo>
                <a:lnTo>
                  <a:pt x="23" y="274"/>
                </a:lnTo>
                <a:lnTo>
                  <a:pt x="50" y="249"/>
                </a:lnTo>
                <a:lnTo>
                  <a:pt x="78" y="230"/>
                </a:lnTo>
                <a:lnTo>
                  <a:pt x="112" y="213"/>
                </a:lnTo>
                <a:lnTo>
                  <a:pt x="155" y="201"/>
                </a:lnTo>
                <a:lnTo>
                  <a:pt x="195" y="194"/>
                </a:lnTo>
                <a:lnTo>
                  <a:pt x="214" y="191"/>
                </a:lnTo>
                <a:lnTo>
                  <a:pt x="215" y="172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6694560" y="4029120"/>
            <a:ext cx="565200" cy="558720"/>
            <a:chOff x="6694560" y="4029120"/>
            <a:chExt cx="565200" cy="558720"/>
          </a:xfrm>
        </p:grpSpPr>
        <p:sp>
          <p:nvSpPr>
            <p:cNvPr id="1045" name=""/>
            <p:cNvSpPr/>
            <p:nvPr/>
          </p:nvSpPr>
          <p:spPr>
            <a:xfrm>
              <a:off x="6886440" y="4405320"/>
              <a:ext cx="274680" cy="6516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40"/>
                  </a:moveTo>
                  <a:lnTo>
                    <a:pt x="130" y="40"/>
                  </a:lnTo>
                  <a:lnTo>
                    <a:pt x="172" y="0"/>
                  </a:lnTo>
                  <a:lnTo>
                    <a:pt x="40" y="0"/>
                  </a:lnTo>
                  <a:lnTo>
                    <a:pt x="0" y="4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66000" y="4417920"/>
              <a:ext cx="98280" cy="334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20"/>
                  </a:moveTo>
                  <a:lnTo>
                    <a:pt x="61" y="2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91280" y="4400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1"/>
                  </a:moveTo>
                  <a:lnTo>
                    <a:pt x="44" y="0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55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86440" y="4471920"/>
              <a:ext cx="20664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66000" y="4408560"/>
              <a:ext cx="141120" cy="4428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0" y="7"/>
                  </a:lnTo>
                  <a:lnTo>
                    <a:pt x="62" y="7"/>
                  </a:lnTo>
                  <a:lnTo>
                    <a:pt x="62" y="27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08680" y="4075200"/>
              <a:ext cx="403200" cy="33660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3440" y="450540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0" y="50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17"/>
                  </a:lnTo>
                  <a:lnTo>
                    <a:pt x="0" y="5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213680" y="4029120"/>
              <a:ext cx="46080" cy="384120"/>
            </a:xfrm>
            <a:custGeom>
              <a:avLst/>
              <a:gdLst/>
              <a:ahLst/>
              <a:rect l="l" t="t" r="r" b="b"/>
              <a:pathLst>
                <a:path w="29" h="242">
                  <a:moveTo>
                    <a:pt x="0" y="29"/>
                  </a:moveTo>
                  <a:lnTo>
                    <a:pt x="28" y="0"/>
                  </a:lnTo>
                  <a:lnTo>
                    <a:pt x="28" y="212"/>
                  </a:lnTo>
                  <a:lnTo>
                    <a:pt x="0" y="241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05440" y="4030560"/>
              <a:ext cx="451080" cy="4464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27"/>
                  </a:moveTo>
                  <a:lnTo>
                    <a:pt x="28" y="0"/>
                  </a:lnTo>
                  <a:lnTo>
                    <a:pt x="283" y="0"/>
                  </a:lnTo>
                  <a:lnTo>
                    <a:pt x="254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48640" y="4116240"/>
              <a:ext cx="325440" cy="243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204" y="152"/>
                  </a:moveTo>
                  <a:lnTo>
                    <a:pt x="0" y="152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52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48640" y="4116240"/>
              <a:ext cx="323640" cy="243000"/>
            </a:xfrm>
            <a:custGeom>
              <a:avLst/>
              <a:gdLst/>
              <a:ahLst/>
              <a:rect l="l" t="t" r="r" b="b"/>
              <a:pathLst>
                <a:path w="204" h="153">
                  <a:moveTo>
                    <a:pt x="203" y="0"/>
                  </a:moveTo>
                  <a:lnTo>
                    <a:pt x="0" y="0"/>
                  </a:lnTo>
                  <a:lnTo>
                    <a:pt x="0" y="152"/>
                  </a:lnTo>
                  <a:lnTo>
                    <a:pt x="48" y="103"/>
                  </a:lnTo>
                  <a:lnTo>
                    <a:pt x="148" y="53"/>
                  </a:lnTo>
                  <a:lnTo>
                    <a:pt x="203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696000" y="4556160"/>
              <a:ext cx="488880" cy="31680"/>
            </a:xfrm>
            <a:custGeom>
              <a:avLst/>
              <a:gdLst/>
              <a:ahLst/>
              <a:rect l="l" t="t" r="r" b="b"/>
              <a:pathLst>
                <a:path w="308" h="20">
                  <a:moveTo>
                    <a:pt x="307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7" y="19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94560" y="4505400"/>
              <a:ext cx="547560" cy="52200"/>
            </a:xfrm>
            <a:custGeom>
              <a:avLst/>
              <a:gdLst/>
              <a:ahLst/>
              <a:rect l="l" t="t" r="r" b="b"/>
              <a:pathLst>
                <a:path w="345" h="33">
                  <a:moveTo>
                    <a:pt x="344" y="0"/>
                  </a:moveTo>
                  <a:lnTo>
                    <a:pt x="311" y="32"/>
                  </a:lnTo>
                  <a:lnTo>
                    <a:pt x="0" y="32"/>
                  </a:lnTo>
                  <a:lnTo>
                    <a:pt x="33" y="0"/>
                  </a:lnTo>
                  <a:lnTo>
                    <a:pt x="34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6730920" y="4514760"/>
              <a:ext cx="474840" cy="33480"/>
              <a:chOff x="6730920" y="4514760"/>
              <a:chExt cx="474840" cy="33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6761160" y="45147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750000" y="45291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740640" y="45385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730920" y="4548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6864480" y="4127400"/>
              <a:ext cx="29340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84" y="139"/>
                  </a:moveTo>
                  <a:lnTo>
                    <a:pt x="0" y="139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9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3763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657760" y="2886120"/>
            <a:ext cx="532080" cy="555480"/>
            <a:chOff x="5657760" y="2886120"/>
            <a:chExt cx="532080" cy="555480"/>
          </a:xfrm>
        </p:grpSpPr>
        <p:sp>
          <p:nvSpPr>
            <p:cNvPr id="1065" name=""/>
            <p:cNvSpPr/>
            <p:nvPr/>
          </p:nvSpPr>
          <p:spPr>
            <a:xfrm>
              <a:off x="5819760" y="3260880"/>
              <a:ext cx="27000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41"/>
                  </a:moveTo>
                  <a:lnTo>
                    <a:pt x="127" y="41"/>
                  </a:lnTo>
                  <a:lnTo>
                    <a:pt x="169" y="0"/>
                  </a:lnTo>
                  <a:lnTo>
                    <a:pt x="40" y="0"/>
                  </a:lnTo>
                  <a:lnTo>
                    <a:pt x="0" y="4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99320" y="3274920"/>
              <a:ext cx="96840" cy="3348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20"/>
                  </a:moveTo>
                  <a:lnTo>
                    <a:pt x="60" y="2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4600" y="3257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"/>
                  </a:moveTo>
                  <a:lnTo>
                    <a:pt x="43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54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19760" y="3325680"/>
              <a:ext cx="20628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99320" y="3263760"/>
              <a:ext cx="137880" cy="446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0"/>
                  </a:moveTo>
                  <a:lnTo>
                    <a:pt x="0" y="7"/>
                  </a:lnTo>
                  <a:lnTo>
                    <a:pt x="60" y="7"/>
                  </a:lnTo>
                  <a:lnTo>
                    <a:pt x="60" y="27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14960" y="3362400"/>
              <a:ext cx="5580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49"/>
                  </a:moveTo>
                  <a:lnTo>
                    <a:pt x="0" y="32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0" y="4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43760" y="2886120"/>
              <a:ext cx="46080" cy="380880"/>
            </a:xfrm>
            <a:custGeom>
              <a:avLst/>
              <a:gdLst/>
              <a:ahLst/>
              <a:rect l="l" t="t" r="r" b="b"/>
              <a:pathLst>
                <a:path w="29" h="240">
                  <a:moveTo>
                    <a:pt x="0" y="29"/>
                  </a:moveTo>
                  <a:lnTo>
                    <a:pt x="28" y="0"/>
                  </a:lnTo>
                  <a:lnTo>
                    <a:pt x="28" y="210"/>
                  </a:lnTo>
                  <a:lnTo>
                    <a:pt x="0" y="239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42000" y="2887560"/>
              <a:ext cx="446040" cy="44640"/>
            </a:xfrm>
            <a:custGeom>
              <a:avLst/>
              <a:gdLst/>
              <a:ahLst/>
              <a:rect l="l" t="t" r="r" b="b"/>
              <a:pathLst>
                <a:path w="281" h="28">
                  <a:moveTo>
                    <a:pt x="0" y="27"/>
                  </a:moveTo>
                  <a:lnTo>
                    <a:pt x="28" y="0"/>
                  </a:lnTo>
                  <a:lnTo>
                    <a:pt x="280" y="0"/>
                  </a:lnTo>
                  <a:lnTo>
                    <a:pt x="252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5657760" y="3370320"/>
              <a:ext cx="476280" cy="34920"/>
              <a:chOff x="5657760" y="3370320"/>
              <a:chExt cx="476280" cy="34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5692680" y="33703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683320" y="338148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672160" y="3394080"/>
                <a:ext cx="4428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657760" y="3405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742000" y="2930400"/>
              <a:ext cx="401760" cy="33516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153"/>
                  </a:moveTo>
                  <a:lnTo>
                    <a:pt x="0" y="153"/>
                  </a:lnTo>
                  <a:lnTo>
                    <a:pt x="0" y="0"/>
                  </a:lnTo>
                  <a:lnTo>
                    <a:pt x="200" y="0"/>
                  </a:lnTo>
                  <a:lnTo>
                    <a:pt x="200" y="153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8" y="104"/>
                  </a:lnTo>
                  <a:lnTo>
                    <a:pt x="146" y="54"/>
                  </a:lnTo>
                  <a:lnTo>
                    <a:pt x="20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92760" y="298620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8d8db1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931000" y="5324400"/>
            <a:ext cx="563400" cy="557280"/>
            <a:chOff x="5931000" y="5324400"/>
            <a:chExt cx="563400" cy="557280"/>
          </a:xfrm>
        </p:grpSpPr>
        <p:grpSp>
          <p:nvGrpSpPr>
            <p:cNvPr id="1083" name=""/>
            <p:cNvGrpSpPr/>
            <p:nvPr/>
          </p:nvGrpSpPr>
          <p:grpSpPr>
            <a:xfrm>
              <a:off x="5931000" y="5324400"/>
              <a:ext cx="563400" cy="557280"/>
              <a:chOff x="5931000" y="5324400"/>
              <a:chExt cx="563400" cy="557280"/>
            </a:xfrm>
          </p:grpSpPr>
          <p:sp>
            <p:nvSpPr>
              <p:cNvPr id="1084" name=""/>
              <p:cNvSpPr/>
              <p:nvPr/>
            </p:nvSpPr>
            <p:spPr>
              <a:xfrm>
                <a:off x="6124680" y="569916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3880" y="571356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29520" y="569592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24680" y="576432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03880" y="570240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19880" y="580068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48320" y="532440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46920" y="532620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932440" y="585144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931000" y="580068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5962680" y="5808600"/>
                <a:ext cx="476280" cy="34920"/>
                <a:chOff x="5962680" y="5808600"/>
                <a:chExt cx="476280" cy="349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997600" y="5808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987880" y="581976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977080" y="583236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962680" y="584352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6046920" y="536904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6097680" y="542448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af001b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1258920" y="3608280"/>
            <a:ext cx="2628720" cy="1498680"/>
          </a:xfrm>
          <a:custGeom>
            <a:avLst/>
            <a:gdLst/>
            <a:ahLst/>
            <a:rect l="l" t="t" r="r" b="b"/>
            <a:pathLst>
              <a:path w="1656" h="944">
                <a:moveTo>
                  <a:pt x="263" y="223"/>
                </a:moveTo>
                <a:lnTo>
                  <a:pt x="276" y="197"/>
                </a:lnTo>
                <a:lnTo>
                  <a:pt x="297" y="170"/>
                </a:lnTo>
                <a:lnTo>
                  <a:pt x="330" y="149"/>
                </a:lnTo>
                <a:lnTo>
                  <a:pt x="371" y="133"/>
                </a:lnTo>
                <a:lnTo>
                  <a:pt x="405" y="124"/>
                </a:lnTo>
                <a:lnTo>
                  <a:pt x="448" y="113"/>
                </a:lnTo>
                <a:lnTo>
                  <a:pt x="512" y="109"/>
                </a:lnTo>
                <a:lnTo>
                  <a:pt x="574" y="113"/>
                </a:lnTo>
                <a:lnTo>
                  <a:pt x="632" y="124"/>
                </a:lnTo>
                <a:lnTo>
                  <a:pt x="674" y="137"/>
                </a:lnTo>
                <a:lnTo>
                  <a:pt x="698" y="94"/>
                </a:lnTo>
                <a:lnTo>
                  <a:pt x="731" y="61"/>
                </a:lnTo>
                <a:lnTo>
                  <a:pt x="776" y="34"/>
                </a:lnTo>
                <a:lnTo>
                  <a:pt x="832" y="14"/>
                </a:lnTo>
                <a:lnTo>
                  <a:pt x="903" y="1"/>
                </a:lnTo>
                <a:lnTo>
                  <a:pt x="972" y="0"/>
                </a:lnTo>
                <a:lnTo>
                  <a:pt x="1034" y="7"/>
                </a:lnTo>
                <a:lnTo>
                  <a:pt x="1102" y="23"/>
                </a:lnTo>
                <a:lnTo>
                  <a:pt x="1155" y="53"/>
                </a:lnTo>
                <a:lnTo>
                  <a:pt x="1193" y="82"/>
                </a:lnTo>
                <a:lnTo>
                  <a:pt x="1217" y="110"/>
                </a:lnTo>
                <a:lnTo>
                  <a:pt x="1222" y="146"/>
                </a:lnTo>
                <a:lnTo>
                  <a:pt x="1271" y="134"/>
                </a:lnTo>
                <a:lnTo>
                  <a:pt x="1329" y="139"/>
                </a:lnTo>
                <a:lnTo>
                  <a:pt x="1376" y="149"/>
                </a:lnTo>
                <a:lnTo>
                  <a:pt x="1417" y="175"/>
                </a:lnTo>
                <a:lnTo>
                  <a:pt x="1446" y="208"/>
                </a:lnTo>
                <a:lnTo>
                  <a:pt x="1458" y="243"/>
                </a:lnTo>
                <a:lnTo>
                  <a:pt x="1457" y="270"/>
                </a:lnTo>
                <a:lnTo>
                  <a:pt x="1485" y="269"/>
                </a:lnTo>
                <a:lnTo>
                  <a:pt x="1519" y="275"/>
                </a:lnTo>
                <a:lnTo>
                  <a:pt x="1553" y="287"/>
                </a:lnTo>
                <a:lnTo>
                  <a:pt x="1581" y="302"/>
                </a:lnTo>
                <a:lnTo>
                  <a:pt x="1599" y="314"/>
                </a:lnTo>
                <a:lnTo>
                  <a:pt x="1615" y="330"/>
                </a:lnTo>
                <a:lnTo>
                  <a:pt x="1633" y="351"/>
                </a:lnTo>
                <a:lnTo>
                  <a:pt x="1643" y="377"/>
                </a:lnTo>
                <a:lnTo>
                  <a:pt x="1645" y="396"/>
                </a:lnTo>
                <a:lnTo>
                  <a:pt x="1640" y="416"/>
                </a:lnTo>
                <a:lnTo>
                  <a:pt x="1628" y="441"/>
                </a:lnTo>
                <a:lnTo>
                  <a:pt x="1643" y="468"/>
                </a:lnTo>
                <a:lnTo>
                  <a:pt x="1649" y="492"/>
                </a:lnTo>
                <a:lnTo>
                  <a:pt x="1653" y="519"/>
                </a:lnTo>
                <a:lnTo>
                  <a:pt x="1645" y="550"/>
                </a:lnTo>
                <a:lnTo>
                  <a:pt x="1639" y="570"/>
                </a:lnTo>
                <a:lnTo>
                  <a:pt x="1620" y="592"/>
                </a:lnTo>
                <a:lnTo>
                  <a:pt x="1645" y="624"/>
                </a:lnTo>
                <a:lnTo>
                  <a:pt x="1653" y="645"/>
                </a:lnTo>
                <a:lnTo>
                  <a:pt x="1655" y="673"/>
                </a:lnTo>
                <a:lnTo>
                  <a:pt x="1649" y="702"/>
                </a:lnTo>
                <a:lnTo>
                  <a:pt x="1635" y="734"/>
                </a:lnTo>
                <a:lnTo>
                  <a:pt x="1615" y="758"/>
                </a:lnTo>
                <a:lnTo>
                  <a:pt x="1586" y="779"/>
                </a:lnTo>
                <a:lnTo>
                  <a:pt x="1537" y="802"/>
                </a:lnTo>
                <a:lnTo>
                  <a:pt x="1485" y="809"/>
                </a:lnTo>
                <a:lnTo>
                  <a:pt x="1437" y="802"/>
                </a:lnTo>
                <a:lnTo>
                  <a:pt x="1405" y="791"/>
                </a:lnTo>
                <a:lnTo>
                  <a:pt x="1384" y="814"/>
                </a:lnTo>
                <a:lnTo>
                  <a:pt x="1362" y="832"/>
                </a:lnTo>
                <a:lnTo>
                  <a:pt x="1342" y="844"/>
                </a:lnTo>
                <a:lnTo>
                  <a:pt x="1304" y="859"/>
                </a:lnTo>
                <a:lnTo>
                  <a:pt x="1271" y="869"/>
                </a:lnTo>
                <a:lnTo>
                  <a:pt x="1222" y="877"/>
                </a:lnTo>
                <a:lnTo>
                  <a:pt x="1175" y="875"/>
                </a:lnTo>
                <a:lnTo>
                  <a:pt x="1127" y="865"/>
                </a:lnTo>
                <a:lnTo>
                  <a:pt x="1087" y="847"/>
                </a:lnTo>
                <a:lnTo>
                  <a:pt x="1062" y="878"/>
                </a:lnTo>
                <a:lnTo>
                  <a:pt x="1039" y="896"/>
                </a:lnTo>
                <a:lnTo>
                  <a:pt x="1010" y="911"/>
                </a:lnTo>
                <a:lnTo>
                  <a:pt x="975" y="923"/>
                </a:lnTo>
                <a:lnTo>
                  <a:pt x="936" y="929"/>
                </a:lnTo>
                <a:lnTo>
                  <a:pt x="899" y="929"/>
                </a:lnTo>
                <a:lnTo>
                  <a:pt x="865" y="923"/>
                </a:lnTo>
                <a:lnTo>
                  <a:pt x="823" y="907"/>
                </a:lnTo>
                <a:lnTo>
                  <a:pt x="798" y="892"/>
                </a:lnTo>
                <a:lnTo>
                  <a:pt x="776" y="911"/>
                </a:lnTo>
                <a:lnTo>
                  <a:pt x="751" y="923"/>
                </a:lnTo>
                <a:lnTo>
                  <a:pt x="722" y="934"/>
                </a:lnTo>
                <a:lnTo>
                  <a:pt x="679" y="943"/>
                </a:lnTo>
                <a:lnTo>
                  <a:pt x="635" y="940"/>
                </a:lnTo>
                <a:lnTo>
                  <a:pt x="589" y="931"/>
                </a:lnTo>
                <a:lnTo>
                  <a:pt x="554" y="916"/>
                </a:lnTo>
                <a:lnTo>
                  <a:pt x="521" y="890"/>
                </a:lnTo>
                <a:lnTo>
                  <a:pt x="502" y="865"/>
                </a:lnTo>
                <a:lnTo>
                  <a:pt x="467" y="874"/>
                </a:lnTo>
                <a:lnTo>
                  <a:pt x="428" y="880"/>
                </a:lnTo>
                <a:lnTo>
                  <a:pt x="380" y="878"/>
                </a:lnTo>
                <a:lnTo>
                  <a:pt x="339" y="866"/>
                </a:lnTo>
                <a:lnTo>
                  <a:pt x="309" y="850"/>
                </a:lnTo>
                <a:lnTo>
                  <a:pt x="283" y="832"/>
                </a:lnTo>
                <a:lnTo>
                  <a:pt x="262" y="806"/>
                </a:lnTo>
                <a:lnTo>
                  <a:pt x="256" y="779"/>
                </a:lnTo>
                <a:lnTo>
                  <a:pt x="234" y="785"/>
                </a:lnTo>
                <a:lnTo>
                  <a:pt x="196" y="787"/>
                </a:lnTo>
                <a:lnTo>
                  <a:pt x="154" y="779"/>
                </a:lnTo>
                <a:lnTo>
                  <a:pt x="110" y="761"/>
                </a:lnTo>
                <a:lnTo>
                  <a:pt x="81" y="737"/>
                </a:lnTo>
                <a:lnTo>
                  <a:pt x="56" y="706"/>
                </a:lnTo>
                <a:lnTo>
                  <a:pt x="42" y="673"/>
                </a:lnTo>
                <a:lnTo>
                  <a:pt x="38" y="630"/>
                </a:lnTo>
                <a:lnTo>
                  <a:pt x="39" y="598"/>
                </a:lnTo>
                <a:lnTo>
                  <a:pt x="52" y="553"/>
                </a:lnTo>
                <a:lnTo>
                  <a:pt x="22" y="528"/>
                </a:lnTo>
                <a:lnTo>
                  <a:pt x="7" y="495"/>
                </a:lnTo>
                <a:lnTo>
                  <a:pt x="0" y="459"/>
                </a:lnTo>
                <a:lnTo>
                  <a:pt x="0" y="423"/>
                </a:lnTo>
                <a:lnTo>
                  <a:pt x="9" y="383"/>
                </a:lnTo>
                <a:lnTo>
                  <a:pt x="28" y="354"/>
                </a:lnTo>
                <a:lnTo>
                  <a:pt x="61" y="321"/>
                </a:lnTo>
                <a:lnTo>
                  <a:pt x="96" y="297"/>
                </a:lnTo>
                <a:lnTo>
                  <a:pt x="137" y="275"/>
                </a:lnTo>
                <a:lnTo>
                  <a:pt x="189" y="260"/>
                </a:lnTo>
                <a:lnTo>
                  <a:pt x="238" y="251"/>
                </a:lnTo>
                <a:lnTo>
                  <a:pt x="262" y="246"/>
                </a:lnTo>
                <a:lnTo>
                  <a:pt x="263" y="223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981080" y="5335560"/>
            <a:ext cx="349200" cy="636480"/>
            <a:chOff x="1981080" y="5335560"/>
            <a:chExt cx="349200" cy="636480"/>
          </a:xfrm>
        </p:grpSpPr>
        <p:sp>
          <p:nvSpPr>
            <p:cNvPr id="1105" name=""/>
            <p:cNvSpPr/>
            <p:nvPr/>
          </p:nvSpPr>
          <p:spPr>
            <a:xfrm>
              <a:off x="2022480" y="544680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043000" y="5473800"/>
              <a:ext cx="50760" cy="10620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182680" y="5530680"/>
              <a:ext cx="10476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84480" y="533556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23920" y="563868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049480" y="560232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021040" y="5335560"/>
              <a:ext cx="271440" cy="11124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23920" y="588816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4480" y="582444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81080" y="5931000"/>
              <a:ext cx="239760" cy="4104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23920" y="593424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609480" y="3811680"/>
            <a:ext cx="349200" cy="636480"/>
            <a:chOff x="609480" y="3811680"/>
            <a:chExt cx="349200" cy="636480"/>
          </a:xfrm>
        </p:grpSpPr>
        <p:sp>
          <p:nvSpPr>
            <p:cNvPr id="1117" name=""/>
            <p:cNvSpPr/>
            <p:nvPr/>
          </p:nvSpPr>
          <p:spPr>
            <a:xfrm>
              <a:off x="650880" y="39225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1400" y="39495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811080" y="40064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12880" y="38116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2320" y="41148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7880" y="40784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9440" y="38116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52320" y="43639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12880" y="43005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9480" y="44067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2320" y="44100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981080" y="2897280"/>
            <a:ext cx="349200" cy="636480"/>
            <a:chOff x="1981080" y="2897280"/>
            <a:chExt cx="349200" cy="636480"/>
          </a:xfrm>
        </p:grpSpPr>
        <p:sp>
          <p:nvSpPr>
            <p:cNvPr id="1129" name=""/>
            <p:cNvSpPr/>
            <p:nvPr/>
          </p:nvSpPr>
          <p:spPr>
            <a:xfrm>
              <a:off x="2022480" y="30081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43000" y="30351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182680" y="30920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4480" y="28972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23920" y="32004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049480" y="31640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21040" y="28972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f6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23920" y="34495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4480" y="33861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981080" y="34923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23920" y="34956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2057400" y="4343400"/>
            <a:ext cx="457344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624"/>
                </a:moveTo>
                <a:lnTo>
                  <a:pt x="0" y="0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82480" y="3048120"/>
            <a:ext cx="11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电子邮件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990720" y="3352680"/>
            <a:ext cx="4725720" cy="916200"/>
          </a:xfrm>
          <a:custGeom>
            <a:avLst/>
            <a:gdLst/>
            <a:ahLst/>
            <a:rect l="l" t="t" r="r" b="b"/>
            <a:pathLst>
              <a:path w="2977" h="577">
                <a:moveTo>
                  <a:pt x="0" y="576"/>
                </a:moveTo>
                <a:lnTo>
                  <a:pt x="2400" y="576"/>
                </a:lnTo>
                <a:lnTo>
                  <a:pt x="2976" y="0"/>
                </a:lnTo>
              </a:path>
            </a:pathLst>
          </a:custGeom>
          <a:noFill/>
          <a:ln cap="rnd" w="25560">
            <a:solidFill>
              <a:srgbClr val="0099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209680" y="3581280"/>
            <a:ext cx="3888000" cy="1677960"/>
          </a:xfrm>
          <a:custGeom>
            <a:avLst/>
            <a:gdLst/>
            <a:ahLst/>
            <a:rect l="l" t="t" r="r" b="b"/>
            <a:pathLst>
              <a:path w="2449" h="1057">
                <a:moveTo>
                  <a:pt x="0" y="0"/>
                </a:moveTo>
                <a:lnTo>
                  <a:pt x="0" y="24"/>
                </a:lnTo>
                <a:lnTo>
                  <a:pt x="0" y="384"/>
                </a:lnTo>
                <a:lnTo>
                  <a:pt x="1776" y="384"/>
                </a:lnTo>
                <a:lnTo>
                  <a:pt x="2448" y="1056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7672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724280" y="457200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800600" y="4648320"/>
            <a:ext cx="17460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457200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528880" y="5942160"/>
            <a:ext cx="232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个外部邮件多人共享，并有独立信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内部可用邮件相互通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3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重要信件可用公告栏通知每个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457200" y="304920"/>
            <a:ext cx="868680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 -----Intrane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子邮件服务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4120" y="1219320"/>
            <a:ext cx="2151000" cy="1160280"/>
            <a:chOff x="5334120" y="1219320"/>
            <a:chExt cx="2151000" cy="1160280"/>
          </a:xfrm>
        </p:grpSpPr>
        <p:sp>
          <p:nvSpPr>
            <p:cNvPr id="1152" name=""/>
            <p:cNvSpPr/>
            <p:nvPr/>
          </p:nvSpPr>
          <p:spPr>
            <a:xfrm>
              <a:off x="5334120" y="1219320"/>
              <a:ext cx="2151000" cy="116028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79440" y="163008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4" name="CA300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1295280" cy="89676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86600" y="2438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87840" y="480204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335560" y="327780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213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63560" y="426708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133720" y="343044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59040" y="4419720"/>
            <a:ext cx="98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30720" y="3760920"/>
            <a:ext cx="2151000" cy="1160280"/>
          </a:xfrm>
          <a:custGeom>
            <a:avLst/>
            <a:gdLst/>
            <a:ahLst/>
            <a:rect l="l" t="t" r="r" b="b"/>
            <a:pathLst>
              <a:path w="1355" h="731">
                <a:moveTo>
                  <a:pt x="215" y="172"/>
                </a:moveTo>
                <a:lnTo>
                  <a:pt x="226" y="152"/>
                </a:lnTo>
                <a:lnTo>
                  <a:pt x="243" y="132"/>
                </a:lnTo>
                <a:lnTo>
                  <a:pt x="270" y="115"/>
                </a:lnTo>
                <a:lnTo>
                  <a:pt x="304" y="103"/>
                </a:lnTo>
                <a:lnTo>
                  <a:pt x="332" y="96"/>
                </a:lnTo>
                <a:lnTo>
                  <a:pt x="366" y="88"/>
                </a:lnTo>
                <a:lnTo>
                  <a:pt x="419" y="84"/>
                </a:lnTo>
                <a:lnTo>
                  <a:pt x="470" y="88"/>
                </a:lnTo>
                <a:lnTo>
                  <a:pt x="517" y="96"/>
                </a:lnTo>
                <a:lnTo>
                  <a:pt x="551" y="106"/>
                </a:lnTo>
                <a:lnTo>
                  <a:pt x="571" y="73"/>
                </a:lnTo>
                <a:lnTo>
                  <a:pt x="598" y="47"/>
                </a:lnTo>
                <a:lnTo>
                  <a:pt x="634" y="26"/>
                </a:lnTo>
                <a:lnTo>
                  <a:pt x="681" y="11"/>
                </a:lnTo>
                <a:lnTo>
                  <a:pt x="739" y="1"/>
                </a:lnTo>
                <a:lnTo>
                  <a:pt x="795" y="0"/>
                </a:lnTo>
                <a:lnTo>
                  <a:pt x="846" y="5"/>
                </a:lnTo>
                <a:lnTo>
                  <a:pt x="902" y="18"/>
                </a:lnTo>
                <a:lnTo>
                  <a:pt x="945" y="41"/>
                </a:lnTo>
                <a:lnTo>
                  <a:pt x="976" y="63"/>
                </a:lnTo>
                <a:lnTo>
                  <a:pt x="996" y="85"/>
                </a:lnTo>
                <a:lnTo>
                  <a:pt x="1000" y="113"/>
                </a:lnTo>
                <a:lnTo>
                  <a:pt x="1040" y="104"/>
                </a:lnTo>
                <a:lnTo>
                  <a:pt x="1087" y="107"/>
                </a:lnTo>
                <a:lnTo>
                  <a:pt x="1126" y="115"/>
                </a:lnTo>
                <a:lnTo>
                  <a:pt x="1159" y="135"/>
                </a:lnTo>
                <a:lnTo>
                  <a:pt x="1183" y="161"/>
                </a:lnTo>
                <a:lnTo>
                  <a:pt x="1193" y="188"/>
                </a:lnTo>
                <a:lnTo>
                  <a:pt x="1192" y="209"/>
                </a:lnTo>
                <a:lnTo>
                  <a:pt x="1214" y="208"/>
                </a:lnTo>
                <a:lnTo>
                  <a:pt x="1242" y="213"/>
                </a:lnTo>
                <a:lnTo>
                  <a:pt x="1270" y="222"/>
                </a:lnTo>
                <a:lnTo>
                  <a:pt x="1293" y="234"/>
                </a:lnTo>
                <a:lnTo>
                  <a:pt x="1308" y="243"/>
                </a:lnTo>
                <a:lnTo>
                  <a:pt x="1321" y="256"/>
                </a:lnTo>
                <a:lnTo>
                  <a:pt x="1336" y="272"/>
                </a:lnTo>
                <a:lnTo>
                  <a:pt x="1344" y="292"/>
                </a:lnTo>
                <a:lnTo>
                  <a:pt x="1346" y="307"/>
                </a:lnTo>
                <a:lnTo>
                  <a:pt x="1342" y="322"/>
                </a:lnTo>
                <a:lnTo>
                  <a:pt x="1332" y="341"/>
                </a:lnTo>
                <a:lnTo>
                  <a:pt x="1344" y="362"/>
                </a:lnTo>
                <a:lnTo>
                  <a:pt x="1349" y="381"/>
                </a:lnTo>
                <a:lnTo>
                  <a:pt x="1352" y="402"/>
                </a:lnTo>
                <a:lnTo>
                  <a:pt x="1346" y="426"/>
                </a:lnTo>
                <a:lnTo>
                  <a:pt x="1341" y="441"/>
                </a:lnTo>
                <a:lnTo>
                  <a:pt x="1325" y="458"/>
                </a:lnTo>
                <a:lnTo>
                  <a:pt x="1346" y="483"/>
                </a:lnTo>
                <a:lnTo>
                  <a:pt x="1352" y="499"/>
                </a:lnTo>
                <a:lnTo>
                  <a:pt x="1354" y="521"/>
                </a:lnTo>
                <a:lnTo>
                  <a:pt x="1349" y="543"/>
                </a:lnTo>
                <a:lnTo>
                  <a:pt x="1337" y="568"/>
                </a:lnTo>
                <a:lnTo>
                  <a:pt x="1321" y="587"/>
                </a:lnTo>
                <a:lnTo>
                  <a:pt x="1297" y="603"/>
                </a:lnTo>
                <a:lnTo>
                  <a:pt x="1258" y="621"/>
                </a:lnTo>
                <a:lnTo>
                  <a:pt x="1214" y="626"/>
                </a:lnTo>
                <a:lnTo>
                  <a:pt x="1176" y="621"/>
                </a:lnTo>
                <a:lnTo>
                  <a:pt x="1150" y="612"/>
                </a:lnTo>
                <a:lnTo>
                  <a:pt x="1133" y="630"/>
                </a:lnTo>
                <a:lnTo>
                  <a:pt x="1114" y="644"/>
                </a:lnTo>
                <a:lnTo>
                  <a:pt x="1098" y="653"/>
                </a:lnTo>
                <a:lnTo>
                  <a:pt x="1067" y="665"/>
                </a:lnTo>
                <a:lnTo>
                  <a:pt x="1040" y="673"/>
                </a:lnTo>
                <a:lnTo>
                  <a:pt x="1000" y="679"/>
                </a:lnTo>
                <a:lnTo>
                  <a:pt x="961" y="677"/>
                </a:lnTo>
                <a:lnTo>
                  <a:pt x="922" y="669"/>
                </a:lnTo>
                <a:lnTo>
                  <a:pt x="889" y="655"/>
                </a:lnTo>
                <a:lnTo>
                  <a:pt x="868" y="680"/>
                </a:lnTo>
                <a:lnTo>
                  <a:pt x="850" y="694"/>
                </a:lnTo>
                <a:lnTo>
                  <a:pt x="826" y="705"/>
                </a:lnTo>
                <a:lnTo>
                  <a:pt x="797" y="714"/>
                </a:lnTo>
                <a:lnTo>
                  <a:pt x="766" y="719"/>
                </a:lnTo>
                <a:lnTo>
                  <a:pt x="736" y="719"/>
                </a:lnTo>
                <a:lnTo>
                  <a:pt x="708" y="714"/>
                </a:lnTo>
                <a:lnTo>
                  <a:pt x="673" y="702"/>
                </a:lnTo>
                <a:lnTo>
                  <a:pt x="653" y="690"/>
                </a:lnTo>
                <a:lnTo>
                  <a:pt x="634" y="705"/>
                </a:lnTo>
                <a:lnTo>
                  <a:pt x="614" y="714"/>
                </a:lnTo>
                <a:lnTo>
                  <a:pt x="590" y="723"/>
                </a:lnTo>
                <a:lnTo>
                  <a:pt x="556" y="730"/>
                </a:lnTo>
                <a:lnTo>
                  <a:pt x="519" y="727"/>
                </a:lnTo>
                <a:lnTo>
                  <a:pt x="481" y="720"/>
                </a:lnTo>
                <a:lnTo>
                  <a:pt x="453" y="709"/>
                </a:lnTo>
                <a:lnTo>
                  <a:pt x="426" y="689"/>
                </a:lnTo>
                <a:lnTo>
                  <a:pt x="410" y="669"/>
                </a:lnTo>
                <a:lnTo>
                  <a:pt x="382" y="676"/>
                </a:lnTo>
                <a:lnTo>
                  <a:pt x="350" y="681"/>
                </a:lnTo>
                <a:lnTo>
                  <a:pt x="311" y="680"/>
                </a:lnTo>
                <a:lnTo>
                  <a:pt x="278" y="670"/>
                </a:lnTo>
                <a:lnTo>
                  <a:pt x="253" y="658"/>
                </a:lnTo>
                <a:lnTo>
                  <a:pt x="231" y="644"/>
                </a:lnTo>
                <a:lnTo>
                  <a:pt x="214" y="624"/>
                </a:lnTo>
                <a:lnTo>
                  <a:pt x="210" y="603"/>
                </a:lnTo>
                <a:lnTo>
                  <a:pt x="191" y="608"/>
                </a:lnTo>
                <a:lnTo>
                  <a:pt x="160" y="609"/>
                </a:lnTo>
                <a:lnTo>
                  <a:pt x="126" y="603"/>
                </a:lnTo>
                <a:lnTo>
                  <a:pt x="90" y="589"/>
                </a:lnTo>
                <a:lnTo>
                  <a:pt x="66" y="571"/>
                </a:lnTo>
                <a:lnTo>
                  <a:pt x="46" y="546"/>
                </a:lnTo>
                <a:lnTo>
                  <a:pt x="34" y="521"/>
                </a:lnTo>
                <a:lnTo>
                  <a:pt x="31" y="487"/>
                </a:lnTo>
                <a:lnTo>
                  <a:pt x="32" y="463"/>
                </a:lnTo>
                <a:lnTo>
                  <a:pt x="43" y="428"/>
                </a:lnTo>
                <a:lnTo>
                  <a:pt x="18" y="409"/>
                </a:lnTo>
                <a:lnTo>
                  <a:pt x="6" y="383"/>
                </a:lnTo>
                <a:lnTo>
                  <a:pt x="0" y="355"/>
                </a:lnTo>
                <a:lnTo>
                  <a:pt x="0" y="327"/>
                </a:lnTo>
                <a:lnTo>
                  <a:pt x="7" y="296"/>
                </a:lnTo>
                <a:lnTo>
                  <a:pt x="23" y="274"/>
                </a:lnTo>
                <a:lnTo>
                  <a:pt x="50" y="249"/>
                </a:lnTo>
                <a:lnTo>
                  <a:pt x="78" y="230"/>
                </a:lnTo>
                <a:lnTo>
                  <a:pt x="112" y="213"/>
                </a:lnTo>
                <a:lnTo>
                  <a:pt x="155" y="201"/>
                </a:lnTo>
                <a:lnTo>
                  <a:pt x="195" y="194"/>
                </a:lnTo>
                <a:lnTo>
                  <a:pt x="214" y="191"/>
                </a:lnTo>
                <a:lnTo>
                  <a:pt x="215" y="172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6694560" y="4029120"/>
            <a:ext cx="565200" cy="558720"/>
            <a:chOff x="6694560" y="4029120"/>
            <a:chExt cx="565200" cy="558720"/>
          </a:xfrm>
        </p:grpSpPr>
        <p:sp>
          <p:nvSpPr>
            <p:cNvPr id="1166" name=""/>
            <p:cNvSpPr/>
            <p:nvPr/>
          </p:nvSpPr>
          <p:spPr>
            <a:xfrm>
              <a:off x="6886440" y="4405320"/>
              <a:ext cx="274680" cy="6516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40"/>
                  </a:moveTo>
                  <a:lnTo>
                    <a:pt x="130" y="40"/>
                  </a:lnTo>
                  <a:lnTo>
                    <a:pt x="172" y="0"/>
                  </a:lnTo>
                  <a:lnTo>
                    <a:pt x="40" y="0"/>
                  </a:lnTo>
                  <a:lnTo>
                    <a:pt x="0" y="4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66000" y="4417920"/>
              <a:ext cx="98280" cy="334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20"/>
                  </a:moveTo>
                  <a:lnTo>
                    <a:pt x="61" y="2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91280" y="4400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1"/>
                  </a:moveTo>
                  <a:lnTo>
                    <a:pt x="44" y="0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55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86440" y="4471920"/>
              <a:ext cx="20664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66000" y="4408560"/>
              <a:ext cx="141120" cy="4428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0" y="7"/>
                  </a:lnTo>
                  <a:lnTo>
                    <a:pt x="62" y="7"/>
                  </a:lnTo>
                  <a:lnTo>
                    <a:pt x="62" y="27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08680" y="4075200"/>
              <a:ext cx="403200" cy="33660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83440" y="450540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0" y="50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17"/>
                  </a:lnTo>
                  <a:lnTo>
                    <a:pt x="0" y="5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13680" y="4029120"/>
              <a:ext cx="46080" cy="384120"/>
            </a:xfrm>
            <a:custGeom>
              <a:avLst/>
              <a:gdLst/>
              <a:ahLst/>
              <a:rect l="l" t="t" r="r" b="b"/>
              <a:pathLst>
                <a:path w="29" h="242">
                  <a:moveTo>
                    <a:pt x="0" y="29"/>
                  </a:moveTo>
                  <a:lnTo>
                    <a:pt x="28" y="0"/>
                  </a:lnTo>
                  <a:lnTo>
                    <a:pt x="28" y="212"/>
                  </a:lnTo>
                  <a:lnTo>
                    <a:pt x="0" y="241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05440" y="4030560"/>
              <a:ext cx="451080" cy="4464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27"/>
                  </a:moveTo>
                  <a:lnTo>
                    <a:pt x="28" y="0"/>
                  </a:lnTo>
                  <a:lnTo>
                    <a:pt x="283" y="0"/>
                  </a:lnTo>
                  <a:lnTo>
                    <a:pt x="254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848640" y="4116240"/>
              <a:ext cx="325440" cy="243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204" y="152"/>
                  </a:moveTo>
                  <a:lnTo>
                    <a:pt x="0" y="152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52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4116240"/>
              <a:ext cx="323640" cy="243000"/>
            </a:xfrm>
            <a:custGeom>
              <a:avLst/>
              <a:gdLst/>
              <a:ahLst/>
              <a:rect l="l" t="t" r="r" b="b"/>
              <a:pathLst>
                <a:path w="204" h="153">
                  <a:moveTo>
                    <a:pt x="203" y="0"/>
                  </a:moveTo>
                  <a:lnTo>
                    <a:pt x="0" y="0"/>
                  </a:lnTo>
                  <a:lnTo>
                    <a:pt x="0" y="152"/>
                  </a:lnTo>
                  <a:lnTo>
                    <a:pt x="48" y="103"/>
                  </a:lnTo>
                  <a:lnTo>
                    <a:pt x="148" y="53"/>
                  </a:lnTo>
                  <a:lnTo>
                    <a:pt x="203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96000" y="4556160"/>
              <a:ext cx="488880" cy="31680"/>
            </a:xfrm>
            <a:custGeom>
              <a:avLst/>
              <a:gdLst/>
              <a:ahLst/>
              <a:rect l="l" t="t" r="r" b="b"/>
              <a:pathLst>
                <a:path w="308" h="20">
                  <a:moveTo>
                    <a:pt x="307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7" y="19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694560" y="4505400"/>
              <a:ext cx="547560" cy="52200"/>
            </a:xfrm>
            <a:custGeom>
              <a:avLst/>
              <a:gdLst/>
              <a:ahLst/>
              <a:rect l="l" t="t" r="r" b="b"/>
              <a:pathLst>
                <a:path w="345" h="33">
                  <a:moveTo>
                    <a:pt x="344" y="0"/>
                  </a:moveTo>
                  <a:lnTo>
                    <a:pt x="311" y="32"/>
                  </a:lnTo>
                  <a:lnTo>
                    <a:pt x="0" y="32"/>
                  </a:lnTo>
                  <a:lnTo>
                    <a:pt x="33" y="0"/>
                  </a:lnTo>
                  <a:lnTo>
                    <a:pt x="34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730920" y="4514760"/>
              <a:ext cx="474840" cy="33480"/>
              <a:chOff x="6730920" y="4514760"/>
              <a:chExt cx="474840" cy="33480"/>
            </a:xfrm>
          </p:grpSpPr>
          <p:sp>
            <p:nvSpPr>
              <p:cNvPr id="1180" name=""/>
              <p:cNvSpPr/>
              <p:nvPr/>
            </p:nvSpPr>
            <p:spPr>
              <a:xfrm>
                <a:off x="6761160" y="45147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50000" y="4529160"/>
                <a:ext cx="4446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740640" y="45385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730920" y="4548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864480" y="4127400"/>
              <a:ext cx="29340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84" y="139"/>
                  </a:moveTo>
                  <a:lnTo>
                    <a:pt x="0" y="139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9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3763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5657760" y="2886120"/>
            <a:ext cx="532080" cy="555480"/>
            <a:chOff x="5657760" y="2886120"/>
            <a:chExt cx="532080" cy="555480"/>
          </a:xfrm>
        </p:grpSpPr>
        <p:sp>
          <p:nvSpPr>
            <p:cNvPr id="1186" name=""/>
            <p:cNvSpPr/>
            <p:nvPr/>
          </p:nvSpPr>
          <p:spPr>
            <a:xfrm>
              <a:off x="5819760" y="3260880"/>
              <a:ext cx="27000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41"/>
                  </a:moveTo>
                  <a:lnTo>
                    <a:pt x="127" y="41"/>
                  </a:lnTo>
                  <a:lnTo>
                    <a:pt x="169" y="0"/>
                  </a:lnTo>
                  <a:lnTo>
                    <a:pt x="40" y="0"/>
                  </a:lnTo>
                  <a:lnTo>
                    <a:pt x="0" y="4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99320" y="3274920"/>
              <a:ext cx="96840" cy="3348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20"/>
                  </a:moveTo>
                  <a:lnTo>
                    <a:pt x="60" y="2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24600" y="3257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"/>
                  </a:moveTo>
                  <a:lnTo>
                    <a:pt x="43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54" y="1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819760" y="3325680"/>
              <a:ext cx="206280" cy="2700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2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9" y="16"/>
                  </a:lnTo>
                </a:path>
              </a:pathLst>
            </a:cu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99320" y="3263760"/>
              <a:ext cx="137880" cy="446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0"/>
                  </a:moveTo>
                  <a:lnTo>
                    <a:pt x="0" y="7"/>
                  </a:lnTo>
                  <a:lnTo>
                    <a:pt x="60" y="7"/>
                  </a:lnTo>
                  <a:lnTo>
                    <a:pt x="60" y="27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114960" y="3362400"/>
              <a:ext cx="5580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49"/>
                  </a:moveTo>
                  <a:lnTo>
                    <a:pt x="0" y="32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0" y="4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43760" y="2886120"/>
              <a:ext cx="46080" cy="380880"/>
            </a:xfrm>
            <a:custGeom>
              <a:avLst/>
              <a:gdLst/>
              <a:ahLst/>
              <a:rect l="l" t="t" r="r" b="b"/>
              <a:pathLst>
                <a:path w="29" h="240">
                  <a:moveTo>
                    <a:pt x="0" y="29"/>
                  </a:moveTo>
                  <a:lnTo>
                    <a:pt x="28" y="0"/>
                  </a:lnTo>
                  <a:lnTo>
                    <a:pt x="28" y="210"/>
                  </a:lnTo>
                  <a:lnTo>
                    <a:pt x="0" y="239"/>
                  </a:lnTo>
                  <a:lnTo>
                    <a:pt x="0" y="29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42000" y="2887560"/>
              <a:ext cx="446040" cy="44640"/>
            </a:xfrm>
            <a:custGeom>
              <a:avLst/>
              <a:gdLst/>
              <a:ahLst/>
              <a:rect l="l" t="t" r="r" b="b"/>
              <a:pathLst>
                <a:path w="281" h="28">
                  <a:moveTo>
                    <a:pt x="0" y="27"/>
                  </a:moveTo>
                  <a:lnTo>
                    <a:pt x="28" y="0"/>
                  </a:lnTo>
                  <a:lnTo>
                    <a:pt x="280" y="0"/>
                  </a:lnTo>
                  <a:lnTo>
                    <a:pt x="252" y="27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657760" y="3370320"/>
              <a:ext cx="476280" cy="34920"/>
              <a:chOff x="5657760" y="3370320"/>
              <a:chExt cx="476280" cy="34920"/>
            </a:xfrm>
          </p:grpSpPr>
          <p:sp>
            <p:nvSpPr>
              <p:cNvPr id="1195" name=""/>
              <p:cNvSpPr/>
              <p:nvPr/>
            </p:nvSpPr>
            <p:spPr>
              <a:xfrm>
                <a:off x="5692680" y="337032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83320" y="3381480"/>
                <a:ext cx="4413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672160" y="3394080"/>
                <a:ext cx="44280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57760" y="3405240"/>
                <a:ext cx="443160" cy="0"/>
              </a:xfrm>
              <a:prstGeom prst="line">
                <a:avLst/>
              </a:prstGeom>
              <a:ln w="12600">
                <a:solidFill>
                  <a:srgbClr val="6b64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5742000" y="2930400"/>
              <a:ext cx="401760" cy="335160"/>
            </a:xfrm>
            <a:prstGeom prst="rect">
              <a:avLst/>
            </a:prstGeom>
            <a:solidFill>
              <a:srgbClr val="9e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153"/>
                  </a:moveTo>
                  <a:lnTo>
                    <a:pt x="0" y="153"/>
                  </a:lnTo>
                  <a:lnTo>
                    <a:pt x="0" y="0"/>
                  </a:lnTo>
                  <a:lnTo>
                    <a:pt x="200" y="0"/>
                  </a:lnTo>
                  <a:lnTo>
                    <a:pt x="200" y="153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83400" y="2973240"/>
              <a:ext cx="318960" cy="24480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20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8" y="104"/>
                  </a:lnTo>
                  <a:lnTo>
                    <a:pt x="146" y="54"/>
                  </a:lnTo>
                  <a:lnTo>
                    <a:pt x="200" y="0"/>
                  </a:lnTo>
                </a:path>
              </a:pathLst>
            </a:custGeom>
            <a:solidFill>
              <a:srgbClr val="6b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760" y="298620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8d8db1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931000" y="5324400"/>
            <a:ext cx="563400" cy="557280"/>
            <a:chOff x="5931000" y="5324400"/>
            <a:chExt cx="563400" cy="557280"/>
          </a:xfrm>
        </p:grpSpPr>
        <p:grpSp>
          <p:nvGrpSpPr>
            <p:cNvPr id="1204" name=""/>
            <p:cNvGrpSpPr/>
            <p:nvPr/>
          </p:nvGrpSpPr>
          <p:grpSpPr>
            <a:xfrm>
              <a:off x="5931000" y="5324400"/>
              <a:ext cx="563400" cy="557280"/>
              <a:chOff x="5931000" y="5324400"/>
              <a:chExt cx="563400" cy="557280"/>
            </a:xfrm>
          </p:grpSpPr>
          <p:sp>
            <p:nvSpPr>
              <p:cNvPr id="1205" name=""/>
              <p:cNvSpPr/>
              <p:nvPr/>
            </p:nvSpPr>
            <p:spPr>
              <a:xfrm>
                <a:off x="6124680" y="569916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203880" y="571356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29520" y="569592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24680" y="576432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203880" y="570240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419880" y="580068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48320" y="532440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046920" y="532620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932440" y="585144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31000" y="580068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5" name=""/>
              <p:cNvGrpSpPr/>
              <p:nvPr/>
            </p:nvGrpSpPr>
            <p:grpSpPr>
              <a:xfrm>
                <a:off x="5962680" y="5808600"/>
                <a:ext cx="476280" cy="34920"/>
                <a:chOff x="5962680" y="5808600"/>
                <a:chExt cx="476280" cy="3492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5997600" y="5808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5987880" y="581976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977080" y="583236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962680" y="584352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"/>
              <p:cNvSpPr/>
              <p:nvPr/>
            </p:nvSpPr>
            <p:spPr>
              <a:xfrm>
                <a:off x="6046920" y="536904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087960" y="54118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>
              <a:off x="6097680" y="542448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af001b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258920" y="3608280"/>
            <a:ext cx="2628720" cy="1498680"/>
          </a:xfrm>
          <a:custGeom>
            <a:avLst/>
            <a:gdLst/>
            <a:ahLst/>
            <a:rect l="l" t="t" r="r" b="b"/>
            <a:pathLst>
              <a:path w="1656" h="944">
                <a:moveTo>
                  <a:pt x="263" y="223"/>
                </a:moveTo>
                <a:lnTo>
                  <a:pt x="276" y="197"/>
                </a:lnTo>
                <a:lnTo>
                  <a:pt x="297" y="170"/>
                </a:lnTo>
                <a:lnTo>
                  <a:pt x="330" y="149"/>
                </a:lnTo>
                <a:lnTo>
                  <a:pt x="371" y="133"/>
                </a:lnTo>
                <a:lnTo>
                  <a:pt x="405" y="124"/>
                </a:lnTo>
                <a:lnTo>
                  <a:pt x="448" y="113"/>
                </a:lnTo>
                <a:lnTo>
                  <a:pt x="512" y="109"/>
                </a:lnTo>
                <a:lnTo>
                  <a:pt x="574" y="113"/>
                </a:lnTo>
                <a:lnTo>
                  <a:pt x="632" y="124"/>
                </a:lnTo>
                <a:lnTo>
                  <a:pt x="674" y="137"/>
                </a:lnTo>
                <a:lnTo>
                  <a:pt x="698" y="94"/>
                </a:lnTo>
                <a:lnTo>
                  <a:pt x="731" y="61"/>
                </a:lnTo>
                <a:lnTo>
                  <a:pt x="776" y="34"/>
                </a:lnTo>
                <a:lnTo>
                  <a:pt x="832" y="14"/>
                </a:lnTo>
                <a:lnTo>
                  <a:pt x="903" y="1"/>
                </a:lnTo>
                <a:lnTo>
                  <a:pt x="972" y="0"/>
                </a:lnTo>
                <a:lnTo>
                  <a:pt x="1034" y="7"/>
                </a:lnTo>
                <a:lnTo>
                  <a:pt x="1102" y="23"/>
                </a:lnTo>
                <a:lnTo>
                  <a:pt x="1155" y="53"/>
                </a:lnTo>
                <a:lnTo>
                  <a:pt x="1193" y="82"/>
                </a:lnTo>
                <a:lnTo>
                  <a:pt x="1217" y="110"/>
                </a:lnTo>
                <a:lnTo>
                  <a:pt x="1222" y="146"/>
                </a:lnTo>
                <a:lnTo>
                  <a:pt x="1271" y="134"/>
                </a:lnTo>
                <a:lnTo>
                  <a:pt x="1329" y="139"/>
                </a:lnTo>
                <a:lnTo>
                  <a:pt x="1376" y="149"/>
                </a:lnTo>
                <a:lnTo>
                  <a:pt x="1417" y="175"/>
                </a:lnTo>
                <a:lnTo>
                  <a:pt x="1446" y="208"/>
                </a:lnTo>
                <a:lnTo>
                  <a:pt x="1458" y="243"/>
                </a:lnTo>
                <a:lnTo>
                  <a:pt x="1457" y="270"/>
                </a:lnTo>
                <a:lnTo>
                  <a:pt x="1485" y="269"/>
                </a:lnTo>
                <a:lnTo>
                  <a:pt x="1519" y="275"/>
                </a:lnTo>
                <a:lnTo>
                  <a:pt x="1553" y="287"/>
                </a:lnTo>
                <a:lnTo>
                  <a:pt x="1581" y="302"/>
                </a:lnTo>
                <a:lnTo>
                  <a:pt x="1599" y="314"/>
                </a:lnTo>
                <a:lnTo>
                  <a:pt x="1615" y="330"/>
                </a:lnTo>
                <a:lnTo>
                  <a:pt x="1633" y="351"/>
                </a:lnTo>
                <a:lnTo>
                  <a:pt x="1643" y="377"/>
                </a:lnTo>
                <a:lnTo>
                  <a:pt x="1645" y="396"/>
                </a:lnTo>
                <a:lnTo>
                  <a:pt x="1640" y="416"/>
                </a:lnTo>
                <a:lnTo>
                  <a:pt x="1628" y="441"/>
                </a:lnTo>
                <a:lnTo>
                  <a:pt x="1643" y="468"/>
                </a:lnTo>
                <a:lnTo>
                  <a:pt x="1649" y="492"/>
                </a:lnTo>
                <a:lnTo>
                  <a:pt x="1653" y="519"/>
                </a:lnTo>
                <a:lnTo>
                  <a:pt x="1645" y="550"/>
                </a:lnTo>
                <a:lnTo>
                  <a:pt x="1639" y="570"/>
                </a:lnTo>
                <a:lnTo>
                  <a:pt x="1620" y="592"/>
                </a:lnTo>
                <a:lnTo>
                  <a:pt x="1645" y="624"/>
                </a:lnTo>
                <a:lnTo>
                  <a:pt x="1653" y="645"/>
                </a:lnTo>
                <a:lnTo>
                  <a:pt x="1655" y="673"/>
                </a:lnTo>
                <a:lnTo>
                  <a:pt x="1649" y="702"/>
                </a:lnTo>
                <a:lnTo>
                  <a:pt x="1635" y="734"/>
                </a:lnTo>
                <a:lnTo>
                  <a:pt x="1615" y="758"/>
                </a:lnTo>
                <a:lnTo>
                  <a:pt x="1586" y="779"/>
                </a:lnTo>
                <a:lnTo>
                  <a:pt x="1537" y="802"/>
                </a:lnTo>
                <a:lnTo>
                  <a:pt x="1485" y="809"/>
                </a:lnTo>
                <a:lnTo>
                  <a:pt x="1437" y="802"/>
                </a:lnTo>
                <a:lnTo>
                  <a:pt x="1405" y="791"/>
                </a:lnTo>
                <a:lnTo>
                  <a:pt x="1384" y="814"/>
                </a:lnTo>
                <a:lnTo>
                  <a:pt x="1362" y="832"/>
                </a:lnTo>
                <a:lnTo>
                  <a:pt x="1342" y="844"/>
                </a:lnTo>
                <a:lnTo>
                  <a:pt x="1304" y="859"/>
                </a:lnTo>
                <a:lnTo>
                  <a:pt x="1271" y="869"/>
                </a:lnTo>
                <a:lnTo>
                  <a:pt x="1222" y="877"/>
                </a:lnTo>
                <a:lnTo>
                  <a:pt x="1175" y="875"/>
                </a:lnTo>
                <a:lnTo>
                  <a:pt x="1127" y="865"/>
                </a:lnTo>
                <a:lnTo>
                  <a:pt x="1087" y="847"/>
                </a:lnTo>
                <a:lnTo>
                  <a:pt x="1062" y="878"/>
                </a:lnTo>
                <a:lnTo>
                  <a:pt x="1039" y="896"/>
                </a:lnTo>
                <a:lnTo>
                  <a:pt x="1010" y="911"/>
                </a:lnTo>
                <a:lnTo>
                  <a:pt x="975" y="923"/>
                </a:lnTo>
                <a:lnTo>
                  <a:pt x="936" y="929"/>
                </a:lnTo>
                <a:lnTo>
                  <a:pt x="899" y="929"/>
                </a:lnTo>
                <a:lnTo>
                  <a:pt x="865" y="923"/>
                </a:lnTo>
                <a:lnTo>
                  <a:pt x="823" y="907"/>
                </a:lnTo>
                <a:lnTo>
                  <a:pt x="798" y="892"/>
                </a:lnTo>
                <a:lnTo>
                  <a:pt x="776" y="911"/>
                </a:lnTo>
                <a:lnTo>
                  <a:pt x="751" y="923"/>
                </a:lnTo>
                <a:lnTo>
                  <a:pt x="722" y="934"/>
                </a:lnTo>
                <a:lnTo>
                  <a:pt x="679" y="943"/>
                </a:lnTo>
                <a:lnTo>
                  <a:pt x="635" y="940"/>
                </a:lnTo>
                <a:lnTo>
                  <a:pt x="589" y="931"/>
                </a:lnTo>
                <a:lnTo>
                  <a:pt x="554" y="916"/>
                </a:lnTo>
                <a:lnTo>
                  <a:pt x="521" y="890"/>
                </a:lnTo>
                <a:lnTo>
                  <a:pt x="502" y="865"/>
                </a:lnTo>
                <a:lnTo>
                  <a:pt x="467" y="874"/>
                </a:lnTo>
                <a:lnTo>
                  <a:pt x="428" y="880"/>
                </a:lnTo>
                <a:lnTo>
                  <a:pt x="380" y="878"/>
                </a:lnTo>
                <a:lnTo>
                  <a:pt x="339" y="866"/>
                </a:lnTo>
                <a:lnTo>
                  <a:pt x="309" y="850"/>
                </a:lnTo>
                <a:lnTo>
                  <a:pt x="283" y="832"/>
                </a:lnTo>
                <a:lnTo>
                  <a:pt x="262" y="806"/>
                </a:lnTo>
                <a:lnTo>
                  <a:pt x="256" y="779"/>
                </a:lnTo>
                <a:lnTo>
                  <a:pt x="234" y="785"/>
                </a:lnTo>
                <a:lnTo>
                  <a:pt x="196" y="787"/>
                </a:lnTo>
                <a:lnTo>
                  <a:pt x="154" y="779"/>
                </a:lnTo>
                <a:lnTo>
                  <a:pt x="110" y="761"/>
                </a:lnTo>
                <a:lnTo>
                  <a:pt x="81" y="737"/>
                </a:lnTo>
                <a:lnTo>
                  <a:pt x="56" y="706"/>
                </a:lnTo>
                <a:lnTo>
                  <a:pt x="42" y="673"/>
                </a:lnTo>
                <a:lnTo>
                  <a:pt x="38" y="630"/>
                </a:lnTo>
                <a:lnTo>
                  <a:pt x="39" y="598"/>
                </a:lnTo>
                <a:lnTo>
                  <a:pt x="52" y="553"/>
                </a:lnTo>
                <a:lnTo>
                  <a:pt x="22" y="528"/>
                </a:lnTo>
                <a:lnTo>
                  <a:pt x="7" y="495"/>
                </a:lnTo>
                <a:lnTo>
                  <a:pt x="0" y="459"/>
                </a:lnTo>
                <a:lnTo>
                  <a:pt x="0" y="423"/>
                </a:lnTo>
                <a:lnTo>
                  <a:pt x="9" y="383"/>
                </a:lnTo>
                <a:lnTo>
                  <a:pt x="28" y="354"/>
                </a:lnTo>
                <a:lnTo>
                  <a:pt x="61" y="321"/>
                </a:lnTo>
                <a:lnTo>
                  <a:pt x="96" y="297"/>
                </a:lnTo>
                <a:lnTo>
                  <a:pt x="137" y="275"/>
                </a:lnTo>
                <a:lnTo>
                  <a:pt x="189" y="260"/>
                </a:lnTo>
                <a:lnTo>
                  <a:pt x="238" y="251"/>
                </a:lnTo>
                <a:lnTo>
                  <a:pt x="262" y="246"/>
                </a:lnTo>
                <a:lnTo>
                  <a:pt x="263" y="223"/>
                </a:lnTo>
              </a:path>
            </a:pathLst>
          </a:custGeom>
          <a:gradFill rotWithShape="0">
            <a:gsLst>
              <a:gs pos="0">
                <a:srgbClr val="a1a1a1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981080" y="5335560"/>
            <a:ext cx="349200" cy="636480"/>
            <a:chOff x="1981080" y="5335560"/>
            <a:chExt cx="349200" cy="636480"/>
          </a:xfrm>
        </p:grpSpPr>
        <p:sp>
          <p:nvSpPr>
            <p:cNvPr id="1226" name=""/>
            <p:cNvSpPr/>
            <p:nvPr/>
          </p:nvSpPr>
          <p:spPr>
            <a:xfrm>
              <a:off x="2022480" y="544680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43000" y="5473800"/>
              <a:ext cx="50760" cy="10620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82680" y="5530680"/>
              <a:ext cx="10476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184480" y="533556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23920" y="563868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49480" y="560232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021040" y="5335560"/>
              <a:ext cx="271440" cy="11124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23920" y="588816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184480" y="582444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81080" y="5931000"/>
              <a:ext cx="239760" cy="4104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023920" y="593424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609480" y="3811680"/>
            <a:ext cx="349200" cy="636480"/>
            <a:chOff x="609480" y="3811680"/>
            <a:chExt cx="349200" cy="636480"/>
          </a:xfrm>
        </p:grpSpPr>
        <p:sp>
          <p:nvSpPr>
            <p:cNvPr id="1238" name=""/>
            <p:cNvSpPr/>
            <p:nvPr/>
          </p:nvSpPr>
          <p:spPr>
            <a:xfrm>
              <a:off x="650880" y="39225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1400" y="39495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811080" y="40064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2880" y="38116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52320" y="41148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7880" y="40784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9440" y="38116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2320" y="43639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2880" y="43005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9480" y="44067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2320" y="44100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981080" y="2897280"/>
            <a:ext cx="349200" cy="636480"/>
            <a:chOff x="1981080" y="2897280"/>
            <a:chExt cx="349200" cy="636480"/>
          </a:xfrm>
        </p:grpSpPr>
        <p:sp>
          <p:nvSpPr>
            <p:cNvPr id="1250" name=""/>
            <p:cNvSpPr/>
            <p:nvPr/>
          </p:nvSpPr>
          <p:spPr>
            <a:xfrm>
              <a:off x="2022480" y="3008160"/>
              <a:ext cx="160200" cy="487440"/>
            </a:xfrm>
            <a:prstGeom prst="rect">
              <a:avLst/>
            </a:pr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43000" y="3035160"/>
              <a:ext cx="50760" cy="106560"/>
            </a:xfrm>
            <a:prstGeom prst="rect">
              <a:avLst/>
            </a:prstGeom>
            <a:solidFill>
              <a:srgbClr val="2c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2182680" y="3092040"/>
              <a:ext cx="104760" cy="1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84480" y="2897280"/>
              <a:ext cx="109440" cy="620640"/>
            </a:xfrm>
            <a:custGeom>
              <a:avLst/>
              <a:gdLst/>
              <a:ahLst/>
              <a:rect l="l" t="t" r="r" b="b"/>
              <a:pathLst>
                <a:path w="69" h="391">
                  <a:moveTo>
                    <a:pt x="0" y="68"/>
                  </a:moveTo>
                  <a:lnTo>
                    <a:pt x="68" y="0"/>
                  </a:lnTo>
                  <a:lnTo>
                    <a:pt x="68" y="320"/>
                  </a:lnTo>
                  <a:lnTo>
                    <a:pt x="0" y="39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023920" y="32004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9480" y="3164040"/>
              <a:ext cx="4752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1040" y="2897280"/>
              <a:ext cx="271440" cy="11088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69"/>
                  </a:moveTo>
                  <a:lnTo>
                    <a:pt x="101" y="69"/>
                  </a:lnTo>
                  <a:lnTo>
                    <a:pt x="170" y="0"/>
                  </a:lnTo>
                  <a:lnTo>
                    <a:pt x="70" y="0"/>
                  </a:lnTo>
                  <a:lnTo>
                    <a:pt x="0" y="69"/>
                  </a:lnTo>
                </a:path>
              </a:pathLst>
            </a:custGeom>
            <a:solidFill>
              <a:srgbClr val="f6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23920" y="344952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84480" y="33861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lnTo>
                    <a:pt x="23" y="91"/>
                  </a:lnTo>
                  <a:lnTo>
                    <a:pt x="91" y="23"/>
                  </a:lnTo>
                  <a:lnTo>
                    <a:pt x="68" y="0"/>
                  </a:lnTo>
                  <a:lnTo>
                    <a:pt x="0" y="68"/>
                  </a:lnTo>
                </a:path>
              </a:pathLst>
            </a:custGeom>
            <a:solidFill>
              <a:srgbClr val="8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81080" y="349236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25" y="0"/>
                  </a:moveTo>
                  <a:lnTo>
                    <a:pt x="150" y="25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25" y="0"/>
                  </a:lnTo>
                </a:path>
              </a:pathLst>
            </a:custGeom>
            <a:gradFill rotWithShape="0">
              <a:gsLst>
                <a:gs pos="0">
                  <a:srgbClr val="cb0e2f"/>
                </a:gs>
                <a:gs pos="100000">
                  <a:srgbClr val="e31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23920" y="3495600"/>
              <a:ext cx="158760" cy="0"/>
            </a:xfrm>
            <a:prstGeom prst="line">
              <a:avLst/>
            </a:prstGeom>
            <a:ln w="12600">
              <a:solidFill>
                <a:srgbClr val="2c29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2057400" y="4343400"/>
            <a:ext cx="457344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624"/>
                </a:moveTo>
                <a:lnTo>
                  <a:pt x="0" y="0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382480" y="3048120"/>
            <a:ext cx="11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电子邮件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990720" y="3352680"/>
            <a:ext cx="4725720" cy="916200"/>
          </a:xfrm>
          <a:custGeom>
            <a:avLst/>
            <a:gdLst/>
            <a:ahLst/>
            <a:rect l="l" t="t" r="r" b="b"/>
            <a:pathLst>
              <a:path w="2977" h="577">
                <a:moveTo>
                  <a:pt x="0" y="576"/>
                </a:moveTo>
                <a:lnTo>
                  <a:pt x="2400" y="576"/>
                </a:lnTo>
                <a:lnTo>
                  <a:pt x="2976" y="0"/>
                </a:lnTo>
              </a:path>
            </a:pathLst>
          </a:custGeom>
          <a:noFill/>
          <a:ln cap="rnd" w="25560">
            <a:solidFill>
              <a:srgbClr val="0099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09680" y="3581280"/>
            <a:ext cx="3888000" cy="1677960"/>
          </a:xfrm>
          <a:custGeom>
            <a:avLst/>
            <a:gdLst/>
            <a:ahLst/>
            <a:rect l="l" t="t" r="r" b="b"/>
            <a:pathLst>
              <a:path w="2449" h="1057">
                <a:moveTo>
                  <a:pt x="0" y="0"/>
                </a:moveTo>
                <a:lnTo>
                  <a:pt x="0" y="24"/>
                </a:lnTo>
                <a:lnTo>
                  <a:pt x="0" y="384"/>
                </a:lnTo>
                <a:lnTo>
                  <a:pt x="1776" y="384"/>
                </a:lnTo>
                <a:lnTo>
                  <a:pt x="2448" y="1056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672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371600" y="25909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47920" y="2666880"/>
            <a:ext cx="17460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47920" y="266688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066680" y="3657600"/>
            <a:ext cx="43524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14400" y="36576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3733920"/>
            <a:ext cx="17460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90720" y="3581280"/>
            <a:ext cx="434880" cy="228600"/>
          </a:xfrm>
          <a:prstGeom prst="rect">
            <a:avLst/>
          </a:prstGeom>
          <a:noFill/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528880" y="5942160"/>
            <a:ext cx="232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个外部邮件多人共享，并有独立信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内部可用邮件相互通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3.</a:t>
            </a:r>
            <a:r>
              <a:rPr b="0" lang="zh-CN" sz="1800" spc="-1" strike="noStrike">
                <a:solidFill>
                  <a:srgbClr val="b2b2b2"/>
                </a:solidFill>
                <a:latin typeface="Times New Roman"/>
              </a:rPr>
              <a:t>重要信件可用公告栏通知每个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31920" y="3147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查邮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个地球    一个办公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42960" y="1744560"/>
            <a:ext cx="7388280" cy="3386160"/>
            <a:chOff x="642960" y="1744560"/>
            <a:chExt cx="7388280" cy="3386160"/>
          </a:xfrm>
        </p:grpSpPr>
        <p:sp>
          <p:nvSpPr>
            <p:cNvPr id="1279" name=""/>
            <p:cNvSpPr/>
            <p:nvPr/>
          </p:nvSpPr>
          <p:spPr>
            <a:xfrm>
              <a:off x="4635360" y="2544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23" y="21"/>
                  </a:lnTo>
                  <a:lnTo>
                    <a:pt x="15" y="23"/>
                  </a:lnTo>
                  <a:lnTo>
                    <a:pt x="0" y="5"/>
                  </a:lnTo>
                  <a:lnTo>
                    <a:pt x="9" y="0"/>
                  </a:lnTo>
                  <a:lnTo>
                    <a:pt x="23" y="2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86868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0505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568760" y="248292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0"/>
                  </a:moveTo>
                  <a:lnTo>
                    <a:pt x="0" y="6"/>
                  </a:lnTo>
                  <a:lnTo>
                    <a:pt x="3" y="33"/>
                  </a:lnTo>
                  <a:lnTo>
                    <a:pt x="17" y="30"/>
                  </a:lnTo>
                  <a:lnTo>
                    <a:pt x="20" y="0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86868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0505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642960" y="1744560"/>
              <a:ext cx="7388280" cy="3386160"/>
              <a:chOff x="642960" y="1744560"/>
              <a:chExt cx="7388280" cy="33861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3924360" y="1749600"/>
                <a:ext cx="4106880" cy="3369960"/>
                <a:chOff x="3924360" y="1749600"/>
                <a:chExt cx="4106880" cy="3369960"/>
              </a:xfrm>
            </p:grpSpPr>
            <p:grpSp>
              <p:nvGrpSpPr>
                <p:cNvPr id="1283" name=""/>
                <p:cNvGrpSpPr/>
                <p:nvPr/>
              </p:nvGrpSpPr>
              <p:grpSpPr>
                <a:xfrm>
                  <a:off x="6748560" y="3430440"/>
                  <a:ext cx="1282680" cy="1689120"/>
                  <a:chOff x="6748560" y="3430440"/>
                  <a:chExt cx="1282680" cy="16891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6748560" y="4799160"/>
                    <a:ext cx="91260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202">
                        <a:moveTo>
                          <a:pt x="54" y="7"/>
                        </a:moveTo>
                        <a:lnTo>
                          <a:pt x="112" y="7"/>
                        </a:lnTo>
                        <a:lnTo>
                          <a:pt x="132" y="9"/>
                        </a:lnTo>
                        <a:lnTo>
                          <a:pt x="154" y="12"/>
                        </a:lnTo>
                        <a:lnTo>
                          <a:pt x="163" y="16"/>
                        </a:lnTo>
                        <a:lnTo>
                          <a:pt x="172" y="10"/>
                        </a:lnTo>
                        <a:lnTo>
                          <a:pt x="184" y="6"/>
                        </a:lnTo>
                        <a:lnTo>
                          <a:pt x="193" y="3"/>
                        </a:lnTo>
                        <a:lnTo>
                          <a:pt x="207" y="1"/>
                        </a:lnTo>
                        <a:lnTo>
                          <a:pt x="214" y="1"/>
                        </a:lnTo>
                        <a:lnTo>
                          <a:pt x="220" y="1"/>
                        </a:lnTo>
                        <a:lnTo>
                          <a:pt x="228" y="0"/>
                        </a:lnTo>
                        <a:lnTo>
                          <a:pt x="241" y="10"/>
                        </a:lnTo>
                        <a:lnTo>
                          <a:pt x="246" y="10"/>
                        </a:lnTo>
                        <a:lnTo>
                          <a:pt x="250" y="16"/>
                        </a:lnTo>
                        <a:lnTo>
                          <a:pt x="253" y="18"/>
                        </a:lnTo>
                        <a:lnTo>
                          <a:pt x="265" y="16"/>
                        </a:lnTo>
                        <a:lnTo>
                          <a:pt x="274" y="16"/>
                        </a:lnTo>
                        <a:lnTo>
                          <a:pt x="285" y="16"/>
                        </a:lnTo>
                        <a:lnTo>
                          <a:pt x="291" y="16"/>
                        </a:lnTo>
                        <a:lnTo>
                          <a:pt x="300" y="16"/>
                        </a:lnTo>
                        <a:lnTo>
                          <a:pt x="306" y="10"/>
                        </a:lnTo>
                        <a:lnTo>
                          <a:pt x="312" y="7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31" y="4"/>
                        </a:lnTo>
                        <a:lnTo>
                          <a:pt x="343" y="7"/>
                        </a:lnTo>
                        <a:lnTo>
                          <a:pt x="354" y="9"/>
                        </a:lnTo>
                        <a:lnTo>
                          <a:pt x="366" y="10"/>
                        </a:lnTo>
                        <a:lnTo>
                          <a:pt x="387" y="13"/>
                        </a:lnTo>
                        <a:lnTo>
                          <a:pt x="412" y="21"/>
                        </a:lnTo>
                        <a:lnTo>
                          <a:pt x="421" y="22"/>
                        </a:lnTo>
                        <a:lnTo>
                          <a:pt x="433" y="25"/>
                        </a:lnTo>
                        <a:lnTo>
                          <a:pt x="445" y="27"/>
                        </a:lnTo>
                        <a:lnTo>
                          <a:pt x="454" y="31"/>
                        </a:lnTo>
                        <a:lnTo>
                          <a:pt x="460" y="33"/>
                        </a:lnTo>
                        <a:lnTo>
                          <a:pt x="474" y="30"/>
                        </a:lnTo>
                        <a:lnTo>
                          <a:pt x="480" y="25"/>
                        </a:lnTo>
                        <a:lnTo>
                          <a:pt x="490" y="25"/>
                        </a:lnTo>
                        <a:lnTo>
                          <a:pt x="502" y="30"/>
                        </a:lnTo>
                        <a:lnTo>
                          <a:pt x="507" y="31"/>
                        </a:lnTo>
                        <a:lnTo>
                          <a:pt x="519" y="33"/>
                        </a:lnTo>
                        <a:lnTo>
                          <a:pt x="523" y="36"/>
                        </a:lnTo>
                        <a:lnTo>
                          <a:pt x="531" y="39"/>
                        </a:lnTo>
                        <a:lnTo>
                          <a:pt x="541" y="45"/>
                        </a:lnTo>
                        <a:lnTo>
                          <a:pt x="549" y="46"/>
                        </a:lnTo>
                        <a:lnTo>
                          <a:pt x="555" y="51"/>
                        </a:lnTo>
                        <a:lnTo>
                          <a:pt x="562" y="55"/>
                        </a:lnTo>
                        <a:lnTo>
                          <a:pt x="567" y="58"/>
                        </a:lnTo>
                        <a:lnTo>
                          <a:pt x="571" y="64"/>
                        </a:lnTo>
                        <a:lnTo>
                          <a:pt x="571" y="69"/>
                        </a:lnTo>
                        <a:lnTo>
                          <a:pt x="574" y="73"/>
                        </a:lnTo>
                        <a:lnTo>
                          <a:pt x="567" y="79"/>
                        </a:lnTo>
                        <a:lnTo>
                          <a:pt x="556" y="82"/>
                        </a:lnTo>
                        <a:lnTo>
                          <a:pt x="546" y="91"/>
                        </a:lnTo>
                        <a:lnTo>
                          <a:pt x="532" y="93"/>
                        </a:lnTo>
                        <a:lnTo>
                          <a:pt x="523" y="100"/>
                        </a:lnTo>
                        <a:lnTo>
                          <a:pt x="519" y="106"/>
                        </a:lnTo>
                        <a:lnTo>
                          <a:pt x="514" y="111"/>
                        </a:lnTo>
                        <a:lnTo>
                          <a:pt x="523" y="115"/>
                        </a:lnTo>
                        <a:lnTo>
                          <a:pt x="523" y="120"/>
                        </a:lnTo>
                        <a:lnTo>
                          <a:pt x="513" y="126"/>
                        </a:lnTo>
                        <a:lnTo>
                          <a:pt x="505" y="132"/>
                        </a:lnTo>
                        <a:lnTo>
                          <a:pt x="499" y="138"/>
                        </a:lnTo>
                        <a:lnTo>
                          <a:pt x="493" y="139"/>
                        </a:lnTo>
                        <a:lnTo>
                          <a:pt x="489" y="139"/>
                        </a:lnTo>
                        <a:lnTo>
                          <a:pt x="477" y="142"/>
                        </a:lnTo>
                        <a:lnTo>
                          <a:pt x="472" y="151"/>
                        </a:lnTo>
                        <a:lnTo>
                          <a:pt x="465" y="157"/>
                        </a:lnTo>
                        <a:lnTo>
                          <a:pt x="504" y="163"/>
                        </a:lnTo>
                        <a:lnTo>
                          <a:pt x="499" y="169"/>
                        </a:lnTo>
                        <a:lnTo>
                          <a:pt x="481" y="174"/>
                        </a:lnTo>
                        <a:lnTo>
                          <a:pt x="456" y="171"/>
                        </a:lnTo>
                        <a:lnTo>
                          <a:pt x="435" y="174"/>
                        </a:lnTo>
                        <a:lnTo>
                          <a:pt x="415" y="180"/>
                        </a:lnTo>
                        <a:lnTo>
                          <a:pt x="406" y="187"/>
                        </a:lnTo>
                        <a:lnTo>
                          <a:pt x="403" y="199"/>
                        </a:lnTo>
                        <a:lnTo>
                          <a:pt x="384" y="201"/>
                        </a:lnTo>
                        <a:lnTo>
                          <a:pt x="364" y="198"/>
                        </a:lnTo>
                        <a:lnTo>
                          <a:pt x="334" y="195"/>
                        </a:lnTo>
                        <a:lnTo>
                          <a:pt x="321" y="190"/>
                        </a:lnTo>
                        <a:lnTo>
                          <a:pt x="298" y="186"/>
                        </a:lnTo>
                        <a:lnTo>
                          <a:pt x="282" y="183"/>
                        </a:lnTo>
                        <a:lnTo>
                          <a:pt x="264" y="180"/>
                        </a:lnTo>
                        <a:lnTo>
                          <a:pt x="241" y="177"/>
                        </a:lnTo>
                        <a:lnTo>
                          <a:pt x="226" y="169"/>
                        </a:lnTo>
                        <a:lnTo>
                          <a:pt x="213" y="166"/>
                        </a:lnTo>
                        <a:lnTo>
                          <a:pt x="208" y="165"/>
                        </a:lnTo>
                        <a:lnTo>
                          <a:pt x="184" y="159"/>
                        </a:lnTo>
                        <a:lnTo>
                          <a:pt x="160" y="148"/>
                        </a:lnTo>
                        <a:lnTo>
                          <a:pt x="139" y="141"/>
                        </a:lnTo>
                        <a:lnTo>
                          <a:pt x="129" y="135"/>
                        </a:lnTo>
                        <a:lnTo>
                          <a:pt x="114" y="129"/>
                        </a:lnTo>
                        <a:lnTo>
                          <a:pt x="102" y="123"/>
                        </a:lnTo>
                        <a:lnTo>
                          <a:pt x="88" y="117"/>
                        </a:lnTo>
                        <a:lnTo>
                          <a:pt x="76" y="109"/>
                        </a:lnTo>
                        <a:lnTo>
                          <a:pt x="66" y="100"/>
                        </a:lnTo>
                        <a:lnTo>
                          <a:pt x="54" y="91"/>
                        </a:lnTo>
                        <a:lnTo>
                          <a:pt x="42" y="84"/>
                        </a:lnTo>
                        <a:lnTo>
                          <a:pt x="27" y="72"/>
                        </a:lnTo>
                        <a:lnTo>
                          <a:pt x="15" y="64"/>
                        </a:lnTo>
                        <a:lnTo>
                          <a:pt x="4" y="57"/>
                        </a:lnTo>
                        <a:lnTo>
                          <a:pt x="0" y="49"/>
                        </a:lnTo>
                        <a:lnTo>
                          <a:pt x="16" y="45"/>
                        </a:lnTo>
                        <a:lnTo>
                          <a:pt x="7" y="28"/>
                        </a:lnTo>
                        <a:lnTo>
                          <a:pt x="30" y="22"/>
                        </a:lnTo>
                        <a:lnTo>
                          <a:pt x="21" y="16"/>
                        </a:lnTo>
                        <a:lnTo>
                          <a:pt x="45" y="13"/>
                        </a:lnTo>
                        <a:lnTo>
                          <a:pt x="54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5" name=""/>
                  <p:cNvGrpSpPr/>
                  <p:nvPr/>
                </p:nvGrpSpPr>
                <p:grpSpPr>
                  <a:xfrm>
                    <a:off x="7426440" y="4105440"/>
                    <a:ext cx="604800" cy="290520"/>
                    <a:chOff x="7426440" y="4105440"/>
                    <a:chExt cx="604800" cy="290520"/>
                  </a:xfrm>
                </p:grpSpPr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7934400" y="4105440"/>
                      <a:ext cx="9684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12">
                          <a:moveTo>
                            <a:pt x="19" y="2"/>
                          </a:moveTo>
                          <a:lnTo>
                            <a:pt x="25" y="0"/>
                          </a:lnTo>
                          <a:lnTo>
                            <a:pt x="36" y="12"/>
                          </a:lnTo>
                          <a:lnTo>
                            <a:pt x="34" y="47"/>
                          </a:lnTo>
                          <a:lnTo>
                            <a:pt x="42" y="47"/>
                          </a:lnTo>
                          <a:lnTo>
                            <a:pt x="43" y="51"/>
                          </a:lnTo>
                          <a:lnTo>
                            <a:pt x="46" y="59"/>
                          </a:lnTo>
                          <a:lnTo>
                            <a:pt x="48" y="63"/>
                          </a:lnTo>
                          <a:lnTo>
                            <a:pt x="54" y="62"/>
                          </a:lnTo>
                          <a:lnTo>
                            <a:pt x="58" y="54"/>
                          </a:lnTo>
                          <a:lnTo>
                            <a:pt x="60" y="59"/>
                          </a:lnTo>
                          <a:lnTo>
                            <a:pt x="57" y="65"/>
                          </a:lnTo>
                          <a:lnTo>
                            <a:pt x="54" y="69"/>
                          </a:lnTo>
                          <a:lnTo>
                            <a:pt x="52" y="78"/>
                          </a:lnTo>
                          <a:lnTo>
                            <a:pt x="45" y="83"/>
                          </a:lnTo>
                          <a:lnTo>
                            <a:pt x="40" y="84"/>
                          </a:lnTo>
                          <a:lnTo>
                            <a:pt x="34" y="89"/>
                          </a:lnTo>
                          <a:lnTo>
                            <a:pt x="33" y="93"/>
                          </a:lnTo>
                          <a:lnTo>
                            <a:pt x="34" y="98"/>
                          </a:lnTo>
                          <a:lnTo>
                            <a:pt x="36" y="105"/>
                          </a:lnTo>
                          <a:lnTo>
                            <a:pt x="28" y="108"/>
                          </a:lnTo>
                          <a:lnTo>
                            <a:pt x="24" y="110"/>
                          </a:lnTo>
                          <a:lnTo>
                            <a:pt x="19" y="111"/>
                          </a:lnTo>
                          <a:lnTo>
                            <a:pt x="16" y="110"/>
                          </a:lnTo>
                          <a:lnTo>
                            <a:pt x="9" y="108"/>
                          </a:lnTo>
                          <a:lnTo>
                            <a:pt x="6" y="105"/>
                          </a:lnTo>
                          <a:lnTo>
                            <a:pt x="9" y="99"/>
                          </a:lnTo>
                          <a:lnTo>
                            <a:pt x="15" y="98"/>
                          </a:lnTo>
                          <a:lnTo>
                            <a:pt x="19" y="90"/>
                          </a:lnTo>
                          <a:lnTo>
                            <a:pt x="19" y="87"/>
                          </a:lnTo>
                          <a:lnTo>
                            <a:pt x="15" y="84"/>
                          </a:lnTo>
                          <a:lnTo>
                            <a:pt x="9" y="80"/>
                          </a:lnTo>
                          <a:lnTo>
                            <a:pt x="4" y="80"/>
                          </a:lnTo>
                          <a:lnTo>
                            <a:pt x="1" y="78"/>
                          </a:lnTo>
                          <a:lnTo>
                            <a:pt x="0" y="74"/>
                          </a:lnTo>
                          <a:lnTo>
                            <a:pt x="1" y="71"/>
                          </a:lnTo>
                          <a:lnTo>
                            <a:pt x="4" y="71"/>
                          </a:lnTo>
                          <a:lnTo>
                            <a:pt x="9" y="69"/>
                          </a:lnTo>
                          <a:lnTo>
                            <a:pt x="15" y="65"/>
                          </a:lnTo>
                          <a:lnTo>
                            <a:pt x="18" y="63"/>
                          </a:lnTo>
                          <a:lnTo>
                            <a:pt x="21" y="47"/>
                          </a:lnTo>
                          <a:lnTo>
                            <a:pt x="18" y="42"/>
                          </a:lnTo>
                          <a:lnTo>
                            <a:pt x="13" y="39"/>
                          </a:lnTo>
                          <a:lnTo>
                            <a:pt x="12" y="30"/>
                          </a:lnTo>
                          <a:lnTo>
                            <a:pt x="13" y="21"/>
                          </a:lnTo>
                          <a:lnTo>
                            <a:pt x="15" y="15"/>
                          </a:lnTo>
                          <a:lnTo>
                            <a:pt x="19" y="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7750080" y="4243320"/>
                      <a:ext cx="17784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96">
                          <a:moveTo>
                            <a:pt x="78" y="0"/>
                          </a:moveTo>
                          <a:lnTo>
                            <a:pt x="92" y="0"/>
                          </a:lnTo>
                          <a:lnTo>
                            <a:pt x="111" y="27"/>
                          </a:lnTo>
                          <a:lnTo>
                            <a:pt x="90" y="48"/>
                          </a:lnTo>
                          <a:lnTo>
                            <a:pt x="90" y="57"/>
                          </a:lnTo>
                          <a:lnTo>
                            <a:pt x="86" y="60"/>
                          </a:lnTo>
                          <a:lnTo>
                            <a:pt x="74" y="60"/>
                          </a:lnTo>
                          <a:lnTo>
                            <a:pt x="59" y="72"/>
                          </a:lnTo>
                          <a:lnTo>
                            <a:pt x="45" y="84"/>
                          </a:lnTo>
                          <a:lnTo>
                            <a:pt x="36" y="95"/>
                          </a:lnTo>
                          <a:lnTo>
                            <a:pt x="36" y="86"/>
                          </a:lnTo>
                          <a:lnTo>
                            <a:pt x="20" y="87"/>
                          </a:lnTo>
                          <a:lnTo>
                            <a:pt x="12" y="87"/>
                          </a:lnTo>
                          <a:lnTo>
                            <a:pt x="0" y="87"/>
                          </a:lnTo>
                          <a:lnTo>
                            <a:pt x="17" y="72"/>
                          </a:lnTo>
                          <a:lnTo>
                            <a:pt x="23" y="65"/>
                          </a:lnTo>
                          <a:lnTo>
                            <a:pt x="29" y="65"/>
                          </a:lnTo>
                          <a:lnTo>
                            <a:pt x="41" y="53"/>
                          </a:lnTo>
                          <a:lnTo>
                            <a:pt x="45" y="53"/>
                          </a:lnTo>
                          <a:lnTo>
                            <a:pt x="45" y="51"/>
                          </a:lnTo>
                          <a:lnTo>
                            <a:pt x="51" y="47"/>
                          </a:lnTo>
                          <a:lnTo>
                            <a:pt x="59" y="47"/>
                          </a:lnTo>
                          <a:lnTo>
                            <a:pt x="56" y="33"/>
                          </a:lnTo>
                          <a:lnTo>
                            <a:pt x="57" y="33"/>
                          </a:lnTo>
                          <a:lnTo>
                            <a:pt x="65" y="26"/>
                          </a:lnTo>
                          <a:lnTo>
                            <a:pt x="68" y="32"/>
                          </a:lnTo>
                          <a:lnTo>
                            <a:pt x="80" y="21"/>
                          </a:lnTo>
                          <a:lnTo>
                            <a:pt x="78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7426440" y="4253040"/>
                      <a:ext cx="680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52">
                          <a:moveTo>
                            <a:pt x="0" y="0"/>
                          </a:moveTo>
                          <a:lnTo>
                            <a:pt x="9" y="0"/>
                          </a:lnTo>
                          <a:lnTo>
                            <a:pt x="20" y="6"/>
                          </a:lnTo>
                          <a:lnTo>
                            <a:pt x="42" y="6"/>
                          </a:lnTo>
                          <a:lnTo>
                            <a:pt x="39" y="17"/>
                          </a:lnTo>
                          <a:lnTo>
                            <a:pt x="42" y="26"/>
                          </a:lnTo>
                          <a:lnTo>
                            <a:pt x="35" y="26"/>
                          </a:lnTo>
                          <a:lnTo>
                            <a:pt x="33" y="27"/>
                          </a:lnTo>
                          <a:lnTo>
                            <a:pt x="29" y="29"/>
                          </a:lnTo>
                          <a:lnTo>
                            <a:pt x="33" y="51"/>
                          </a:lnTo>
                          <a:lnTo>
                            <a:pt x="20" y="50"/>
                          </a:lnTo>
                          <a:lnTo>
                            <a:pt x="8" y="42"/>
                          </a:lnTo>
                          <a:lnTo>
                            <a:pt x="8" y="27"/>
                          </a:lnTo>
                          <a:lnTo>
                            <a:pt x="8" y="21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9" name=""/>
                  <p:cNvSpPr/>
                  <p:nvPr/>
                </p:nvSpPr>
                <p:spPr>
                  <a:xfrm>
                    <a:off x="7548480" y="343044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2" y="19"/>
                        </a:moveTo>
                        <a:lnTo>
                          <a:pt x="0" y="42"/>
                        </a:lnTo>
                        <a:lnTo>
                          <a:pt x="4" y="51"/>
                        </a:lnTo>
                        <a:lnTo>
                          <a:pt x="24" y="52"/>
                        </a:lnTo>
                        <a:lnTo>
                          <a:pt x="40" y="52"/>
                        </a:lnTo>
                        <a:lnTo>
                          <a:pt x="46" y="43"/>
                        </a:lnTo>
                        <a:lnTo>
                          <a:pt x="51" y="34"/>
                        </a:lnTo>
                        <a:lnTo>
                          <a:pt x="69" y="34"/>
                        </a:lnTo>
                        <a:lnTo>
                          <a:pt x="66" y="21"/>
                        </a:lnTo>
                        <a:lnTo>
                          <a:pt x="66" y="7"/>
                        </a:lnTo>
                        <a:lnTo>
                          <a:pt x="48" y="0"/>
                        </a:lnTo>
                        <a:lnTo>
                          <a:pt x="45" y="15"/>
                        </a:lnTo>
                        <a:lnTo>
                          <a:pt x="57" y="24"/>
                        </a:lnTo>
                        <a:lnTo>
                          <a:pt x="39" y="24"/>
                        </a:lnTo>
                        <a:lnTo>
                          <a:pt x="33" y="30"/>
                        </a:lnTo>
                        <a:lnTo>
                          <a:pt x="12" y="1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6354720" y="2166840"/>
                  <a:ext cx="1276560" cy="2052720"/>
                  <a:chOff x="6354720" y="2166840"/>
                  <a:chExt cx="1276560" cy="2052720"/>
                </a:xfrm>
              </p:grpSpPr>
              <p:grpSp>
                <p:nvGrpSpPr>
                  <p:cNvPr id="1291" name=""/>
                  <p:cNvGrpSpPr/>
                  <p:nvPr/>
                </p:nvGrpSpPr>
                <p:grpSpPr>
                  <a:xfrm>
                    <a:off x="6559560" y="2376360"/>
                    <a:ext cx="285840" cy="617760"/>
                    <a:chOff x="6559560" y="2376360"/>
                    <a:chExt cx="285840" cy="617760"/>
                  </a:xfrm>
                </p:grpSpPr>
                <p:sp>
                  <p:nvSpPr>
                    <p:cNvPr id="1292" name=""/>
                    <p:cNvSpPr/>
                    <p:nvPr/>
                  </p:nvSpPr>
                  <p:spPr>
                    <a:xfrm>
                      <a:off x="6559560" y="2930400"/>
                      <a:ext cx="6840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0">
                          <a:moveTo>
                            <a:pt x="0" y="30"/>
                          </a:moveTo>
                          <a:lnTo>
                            <a:pt x="8" y="37"/>
                          </a:lnTo>
                          <a:lnTo>
                            <a:pt x="17" y="36"/>
                          </a:lnTo>
                          <a:lnTo>
                            <a:pt x="30" y="39"/>
                          </a:lnTo>
                          <a:lnTo>
                            <a:pt x="41" y="39"/>
                          </a:lnTo>
                          <a:lnTo>
                            <a:pt x="42" y="25"/>
                          </a:lnTo>
                          <a:lnTo>
                            <a:pt x="39" y="16"/>
                          </a:lnTo>
                          <a:lnTo>
                            <a:pt x="32" y="6"/>
                          </a:lnTo>
                          <a:lnTo>
                            <a:pt x="24" y="6"/>
                          </a:lnTo>
                          <a:lnTo>
                            <a:pt x="21" y="0"/>
                          </a:lnTo>
                          <a:lnTo>
                            <a:pt x="11" y="0"/>
                          </a:lnTo>
                          <a:lnTo>
                            <a:pt x="11" y="12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6740640" y="2820960"/>
                      <a:ext cx="66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50">
                          <a:moveTo>
                            <a:pt x="9" y="0"/>
                          </a:moveTo>
                          <a:lnTo>
                            <a:pt x="27" y="1"/>
                          </a:lnTo>
                          <a:lnTo>
                            <a:pt x="33" y="15"/>
                          </a:lnTo>
                          <a:lnTo>
                            <a:pt x="41" y="22"/>
                          </a:lnTo>
                          <a:lnTo>
                            <a:pt x="35" y="28"/>
                          </a:lnTo>
                          <a:lnTo>
                            <a:pt x="41" y="36"/>
                          </a:lnTo>
                          <a:lnTo>
                            <a:pt x="38" y="45"/>
                          </a:lnTo>
                          <a:lnTo>
                            <a:pt x="32" y="49"/>
                          </a:lnTo>
                          <a:lnTo>
                            <a:pt x="20" y="48"/>
                          </a:lnTo>
                          <a:lnTo>
                            <a:pt x="12" y="48"/>
                          </a:lnTo>
                          <a:lnTo>
                            <a:pt x="8" y="42"/>
                          </a:lnTo>
                          <a:lnTo>
                            <a:pt x="3" y="34"/>
                          </a:lnTo>
                          <a:lnTo>
                            <a:pt x="3" y="27"/>
                          </a:lnTo>
                          <a:lnTo>
                            <a:pt x="0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6729480" y="2376360"/>
                      <a:ext cx="1159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47">
                          <a:moveTo>
                            <a:pt x="10" y="0"/>
                          </a:moveTo>
                          <a:lnTo>
                            <a:pt x="19" y="7"/>
                          </a:lnTo>
                          <a:lnTo>
                            <a:pt x="28" y="6"/>
                          </a:lnTo>
                          <a:lnTo>
                            <a:pt x="42" y="7"/>
                          </a:lnTo>
                          <a:lnTo>
                            <a:pt x="54" y="7"/>
                          </a:lnTo>
                          <a:lnTo>
                            <a:pt x="60" y="12"/>
                          </a:lnTo>
                          <a:lnTo>
                            <a:pt x="67" y="22"/>
                          </a:lnTo>
                          <a:lnTo>
                            <a:pt x="72" y="27"/>
                          </a:lnTo>
                          <a:lnTo>
                            <a:pt x="55" y="30"/>
                          </a:lnTo>
                          <a:lnTo>
                            <a:pt x="51" y="33"/>
                          </a:lnTo>
                          <a:lnTo>
                            <a:pt x="55" y="39"/>
                          </a:lnTo>
                          <a:lnTo>
                            <a:pt x="55" y="45"/>
                          </a:lnTo>
                          <a:lnTo>
                            <a:pt x="39" y="39"/>
                          </a:lnTo>
                          <a:lnTo>
                            <a:pt x="25" y="34"/>
                          </a:lnTo>
                          <a:lnTo>
                            <a:pt x="19" y="36"/>
                          </a:lnTo>
                          <a:lnTo>
                            <a:pt x="19" y="45"/>
                          </a:lnTo>
                          <a:lnTo>
                            <a:pt x="10" y="46"/>
                          </a:lnTo>
                          <a:lnTo>
                            <a:pt x="6" y="39"/>
                          </a:lnTo>
                          <a:lnTo>
                            <a:pt x="4" y="30"/>
                          </a:lnTo>
                          <a:lnTo>
                            <a:pt x="0" y="28"/>
                          </a:lnTo>
                          <a:lnTo>
                            <a:pt x="4" y="19"/>
                          </a:lnTo>
                          <a:lnTo>
                            <a:pt x="12" y="1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5" name=""/>
                  <p:cNvSpPr/>
                  <p:nvPr/>
                </p:nvSpPr>
                <p:spPr>
                  <a:xfrm>
                    <a:off x="6826320" y="3622680"/>
                    <a:ext cx="80496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76">
                        <a:moveTo>
                          <a:pt x="363" y="0"/>
                        </a:moveTo>
                        <a:lnTo>
                          <a:pt x="390" y="0"/>
                        </a:lnTo>
                        <a:lnTo>
                          <a:pt x="390" y="30"/>
                        </a:lnTo>
                        <a:lnTo>
                          <a:pt x="401" y="39"/>
                        </a:lnTo>
                        <a:lnTo>
                          <a:pt x="404" y="44"/>
                        </a:lnTo>
                        <a:lnTo>
                          <a:pt x="410" y="44"/>
                        </a:lnTo>
                        <a:lnTo>
                          <a:pt x="413" y="50"/>
                        </a:lnTo>
                        <a:lnTo>
                          <a:pt x="416" y="80"/>
                        </a:lnTo>
                        <a:lnTo>
                          <a:pt x="431" y="99"/>
                        </a:lnTo>
                        <a:lnTo>
                          <a:pt x="453" y="128"/>
                        </a:lnTo>
                        <a:lnTo>
                          <a:pt x="453" y="132"/>
                        </a:lnTo>
                        <a:lnTo>
                          <a:pt x="477" y="156"/>
                        </a:lnTo>
                        <a:lnTo>
                          <a:pt x="477" y="161"/>
                        </a:lnTo>
                        <a:lnTo>
                          <a:pt x="501" y="180"/>
                        </a:lnTo>
                        <a:lnTo>
                          <a:pt x="506" y="215"/>
                        </a:lnTo>
                        <a:lnTo>
                          <a:pt x="501" y="246"/>
                        </a:lnTo>
                        <a:lnTo>
                          <a:pt x="494" y="261"/>
                        </a:lnTo>
                        <a:lnTo>
                          <a:pt x="485" y="268"/>
                        </a:lnTo>
                        <a:lnTo>
                          <a:pt x="482" y="283"/>
                        </a:lnTo>
                        <a:lnTo>
                          <a:pt x="473" y="297"/>
                        </a:lnTo>
                        <a:lnTo>
                          <a:pt x="465" y="303"/>
                        </a:lnTo>
                        <a:lnTo>
                          <a:pt x="467" y="307"/>
                        </a:lnTo>
                        <a:lnTo>
                          <a:pt x="458" y="316"/>
                        </a:lnTo>
                        <a:lnTo>
                          <a:pt x="453" y="336"/>
                        </a:lnTo>
                        <a:lnTo>
                          <a:pt x="452" y="346"/>
                        </a:lnTo>
                        <a:lnTo>
                          <a:pt x="443" y="351"/>
                        </a:lnTo>
                        <a:lnTo>
                          <a:pt x="441" y="355"/>
                        </a:lnTo>
                        <a:lnTo>
                          <a:pt x="435" y="364"/>
                        </a:lnTo>
                        <a:lnTo>
                          <a:pt x="425" y="366"/>
                        </a:lnTo>
                        <a:lnTo>
                          <a:pt x="417" y="369"/>
                        </a:lnTo>
                        <a:lnTo>
                          <a:pt x="407" y="375"/>
                        </a:lnTo>
                        <a:lnTo>
                          <a:pt x="393" y="363"/>
                        </a:lnTo>
                        <a:lnTo>
                          <a:pt x="378" y="364"/>
                        </a:lnTo>
                        <a:lnTo>
                          <a:pt x="374" y="364"/>
                        </a:lnTo>
                        <a:lnTo>
                          <a:pt x="353" y="367"/>
                        </a:lnTo>
                        <a:lnTo>
                          <a:pt x="339" y="355"/>
                        </a:lnTo>
                        <a:lnTo>
                          <a:pt x="330" y="343"/>
                        </a:lnTo>
                        <a:lnTo>
                          <a:pt x="324" y="345"/>
                        </a:lnTo>
                        <a:lnTo>
                          <a:pt x="318" y="334"/>
                        </a:lnTo>
                        <a:lnTo>
                          <a:pt x="315" y="325"/>
                        </a:lnTo>
                        <a:lnTo>
                          <a:pt x="312" y="322"/>
                        </a:lnTo>
                        <a:lnTo>
                          <a:pt x="312" y="307"/>
                        </a:lnTo>
                        <a:lnTo>
                          <a:pt x="314" y="298"/>
                        </a:lnTo>
                        <a:lnTo>
                          <a:pt x="311" y="292"/>
                        </a:lnTo>
                        <a:lnTo>
                          <a:pt x="299" y="295"/>
                        </a:lnTo>
                        <a:lnTo>
                          <a:pt x="293" y="297"/>
                        </a:lnTo>
                        <a:lnTo>
                          <a:pt x="282" y="297"/>
                        </a:lnTo>
                        <a:lnTo>
                          <a:pt x="278" y="297"/>
                        </a:lnTo>
                        <a:lnTo>
                          <a:pt x="273" y="297"/>
                        </a:lnTo>
                        <a:lnTo>
                          <a:pt x="266" y="288"/>
                        </a:lnTo>
                        <a:lnTo>
                          <a:pt x="258" y="276"/>
                        </a:lnTo>
                        <a:lnTo>
                          <a:pt x="257" y="277"/>
                        </a:lnTo>
                        <a:lnTo>
                          <a:pt x="243" y="277"/>
                        </a:lnTo>
                        <a:lnTo>
                          <a:pt x="242" y="273"/>
                        </a:lnTo>
                        <a:lnTo>
                          <a:pt x="234" y="277"/>
                        </a:lnTo>
                        <a:lnTo>
                          <a:pt x="227" y="276"/>
                        </a:lnTo>
                        <a:lnTo>
                          <a:pt x="215" y="276"/>
                        </a:lnTo>
                        <a:lnTo>
                          <a:pt x="207" y="273"/>
                        </a:lnTo>
                        <a:lnTo>
                          <a:pt x="204" y="277"/>
                        </a:lnTo>
                        <a:lnTo>
                          <a:pt x="192" y="279"/>
                        </a:lnTo>
                        <a:lnTo>
                          <a:pt x="189" y="276"/>
                        </a:lnTo>
                        <a:lnTo>
                          <a:pt x="182" y="283"/>
                        </a:lnTo>
                        <a:lnTo>
                          <a:pt x="173" y="291"/>
                        </a:lnTo>
                        <a:lnTo>
                          <a:pt x="167" y="291"/>
                        </a:lnTo>
                        <a:lnTo>
                          <a:pt x="158" y="300"/>
                        </a:lnTo>
                        <a:lnTo>
                          <a:pt x="144" y="300"/>
                        </a:lnTo>
                        <a:lnTo>
                          <a:pt x="134" y="303"/>
                        </a:lnTo>
                        <a:lnTo>
                          <a:pt x="122" y="307"/>
                        </a:lnTo>
                        <a:lnTo>
                          <a:pt x="116" y="313"/>
                        </a:lnTo>
                        <a:lnTo>
                          <a:pt x="111" y="312"/>
                        </a:lnTo>
                        <a:lnTo>
                          <a:pt x="107" y="318"/>
                        </a:lnTo>
                        <a:lnTo>
                          <a:pt x="101" y="319"/>
                        </a:lnTo>
                        <a:lnTo>
                          <a:pt x="93" y="327"/>
                        </a:lnTo>
                        <a:lnTo>
                          <a:pt x="69" y="327"/>
                        </a:lnTo>
                        <a:lnTo>
                          <a:pt x="59" y="316"/>
                        </a:lnTo>
                        <a:lnTo>
                          <a:pt x="57" y="312"/>
                        </a:lnTo>
                        <a:lnTo>
                          <a:pt x="54" y="316"/>
                        </a:lnTo>
                        <a:lnTo>
                          <a:pt x="50" y="309"/>
                        </a:lnTo>
                        <a:lnTo>
                          <a:pt x="51" y="289"/>
                        </a:lnTo>
                        <a:lnTo>
                          <a:pt x="54" y="277"/>
                        </a:lnTo>
                        <a:lnTo>
                          <a:pt x="50" y="268"/>
                        </a:lnTo>
                        <a:lnTo>
                          <a:pt x="45" y="259"/>
                        </a:lnTo>
                        <a:lnTo>
                          <a:pt x="44" y="249"/>
                        </a:lnTo>
                        <a:lnTo>
                          <a:pt x="36" y="244"/>
                        </a:lnTo>
                        <a:lnTo>
                          <a:pt x="35" y="243"/>
                        </a:lnTo>
                        <a:lnTo>
                          <a:pt x="33" y="238"/>
                        </a:lnTo>
                        <a:lnTo>
                          <a:pt x="23" y="225"/>
                        </a:lnTo>
                        <a:lnTo>
                          <a:pt x="9" y="192"/>
                        </a:lnTo>
                        <a:lnTo>
                          <a:pt x="5" y="170"/>
                        </a:lnTo>
                        <a:lnTo>
                          <a:pt x="5" y="156"/>
                        </a:lnTo>
                        <a:lnTo>
                          <a:pt x="0" y="152"/>
                        </a:lnTo>
                        <a:lnTo>
                          <a:pt x="2" y="140"/>
                        </a:lnTo>
                        <a:lnTo>
                          <a:pt x="6" y="134"/>
                        </a:lnTo>
                        <a:lnTo>
                          <a:pt x="23" y="117"/>
                        </a:lnTo>
                        <a:lnTo>
                          <a:pt x="39" y="119"/>
                        </a:lnTo>
                        <a:lnTo>
                          <a:pt x="42" y="122"/>
                        </a:lnTo>
                        <a:lnTo>
                          <a:pt x="63" y="122"/>
                        </a:lnTo>
                        <a:lnTo>
                          <a:pt x="65" y="117"/>
                        </a:lnTo>
                        <a:lnTo>
                          <a:pt x="69" y="119"/>
                        </a:lnTo>
                        <a:lnTo>
                          <a:pt x="75" y="114"/>
                        </a:lnTo>
                        <a:lnTo>
                          <a:pt x="80" y="116"/>
                        </a:lnTo>
                        <a:lnTo>
                          <a:pt x="84" y="113"/>
                        </a:lnTo>
                        <a:lnTo>
                          <a:pt x="83" y="108"/>
                        </a:lnTo>
                        <a:lnTo>
                          <a:pt x="87" y="98"/>
                        </a:lnTo>
                        <a:lnTo>
                          <a:pt x="93" y="93"/>
                        </a:lnTo>
                        <a:lnTo>
                          <a:pt x="90" y="90"/>
                        </a:lnTo>
                        <a:lnTo>
                          <a:pt x="93" y="87"/>
                        </a:lnTo>
                        <a:lnTo>
                          <a:pt x="90" y="83"/>
                        </a:lnTo>
                        <a:lnTo>
                          <a:pt x="99" y="75"/>
                        </a:lnTo>
                        <a:lnTo>
                          <a:pt x="113" y="74"/>
                        </a:lnTo>
                        <a:lnTo>
                          <a:pt x="126" y="56"/>
                        </a:lnTo>
                        <a:lnTo>
                          <a:pt x="143" y="41"/>
                        </a:lnTo>
                        <a:lnTo>
                          <a:pt x="150" y="39"/>
                        </a:lnTo>
                        <a:lnTo>
                          <a:pt x="155" y="35"/>
                        </a:lnTo>
                        <a:lnTo>
                          <a:pt x="162" y="35"/>
                        </a:lnTo>
                        <a:lnTo>
                          <a:pt x="176" y="48"/>
                        </a:lnTo>
                        <a:lnTo>
                          <a:pt x="180" y="50"/>
                        </a:lnTo>
                        <a:lnTo>
                          <a:pt x="185" y="44"/>
                        </a:lnTo>
                        <a:lnTo>
                          <a:pt x="194" y="35"/>
                        </a:lnTo>
                        <a:lnTo>
                          <a:pt x="200" y="33"/>
                        </a:lnTo>
                        <a:lnTo>
                          <a:pt x="206" y="21"/>
                        </a:lnTo>
                        <a:lnTo>
                          <a:pt x="212" y="20"/>
                        </a:lnTo>
                        <a:lnTo>
                          <a:pt x="219" y="15"/>
                        </a:lnTo>
                        <a:lnTo>
                          <a:pt x="227" y="11"/>
                        </a:lnTo>
                        <a:lnTo>
                          <a:pt x="234" y="11"/>
                        </a:lnTo>
                        <a:lnTo>
                          <a:pt x="240" y="5"/>
                        </a:lnTo>
                        <a:lnTo>
                          <a:pt x="249" y="5"/>
                        </a:lnTo>
                        <a:lnTo>
                          <a:pt x="260" y="5"/>
                        </a:lnTo>
                        <a:lnTo>
                          <a:pt x="273" y="8"/>
                        </a:lnTo>
                        <a:lnTo>
                          <a:pt x="282" y="14"/>
                        </a:lnTo>
                        <a:lnTo>
                          <a:pt x="284" y="18"/>
                        </a:lnTo>
                        <a:lnTo>
                          <a:pt x="285" y="21"/>
                        </a:lnTo>
                        <a:lnTo>
                          <a:pt x="287" y="29"/>
                        </a:lnTo>
                        <a:lnTo>
                          <a:pt x="285" y="32"/>
                        </a:lnTo>
                        <a:lnTo>
                          <a:pt x="285" y="39"/>
                        </a:lnTo>
                        <a:lnTo>
                          <a:pt x="284" y="44"/>
                        </a:lnTo>
                        <a:lnTo>
                          <a:pt x="306" y="60"/>
                        </a:lnTo>
                        <a:lnTo>
                          <a:pt x="314" y="69"/>
                        </a:lnTo>
                        <a:lnTo>
                          <a:pt x="323" y="72"/>
                        </a:lnTo>
                        <a:lnTo>
                          <a:pt x="332" y="77"/>
                        </a:lnTo>
                        <a:lnTo>
                          <a:pt x="338" y="78"/>
                        </a:lnTo>
                        <a:lnTo>
                          <a:pt x="347" y="74"/>
                        </a:lnTo>
                        <a:lnTo>
                          <a:pt x="354" y="60"/>
                        </a:lnTo>
                        <a:lnTo>
                          <a:pt x="357" y="50"/>
                        </a:lnTo>
                        <a:lnTo>
                          <a:pt x="360" y="29"/>
                        </a:lnTo>
                        <a:lnTo>
                          <a:pt x="363" y="20"/>
                        </a:lnTo>
                        <a:lnTo>
                          <a:pt x="36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638760" y="3497400"/>
                    <a:ext cx="444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52">
                        <a:moveTo>
                          <a:pt x="0" y="0"/>
                        </a:moveTo>
                        <a:lnTo>
                          <a:pt x="21" y="7"/>
                        </a:lnTo>
                        <a:lnTo>
                          <a:pt x="39" y="7"/>
                        </a:lnTo>
                        <a:lnTo>
                          <a:pt x="55" y="7"/>
                        </a:lnTo>
                        <a:lnTo>
                          <a:pt x="67" y="7"/>
                        </a:lnTo>
                        <a:lnTo>
                          <a:pt x="76" y="9"/>
                        </a:lnTo>
                        <a:lnTo>
                          <a:pt x="88" y="13"/>
                        </a:lnTo>
                        <a:lnTo>
                          <a:pt x="94" y="24"/>
                        </a:lnTo>
                        <a:lnTo>
                          <a:pt x="100" y="28"/>
                        </a:lnTo>
                        <a:lnTo>
                          <a:pt x="111" y="27"/>
                        </a:lnTo>
                        <a:lnTo>
                          <a:pt x="123" y="27"/>
                        </a:lnTo>
                        <a:lnTo>
                          <a:pt x="136" y="33"/>
                        </a:lnTo>
                        <a:lnTo>
                          <a:pt x="145" y="36"/>
                        </a:lnTo>
                        <a:lnTo>
                          <a:pt x="151" y="36"/>
                        </a:lnTo>
                        <a:lnTo>
                          <a:pt x="153" y="28"/>
                        </a:lnTo>
                        <a:lnTo>
                          <a:pt x="157" y="24"/>
                        </a:lnTo>
                        <a:lnTo>
                          <a:pt x="175" y="27"/>
                        </a:lnTo>
                        <a:lnTo>
                          <a:pt x="190" y="27"/>
                        </a:lnTo>
                        <a:lnTo>
                          <a:pt x="204" y="27"/>
                        </a:lnTo>
                        <a:lnTo>
                          <a:pt x="214" y="31"/>
                        </a:lnTo>
                        <a:lnTo>
                          <a:pt x="220" y="34"/>
                        </a:lnTo>
                        <a:lnTo>
                          <a:pt x="231" y="33"/>
                        </a:lnTo>
                        <a:lnTo>
                          <a:pt x="238" y="30"/>
                        </a:lnTo>
                        <a:lnTo>
                          <a:pt x="243" y="27"/>
                        </a:lnTo>
                        <a:lnTo>
                          <a:pt x="255" y="27"/>
                        </a:lnTo>
                        <a:lnTo>
                          <a:pt x="262" y="24"/>
                        </a:lnTo>
                        <a:lnTo>
                          <a:pt x="273" y="21"/>
                        </a:lnTo>
                        <a:lnTo>
                          <a:pt x="279" y="21"/>
                        </a:lnTo>
                        <a:lnTo>
                          <a:pt x="277" y="31"/>
                        </a:lnTo>
                        <a:lnTo>
                          <a:pt x="274" y="36"/>
                        </a:lnTo>
                        <a:lnTo>
                          <a:pt x="268" y="40"/>
                        </a:lnTo>
                        <a:lnTo>
                          <a:pt x="262" y="40"/>
                        </a:lnTo>
                        <a:lnTo>
                          <a:pt x="261" y="40"/>
                        </a:lnTo>
                        <a:lnTo>
                          <a:pt x="253" y="42"/>
                        </a:lnTo>
                        <a:lnTo>
                          <a:pt x="247" y="48"/>
                        </a:lnTo>
                        <a:lnTo>
                          <a:pt x="241" y="46"/>
                        </a:lnTo>
                        <a:lnTo>
                          <a:pt x="235" y="43"/>
                        </a:lnTo>
                        <a:lnTo>
                          <a:pt x="229" y="46"/>
                        </a:lnTo>
                        <a:lnTo>
                          <a:pt x="223" y="48"/>
                        </a:lnTo>
                        <a:lnTo>
                          <a:pt x="219" y="48"/>
                        </a:lnTo>
                        <a:lnTo>
                          <a:pt x="214" y="51"/>
                        </a:lnTo>
                        <a:lnTo>
                          <a:pt x="202" y="51"/>
                        </a:lnTo>
                        <a:lnTo>
                          <a:pt x="198" y="46"/>
                        </a:lnTo>
                        <a:lnTo>
                          <a:pt x="192" y="40"/>
                        </a:lnTo>
                        <a:lnTo>
                          <a:pt x="184" y="46"/>
                        </a:lnTo>
                        <a:lnTo>
                          <a:pt x="180" y="51"/>
                        </a:lnTo>
                        <a:lnTo>
                          <a:pt x="174" y="51"/>
                        </a:lnTo>
                        <a:lnTo>
                          <a:pt x="163" y="40"/>
                        </a:lnTo>
                        <a:lnTo>
                          <a:pt x="160" y="42"/>
                        </a:lnTo>
                        <a:lnTo>
                          <a:pt x="154" y="42"/>
                        </a:lnTo>
                        <a:lnTo>
                          <a:pt x="150" y="48"/>
                        </a:lnTo>
                        <a:lnTo>
                          <a:pt x="141" y="46"/>
                        </a:lnTo>
                        <a:lnTo>
                          <a:pt x="132" y="46"/>
                        </a:lnTo>
                        <a:lnTo>
                          <a:pt x="127" y="43"/>
                        </a:lnTo>
                        <a:lnTo>
                          <a:pt x="121" y="40"/>
                        </a:lnTo>
                        <a:lnTo>
                          <a:pt x="112" y="42"/>
                        </a:lnTo>
                        <a:lnTo>
                          <a:pt x="103" y="48"/>
                        </a:lnTo>
                        <a:lnTo>
                          <a:pt x="97" y="46"/>
                        </a:lnTo>
                        <a:lnTo>
                          <a:pt x="88" y="43"/>
                        </a:lnTo>
                        <a:lnTo>
                          <a:pt x="78" y="39"/>
                        </a:lnTo>
                        <a:lnTo>
                          <a:pt x="69" y="39"/>
                        </a:lnTo>
                        <a:lnTo>
                          <a:pt x="51" y="34"/>
                        </a:lnTo>
                        <a:lnTo>
                          <a:pt x="39" y="31"/>
                        </a:lnTo>
                        <a:lnTo>
                          <a:pt x="31" y="30"/>
                        </a:lnTo>
                        <a:lnTo>
                          <a:pt x="19" y="28"/>
                        </a:lnTo>
                        <a:lnTo>
                          <a:pt x="12" y="22"/>
                        </a:lnTo>
                        <a:lnTo>
                          <a:pt x="4" y="21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881760" y="333684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99">
                        <a:moveTo>
                          <a:pt x="31" y="0"/>
                        </a:moveTo>
                        <a:lnTo>
                          <a:pt x="61" y="2"/>
                        </a:lnTo>
                        <a:lnTo>
                          <a:pt x="90" y="2"/>
                        </a:lnTo>
                        <a:lnTo>
                          <a:pt x="105" y="0"/>
                        </a:lnTo>
                        <a:lnTo>
                          <a:pt x="126" y="9"/>
                        </a:lnTo>
                        <a:lnTo>
                          <a:pt x="112" y="12"/>
                        </a:lnTo>
                        <a:lnTo>
                          <a:pt x="105" y="17"/>
                        </a:lnTo>
                        <a:lnTo>
                          <a:pt x="100" y="20"/>
                        </a:lnTo>
                        <a:lnTo>
                          <a:pt x="97" y="23"/>
                        </a:lnTo>
                        <a:lnTo>
                          <a:pt x="97" y="26"/>
                        </a:lnTo>
                        <a:lnTo>
                          <a:pt x="97" y="30"/>
                        </a:lnTo>
                        <a:lnTo>
                          <a:pt x="88" y="33"/>
                        </a:lnTo>
                        <a:lnTo>
                          <a:pt x="81" y="33"/>
                        </a:lnTo>
                        <a:lnTo>
                          <a:pt x="78" y="35"/>
                        </a:lnTo>
                        <a:lnTo>
                          <a:pt x="70" y="35"/>
                        </a:lnTo>
                        <a:lnTo>
                          <a:pt x="67" y="30"/>
                        </a:lnTo>
                        <a:lnTo>
                          <a:pt x="61" y="24"/>
                        </a:lnTo>
                        <a:lnTo>
                          <a:pt x="55" y="20"/>
                        </a:lnTo>
                        <a:lnTo>
                          <a:pt x="43" y="20"/>
                        </a:lnTo>
                        <a:lnTo>
                          <a:pt x="40" y="20"/>
                        </a:lnTo>
                        <a:lnTo>
                          <a:pt x="37" y="27"/>
                        </a:lnTo>
                        <a:lnTo>
                          <a:pt x="39" y="35"/>
                        </a:lnTo>
                        <a:lnTo>
                          <a:pt x="39" y="39"/>
                        </a:lnTo>
                        <a:lnTo>
                          <a:pt x="40" y="44"/>
                        </a:lnTo>
                        <a:lnTo>
                          <a:pt x="46" y="42"/>
                        </a:lnTo>
                        <a:lnTo>
                          <a:pt x="55" y="38"/>
                        </a:lnTo>
                        <a:lnTo>
                          <a:pt x="61" y="38"/>
                        </a:lnTo>
                        <a:lnTo>
                          <a:pt x="66" y="41"/>
                        </a:lnTo>
                        <a:lnTo>
                          <a:pt x="66" y="44"/>
                        </a:lnTo>
                        <a:lnTo>
                          <a:pt x="63" y="50"/>
                        </a:lnTo>
                        <a:lnTo>
                          <a:pt x="61" y="53"/>
                        </a:lnTo>
                        <a:lnTo>
                          <a:pt x="61" y="56"/>
                        </a:lnTo>
                        <a:lnTo>
                          <a:pt x="60" y="60"/>
                        </a:lnTo>
                        <a:lnTo>
                          <a:pt x="63" y="65"/>
                        </a:lnTo>
                        <a:lnTo>
                          <a:pt x="69" y="71"/>
                        </a:lnTo>
                        <a:lnTo>
                          <a:pt x="70" y="69"/>
                        </a:lnTo>
                        <a:lnTo>
                          <a:pt x="70" y="75"/>
                        </a:lnTo>
                        <a:lnTo>
                          <a:pt x="67" y="80"/>
                        </a:lnTo>
                        <a:lnTo>
                          <a:pt x="64" y="84"/>
                        </a:lnTo>
                        <a:lnTo>
                          <a:pt x="63" y="92"/>
                        </a:lnTo>
                        <a:lnTo>
                          <a:pt x="57" y="95"/>
                        </a:lnTo>
                        <a:lnTo>
                          <a:pt x="52" y="95"/>
                        </a:lnTo>
                        <a:lnTo>
                          <a:pt x="48" y="95"/>
                        </a:lnTo>
                        <a:lnTo>
                          <a:pt x="48" y="89"/>
                        </a:lnTo>
                        <a:lnTo>
                          <a:pt x="46" y="78"/>
                        </a:lnTo>
                        <a:lnTo>
                          <a:pt x="42" y="75"/>
                        </a:lnTo>
                        <a:lnTo>
                          <a:pt x="40" y="71"/>
                        </a:lnTo>
                        <a:lnTo>
                          <a:pt x="42" y="62"/>
                        </a:lnTo>
                        <a:lnTo>
                          <a:pt x="37" y="59"/>
                        </a:lnTo>
                        <a:lnTo>
                          <a:pt x="27" y="62"/>
                        </a:lnTo>
                        <a:lnTo>
                          <a:pt x="22" y="59"/>
                        </a:lnTo>
                        <a:lnTo>
                          <a:pt x="18" y="63"/>
                        </a:lnTo>
                        <a:lnTo>
                          <a:pt x="22" y="66"/>
                        </a:lnTo>
                        <a:lnTo>
                          <a:pt x="30" y="69"/>
                        </a:lnTo>
                        <a:lnTo>
                          <a:pt x="31" y="72"/>
                        </a:lnTo>
                        <a:lnTo>
                          <a:pt x="36" y="78"/>
                        </a:lnTo>
                        <a:lnTo>
                          <a:pt x="36" y="83"/>
                        </a:lnTo>
                        <a:lnTo>
                          <a:pt x="31" y="90"/>
                        </a:lnTo>
                        <a:lnTo>
                          <a:pt x="25" y="96"/>
                        </a:lnTo>
                        <a:lnTo>
                          <a:pt x="22" y="98"/>
                        </a:lnTo>
                        <a:lnTo>
                          <a:pt x="22" y="93"/>
                        </a:lnTo>
                        <a:lnTo>
                          <a:pt x="22" y="89"/>
                        </a:lnTo>
                        <a:lnTo>
                          <a:pt x="24" y="83"/>
                        </a:lnTo>
                        <a:lnTo>
                          <a:pt x="16" y="78"/>
                        </a:lnTo>
                        <a:lnTo>
                          <a:pt x="9" y="74"/>
                        </a:lnTo>
                        <a:lnTo>
                          <a:pt x="7" y="69"/>
                        </a:lnTo>
                        <a:lnTo>
                          <a:pt x="0" y="66"/>
                        </a:lnTo>
                        <a:lnTo>
                          <a:pt x="1" y="59"/>
                        </a:lnTo>
                        <a:lnTo>
                          <a:pt x="7" y="54"/>
                        </a:lnTo>
                        <a:lnTo>
                          <a:pt x="12" y="47"/>
                        </a:lnTo>
                        <a:lnTo>
                          <a:pt x="16" y="39"/>
                        </a:lnTo>
                        <a:lnTo>
                          <a:pt x="18" y="32"/>
                        </a:lnTo>
                        <a:lnTo>
                          <a:pt x="16" y="24"/>
                        </a:lnTo>
                        <a:lnTo>
                          <a:pt x="19" y="21"/>
                        </a:lnTo>
                        <a:lnTo>
                          <a:pt x="22" y="18"/>
                        </a:lnTo>
                        <a:lnTo>
                          <a:pt x="18" y="12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6669000" y="3268800"/>
                    <a:ext cx="2239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6">
                        <a:moveTo>
                          <a:pt x="0" y="45"/>
                        </a:moveTo>
                        <a:lnTo>
                          <a:pt x="29" y="24"/>
                        </a:lnTo>
                        <a:lnTo>
                          <a:pt x="44" y="15"/>
                        </a:lnTo>
                        <a:lnTo>
                          <a:pt x="51" y="7"/>
                        </a:lnTo>
                        <a:lnTo>
                          <a:pt x="74" y="0"/>
                        </a:lnTo>
                        <a:lnTo>
                          <a:pt x="86" y="16"/>
                        </a:lnTo>
                        <a:lnTo>
                          <a:pt x="98" y="9"/>
                        </a:lnTo>
                        <a:lnTo>
                          <a:pt x="102" y="4"/>
                        </a:lnTo>
                        <a:lnTo>
                          <a:pt x="113" y="0"/>
                        </a:lnTo>
                        <a:lnTo>
                          <a:pt x="119" y="0"/>
                        </a:lnTo>
                        <a:lnTo>
                          <a:pt x="120" y="6"/>
                        </a:lnTo>
                        <a:lnTo>
                          <a:pt x="120" y="10"/>
                        </a:lnTo>
                        <a:lnTo>
                          <a:pt x="114" y="18"/>
                        </a:lnTo>
                        <a:lnTo>
                          <a:pt x="114" y="22"/>
                        </a:lnTo>
                        <a:lnTo>
                          <a:pt x="131" y="42"/>
                        </a:lnTo>
                        <a:lnTo>
                          <a:pt x="134" y="54"/>
                        </a:lnTo>
                        <a:lnTo>
                          <a:pt x="138" y="54"/>
                        </a:lnTo>
                        <a:lnTo>
                          <a:pt x="140" y="60"/>
                        </a:lnTo>
                        <a:lnTo>
                          <a:pt x="134" y="66"/>
                        </a:lnTo>
                        <a:lnTo>
                          <a:pt x="129" y="63"/>
                        </a:lnTo>
                        <a:lnTo>
                          <a:pt x="119" y="67"/>
                        </a:lnTo>
                        <a:lnTo>
                          <a:pt x="120" y="79"/>
                        </a:lnTo>
                        <a:lnTo>
                          <a:pt x="108" y="87"/>
                        </a:lnTo>
                        <a:lnTo>
                          <a:pt x="108" y="106"/>
                        </a:lnTo>
                        <a:lnTo>
                          <a:pt x="108" y="120"/>
                        </a:lnTo>
                        <a:lnTo>
                          <a:pt x="102" y="126"/>
                        </a:lnTo>
                        <a:lnTo>
                          <a:pt x="98" y="135"/>
                        </a:lnTo>
                        <a:lnTo>
                          <a:pt x="92" y="133"/>
                        </a:lnTo>
                        <a:lnTo>
                          <a:pt x="83" y="129"/>
                        </a:lnTo>
                        <a:lnTo>
                          <a:pt x="75" y="124"/>
                        </a:lnTo>
                        <a:lnTo>
                          <a:pt x="69" y="117"/>
                        </a:lnTo>
                        <a:lnTo>
                          <a:pt x="48" y="118"/>
                        </a:lnTo>
                        <a:lnTo>
                          <a:pt x="30" y="114"/>
                        </a:lnTo>
                        <a:lnTo>
                          <a:pt x="18" y="102"/>
                        </a:lnTo>
                        <a:lnTo>
                          <a:pt x="11" y="93"/>
                        </a:lnTo>
                        <a:lnTo>
                          <a:pt x="5" y="85"/>
                        </a:lnTo>
                        <a:lnTo>
                          <a:pt x="5" y="70"/>
                        </a:lnTo>
                        <a:lnTo>
                          <a:pt x="0" y="4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7140600" y="3389400"/>
                    <a:ext cx="4255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27">
                        <a:moveTo>
                          <a:pt x="0" y="0"/>
                        </a:moveTo>
                        <a:lnTo>
                          <a:pt x="24" y="2"/>
                        </a:lnTo>
                        <a:lnTo>
                          <a:pt x="44" y="3"/>
                        </a:lnTo>
                        <a:lnTo>
                          <a:pt x="53" y="21"/>
                        </a:lnTo>
                        <a:lnTo>
                          <a:pt x="54" y="27"/>
                        </a:lnTo>
                        <a:lnTo>
                          <a:pt x="57" y="30"/>
                        </a:lnTo>
                        <a:lnTo>
                          <a:pt x="63" y="26"/>
                        </a:lnTo>
                        <a:lnTo>
                          <a:pt x="74" y="26"/>
                        </a:lnTo>
                        <a:lnTo>
                          <a:pt x="80" y="30"/>
                        </a:lnTo>
                        <a:lnTo>
                          <a:pt x="83" y="29"/>
                        </a:lnTo>
                        <a:lnTo>
                          <a:pt x="92" y="21"/>
                        </a:lnTo>
                        <a:lnTo>
                          <a:pt x="93" y="21"/>
                        </a:lnTo>
                        <a:lnTo>
                          <a:pt x="101" y="17"/>
                        </a:lnTo>
                        <a:lnTo>
                          <a:pt x="108" y="17"/>
                        </a:lnTo>
                        <a:lnTo>
                          <a:pt x="132" y="26"/>
                        </a:lnTo>
                        <a:lnTo>
                          <a:pt x="143" y="26"/>
                        </a:lnTo>
                        <a:lnTo>
                          <a:pt x="153" y="33"/>
                        </a:lnTo>
                        <a:lnTo>
                          <a:pt x="164" y="36"/>
                        </a:lnTo>
                        <a:lnTo>
                          <a:pt x="173" y="42"/>
                        </a:lnTo>
                        <a:lnTo>
                          <a:pt x="180" y="44"/>
                        </a:lnTo>
                        <a:lnTo>
                          <a:pt x="200" y="50"/>
                        </a:lnTo>
                        <a:lnTo>
                          <a:pt x="209" y="60"/>
                        </a:lnTo>
                        <a:lnTo>
                          <a:pt x="213" y="66"/>
                        </a:lnTo>
                        <a:lnTo>
                          <a:pt x="212" y="69"/>
                        </a:lnTo>
                        <a:lnTo>
                          <a:pt x="219" y="75"/>
                        </a:lnTo>
                        <a:lnTo>
                          <a:pt x="225" y="77"/>
                        </a:lnTo>
                        <a:lnTo>
                          <a:pt x="228" y="78"/>
                        </a:lnTo>
                        <a:lnTo>
                          <a:pt x="236" y="80"/>
                        </a:lnTo>
                        <a:lnTo>
                          <a:pt x="248" y="89"/>
                        </a:lnTo>
                        <a:lnTo>
                          <a:pt x="248" y="95"/>
                        </a:lnTo>
                        <a:lnTo>
                          <a:pt x="255" y="101"/>
                        </a:lnTo>
                        <a:lnTo>
                          <a:pt x="257" y="104"/>
                        </a:lnTo>
                        <a:lnTo>
                          <a:pt x="267" y="116"/>
                        </a:lnTo>
                        <a:lnTo>
                          <a:pt x="258" y="126"/>
                        </a:lnTo>
                        <a:lnTo>
                          <a:pt x="255" y="126"/>
                        </a:lnTo>
                        <a:lnTo>
                          <a:pt x="246" y="126"/>
                        </a:lnTo>
                        <a:lnTo>
                          <a:pt x="243" y="122"/>
                        </a:lnTo>
                        <a:lnTo>
                          <a:pt x="239" y="122"/>
                        </a:lnTo>
                        <a:lnTo>
                          <a:pt x="234" y="123"/>
                        </a:lnTo>
                        <a:lnTo>
                          <a:pt x="212" y="99"/>
                        </a:lnTo>
                        <a:lnTo>
                          <a:pt x="198" y="101"/>
                        </a:lnTo>
                        <a:lnTo>
                          <a:pt x="185" y="99"/>
                        </a:lnTo>
                        <a:lnTo>
                          <a:pt x="180" y="102"/>
                        </a:lnTo>
                        <a:lnTo>
                          <a:pt x="176" y="107"/>
                        </a:lnTo>
                        <a:lnTo>
                          <a:pt x="174" y="104"/>
                        </a:lnTo>
                        <a:lnTo>
                          <a:pt x="168" y="111"/>
                        </a:lnTo>
                        <a:lnTo>
                          <a:pt x="159" y="122"/>
                        </a:lnTo>
                        <a:lnTo>
                          <a:pt x="152" y="117"/>
                        </a:lnTo>
                        <a:lnTo>
                          <a:pt x="143" y="114"/>
                        </a:lnTo>
                        <a:lnTo>
                          <a:pt x="137" y="114"/>
                        </a:lnTo>
                        <a:lnTo>
                          <a:pt x="128" y="111"/>
                        </a:lnTo>
                        <a:lnTo>
                          <a:pt x="123" y="114"/>
                        </a:lnTo>
                        <a:lnTo>
                          <a:pt x="117" y="99"/>
                        </a:lnTo>
                        <a:lnTo>
                          <a:pt x="107" y="86"/>
                        </a:lnTo>
                        <a:lnTo>
                          <a:pt x="96" y="69"/>
                        </a:lnTo>
                        <a:lnTo>
                          <a:pt x="87" y="60"/>
                        </a:lnTo>
                        <a:lnTo>
                          <a:pt x="80" y="51"/>
                        </a:lnTo>
                        <a:lnTo>
                          <a:pt x="63" y="51"/>
                        </a:lnTo>
                        <a:lnTo>
                          <a:pt x="48" y="56"/>
                        </a:lnTo>
                        <a:lnTo>
                          <a:pt x="41" y="50"/>
                        </a:lnTo>
                        <a:lnTo>
                          <a:pt x="26" y="45"/>
                        </a:lnTo>
                        <a:lnTo>
                          <a:pt x="18" y="41"/>
                        </a:lnTo>
                        <a:lnTo>
                          <a:pt x="18" y="23"/>
                        </a:lnTo>
                        <a:lnTo>
                          <a:pt x="20" y="14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354720" y="3246480"/>
                    <a:ext cx="25884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68">
                        <a:moveTo>
                          <a:pt x="0" y="5"/>
                        </a:moveTo>
                        <a:lnTo>
                          <a:pt x="17" y="0"/>
                        </a:lnTo>
                        <a:lnTo>
                          <a:pt x="36" y="8"/>
                        </a:lnTo>
                        <a:lnTo>
                          <a:pt x="39" y="15"/>
                        </a:lnTo>
                        <a:lnTo>
                          <a:pt x="39" y="18"/>
                        </a:lnTo>
                        <a:lnTo>
                          <a:pt x="44" y="20"/>
                        </a:lnTo>
                        <a:lnTo>
                          <a:pt x="44" y="23"/>
                        </a:lnTo>
                        <a:lnTo>
                          <a:pt x="50" y="24"/>
                        </a:lnTo>
                        <a:lnTo>
                          <a:pt x="50" y="30"/>
                        </a:lnTo>
                        <a:lnTo>
                          <a:pt x="69" y="48"/>
                        </a:lnTo>
                        <a:lnTo>
                          <a:pt x="72" y="48"/>
                        </a:lnTo>
                        <a:lnTo>
                          <a:pt x="75" y="53"/>
                        </a:lnTo>
                        <a:lnTo>
                          <a:pt x="78" y="57"/>
                        </a:lnTo>
                        <a:lnTo>
                          <a:pt x="81" y="57"/>
                        </a:lnTo>
                        <a:lnTo>
                          <a:pt x="95" y="63"/>
                        </a:lnTo>
                        <a:lnTo>
                          <a:pt x="120" y="66"/>
                        </a:lnTo>
                        <a:lnTo>
                          <a:pt x="122" y="87"/>
                        </a:lnTo>
                        <a:lnTo>
                          <a:pt x="128" y="90"/>
                        </a:lnTo>
                        <a:lnTo>
                          <a:pt x="126" y="98"/>
                        </a:lnTo>
                        <a:lnTo>
                          <a:pt x="141" y="108"/>
                        </a:lnTo>
                        <a:lnTo>
                          <a:pt x="155" y="113"/>
                        </a:lnTo>
                        <a:lnTo>
                          <a:pt x="155" y="147"/>
                        </a:lnTo>
                        <a:lnTo>
                          <a:pt x="162" y="161"/>
                        </a:lnTo>
                        <a:lnTo>
                          <a:pt x="158" y="165"/>
                        </a:lnTo>
                        <a:lnTo>
                          <a:pt x="149" y="167"/>
                        </a:lnTo>
                        <a:lnTo>
                          <a:pt x="147" y="155"/>
                        </a:lnTo>
                        <a:lnTo>
                          <a:pt x="132" y="167"/>
                        </a:lnTo>
                        <a:lnTo>
                          <a:pt x="122" y="149"/>
                        </a:lnTo>
                        <a:lnTo>
                          <a:pt x="116" y="137"/>
                        </a:lnTo>
                        <a:lnTo>
                          <a:pt x="98" y="120"/>
                        </a:lnTo>
                        <a:lnTo>
                          <a:pt x="93" y="120"/>
                        </a:lnTo>
                        <a:lnTo>
                          <a:pt x="77" y="111"/>
                        </a:lnTo>
                        <a:lnTo>
                          <a:pt x="74" y="102"/>
                        </a:lnTo>
                        <a:lnTo>
                          <a:pt x="74" y="96"/>
                        </a:lnTo>
                        <a:lnTo>
                          <a:pt x="60" y="72"/>
                        </a:lnTo>
                        <a:lnTo>
                          <a:pt x="54" y="57"/>
                        </a:lnTo>
                        <a:lnTo>
                          <a:pt x="38" y="44"/>
                        </a:lnTo>
                        <a:lnTo>
                          <a:pt x="15" y="23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811920" y="2960640"/>
                    <a:ext cx="24912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86">
                        <a:moveTo>
                          <a:pt x="11" y="0"/>
                        </a:moveTo>
                        <a:lnTo>
                          <a:pt x="24" y="0"/>
                        </a:lnTo>
                        <a:lnTo>
                          <a:pt x="39" y="20"/>
                        </a:lnTo>
                        <a:lnTo>
                          <a:pt x="36" y="38"/>
                        </a:lnTo>
                        <a:lnTo>
                          <a:pt x="45" y="44"/>
                        </a:lnTo>
                        <a:lnTo>
                          <a:pt x="50" y="56"/>
                        </a:lnTo>
                        <a:lnTo>
                          <a:pt x="60" y="62"/>
                        </a:lnTo>
                        <a:lnTo>
                          <a:pt x="72" y="63"/>
                        </a:lnTo>
                        <a:lnTo>
                          <a:pt x="90" y="72"/>
                        </a:lnTo>
                        <a:lnTo>
                          <a:pt x="102" y="84"/>
                        </a:lnTo>
                        <a:lnTo>
                          <a:pt x="105" y="84"/>
                        </a:lnTo>
                        <a:lnTo>
                          <a:pt x="120" y="93"/>
                        </a:lnTo>
                        <a:lnTo>
                          <a:pt x="120" y="116"/>
                        </a:lnTo>
                        <a:lnTo>
                          <a:pt x="125" y="126"/>
                        </a:lnTo>
                        <a:lnTo>
                          <a:pt x="129" y="132"/>
                        </a:lnTo>
                        <a:lnTo>
                          <a:pt x="135" y="138"/>
                        </a:lnTo>
                        <a:lnTo>
                          <a:pt x="141" y="146"/>
                        </a:lnTo>
                        <a:lnTo>
                          <a:pt x="144" y="155"/>
                        </a:lnTo>
                        <a:lnTo>
                          <a:pt x="156" y="162"/>
                        </a:lnTo>
                        <a:lnTo>
                          <a:pt x="155" y="171"/>
                        </a:lnTo>
                        <a:lnTo>
                          <a:pt x="143" y="173"/>
                        </a:lnTo>
                        <a:lnTo>
                          <a:pt x="138" y="165"/>
                        </a:lnTo>
                        <a:lnTo>
                          <a:pt x="129" y="165"/>
                        </a:lnTo>
                        <a:lnTo>
                          <a:pt x="129" y="185"/>
                        </a:lnTo>
                        <a:lnTo>
                          <a:pt x="122" y="185"/>
                        </a:lnTo>
                        <a:lnTo>
                          <a:pt x="113" y="176"/>
                        </a:lnTo>
                        <a:lnTo>
                          <a:pt x="107" y="171"/>
                        </a:lnTo>
                        <a:lnTo>
                          <a:pt x="107" y="161"/>
                        </a:lnTo>
                        <a:lnTo>
                          <a:pt x="93" y="161"/>
                        </a:lnTo>
                        <a:lnTo>
                          <a:pt x="89" y="171"/>
                        </a:lnTo>
                        <a:lnTo>
                          <a:pt x="84" y="161"/>
                        </a:lnTo>
                        <a:lnTo>
                          <a:pt x="83" y="150"/>
                        </a:lnTo>
                        <a:lnTo>
                          <a:pt x="99" y="146"/>
                        </a:lnTo>
                        <a:lnTo>
                          <a:pt x="108" y="149"/>
                        </a:lnTo>
                        <a:lnTo>
                          <a:pt x="110" y="131"/>
                        </a:lnTo>
                        <a:lnTo>
                          <a:pt x="101" y="125"/>
                        </a:lnTo>
                        <a:lnTo>
                          <a:pt x="95" y="110"/>
                        </a:lnTo>
                        <a:lnTo>
                          <a:pt x="90" y="92"/>
                        </a:lnTo>
                        <a:lnTo>
                          <a:pt x="74" y="86"/>
                        </a:lnTo>
                        <a:lnTo>
                          <a:pt x="66" y="77"/>
                        </a:lnTo>
                        <a:lnTo>
                          <a:pt x="53" y="72"/>
                        </a:lnTo>
                        <a:lnTo>
                          <a:pt x="60" y="90"/>
                        </a:lnTo>
                        <a:lnTo>
                          <a:pt x="45" y="98"/>
                        </a:lnTo>
                        <a:lnTo>
                          <a:pt x="36" y="78"/>
                        </a:lnTo>
                        <a:lnTo>
                          <a:pt x="29" y="74"/>
                        </a:lnTo>
                        <a:lnTo>
                          <a:pt x="29" y="63"/>
                        </a:lnTo>
                        <a:lnTo>
                          <a:pt x="18" y="51"/>
                        </a:lnTo>
                        <a:lnTo>
                          <a:pt x="6" y="44"/>
                        </a:lnTo>
                        <a:lnTo>
                          <a:pt x="0" y="36"/>
                        </a:lnTo>
                        <a:lnTo>
                          <a:pt x="3" y="30"/>
                        </a:lnTo>
                        <a:lnTo>
                          <a:pt x="12" y="33"/>
                        </a:lnTo>
                        <a:lnTo>
                          <a:pt x="15" y="26"/>
                        </a:lnTo>
                        <a:lnTo>
                          <a:pt x="12" y="15"/>
                        </a:lnTo>
                        <a:lnTo>
                          <a:pt x="1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754680" y="2463840"/>
                    <a:ext cx="18576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9">
                        <a:moveTo>
                          <a:pt x="24" y="0"/>
                        </a:moveTo>
                        <a:lnTo>
                          <a:pt x="47" y="11"/>
                        </a:lnTo>
                        <a:lnTo>
                          <a:pt x="60" y="23"/>
                        </a:lnTo>
                        <a:lnTo>
                          <a:pt x="69" y="36"/>
                        </a:lnTo>
                        <a:lnTo>
                          <a:pt x="77" y="36"/>
                        </a:lnTo>
                        <a:lnTo>
                          <a:pt x="75" y="45"/>
                        </a:lnTo>
                        <a:lnTo>
                          <a:pt x="84" y="51"/>
                        </a:lnTo>
                        <a:lnTo>
                          <a:pt x="90" y="60"/>
                        </a:lnTo>
                        <a:lnTo>
                          <a:pt x="105" y="78"/>
                        </a:lnTo>
                        <a:lnTo>
                          <a:pt x="116" y="99"/>
                        </a:lnTo>
                        <a:lnTo>
                          <a:pt x="96" y="98"/>
                        </a:lnTo>
                        <a:lnTo>
                          <a:pt x="81" y="95"/>
                        </a:lnTo>
                        <a:lnTo>
                          <a:pt x="92" y="110"/>
                        </a:lnTo>
                        <a:lnTo>
                          <a:pt x="92" y="119"/>
                        </a:lnTo>
                        <a:lnTo>
                          <a:pt x="92" y="128"/>
                        </a:lnTo>
                        <a:lnTo>
                          <a:pt x="86" y="123"/>
                        </a:lnTo>
                        <a:lnTo>
                          <a:pt x="78" y="116"/>
                        </a:lnTo>
                        <a:lnTo>
                          <a:pt x="65" y="107"/>
                        </a:lnTo>
                        <a:lnTo>
                          <a:pt x="57" y="102"/>
                        </a:lnTo>
                        <a:lnTo>
                          <a:pt x="45" y="107"/>
                        </a:lnTo>
                        <a:lnTo>
                          <a:pt x="38" y="110"/>
                        </a:lnTo>
                        <a:lnTo>
                          <a:pt x="42" y="117"/>
                        </a:lnTo>
                        <a:lnTo>
                          <a:pt x="54" y="123"/>
                        </a:lnTo>
                        <a:lnTo>
                          <a:pt x="66" y="129"/>
                        </a:lnTo>
                        <a:lnTo>
                          <a:pt x="71" y="140"/>
                        </a:lnTo>
                        <a:lnTo>
                          <a:pt x="69" y="153"/>
                        </a:lnTo>
                        <a:lnTo>
                          <a:pt x="69" y="158"/>
                        </a:lnTo>
                        <a:lnTo>
                          <a:pt x="65" y="158"/>
                        </a:lnTo>
                        <a:lnTo>
                          <a:pt x="57" y="153"/>
                        </a:lnTo>
                        <a:lnTo>
                          <a:pt x="54" y="152"/>
                        </a:lnTo>
                        <a:lnTo>
                          <a:pt x="50" y="149"/>
                        </a:lnTo>
                        <a:lnTo>
                          <a:pt x="45" y="156"/>
                        </a:lnTo>
                        <a:lnTo>
                          <a:pt x="38" y="158"/>
                        </a:lnTo>
                        <a:lnTo>
                          <a:pt x="32" y="152"/>
                        </a:lnTo>
                        <a:lnTo>
                          <a:pt x="32" y="138"/>
                        </a:lnTo>
                        <a:lnTo>
                          <a:pt x="30" y="131"/>
                        </a:lnTo>
                        <a:lnTo>
                          <a:pt x="23" y="126"/>
                        </a:lnTo>
                        <a:lnTo>
                          <a:pt x="15" y="134"/>
                        </a:lnTo>
                        <a:lnTo>
                          <a:pt x="3" y="134"/>
                        </a:lnTo>
                        <a:lnTo>
                          <a:pt x="0" y="128"/>
                        </a:lnTo>
                        <a:lnTo>
                          <a:pt x="3" y="113"/>
                        </a:lnTo>
                        <a:lnTo>
                          <a:pt x="12" y="104"/>
                        </a:lnTo>
                        <a:lnTo>
                          <a:pt x="11" y="80"/>
                        </a:lnTo>
                        <a:lnTo>
                          <a:pt x="11" y="74"/>
                        </a:lnTo>
                        <a:lnTo>
                          <a:pt x="20" y="72"/>
                        </a:lnTo>
                        <a:lnTo>
                          <a:pt x="27" y="78"/>
                        </a:lnTo>
                        <a:lnTo>
                          <a:pt x="41" y="81"/>
                        </a:lnTo>
                        <a:lnTo>
                          <a:pt x="41" y="71"/>
                        </a:lnTo>
                        <a:lnTo>
                          <a:pt x="35" y="65"/>
                        </a:lnTo>
                        <a:lnTo>
                          <a:pt x="32" y="60"/>
                        </a:lnTo>
                        <a:lnTo>
                          <a:pt x="36" y="60"/>
                        </a:lnTo>
                        <a:lnTo>
                          <a:pt x="39" y="60"/>
                        </a:lnTo>
                        <a:lnTo>
                          <a:pt x="42" y="60"/>
                        </a:lnTo>
                        <a:lnTo>
                          <a:pt x="45" y="60"/>
                        </a:lnTo>
                        <a:lnTo>
                          <a:pt x="50" y="56"/>
                        </a:lnTo>
                        <a:lnTo>
                          <a:pt x="48" y="51"/>
                        </a:lnTo>
                        <a:lnTo>
                          <a:pt x="44" y="41"/>
                        </a:lnTo>
                        <a:lnTo>
                          <a:pt x="35" y="30"/>
                        </a:lnTo>
                        <a:lnTo>
                          <a:pt x="23" y="24"/>
                        </a:lnTo>
                        <a:lnTo>
                          <a:pt x="18" y="15"/>
                        </a:lnTo>
                        <a:lnTo>
                          <a:pt x="2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6545160" y="2166840"/>
                    <a:ext cx="20160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28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" y="9"/>
                        </a:lnTo>
                        <a:lnTo>
                          <a:pt x="33" y="22"/>
                        </a:lnTo>
                        <a:lnTo>
                          <a:pt x="41" y="37"/>
                        </a:lnTo>
                        <a:lnTo>
                          <a:pt x="53" y="39"/>
                        </a:lnTo>
                        <a:lnTo>
                          <a:pt x="62" y="42"/>
                        </a:lnTo>
                        <a:lnTo>
                          <a:pt x="69" y="48"/>
                        </a:lnTo>
                        <a:lnTo>
                          <a:pt x="78" y="48"/>
                        </a:lnTo>
                        <a:lnTo>
                          <a:pt x="89" y="57"/>
                        </a:lnTo>
                        <a:lnTo>
                          <a:pt x="98" y="64"/>
                        </a:lnTo>
                        <a:lnTo>
                          <a:pt x="108" y="69"/>
                        </a:lnTo>
                        <a:lnTo>
                          <a:pt x="107" y="73"/>
                        </a:lnTo>
                        <a:lnTo>
                          <a:pt x="101" y="76"/>
                        </a:lnTo>
                        <a:lnTo>
                          <a:pt x="95" y="76"/>
                        </a:lnTo>
                        <a:lnTo>
                          <a:pt x="92" y="81"/>
                        </a:lnTo>
                        <a:lnTo>
                          <a:pt x="104" y="90"/>
                        </a:lnTo>
                        <a:lnTo>
                          <a:pt x="113" y="99"/>
                        </a:lnTo>
                        <a:lnTo>
                          <a:pt x="126" y="108"/>
                        </a:lnTo>
                        <a:lnTo>
                          <a:pt x="117" y="118"/>
                        </a:lnTo>
                        <a:lnTo>
                          <a:pt x="110" y="121"/>
                        </a:lnTo>
                        <a:lnTo>
                          <a:pt x="111" y="127"/>
                        </a:lnTo>
                        <a:lnTo>
                          <a:pt x="98" y="127"/>
                        </a:lnTo>
                        <a:lnTo>
                          <a:pt x="93" y="123"/>
                        </a:lnTo>
                        <a:lnTo>
                          <a:pt x="83" y="111"/>
                        </a:lnTo>
                        <a:lnTo>
                          <a:pt x="75" y="100"/>
                        </a:lnTo>
                        <a:lnTo>
                          <a:pt x="63" y="82"/>
                        </a:lnTo>
                        <a:lnTo>
                          <a:pt x="50" y="69"/>
                        </a:lnTo>
                        <a:lnTo>
                          <a:pt x="35" y="49"/>
                        </a:lnTo>
                        <a:lnTo>
                          <a:pt x="26" y="43"/>
                        </a:lnTo>
                        <a:lnTo>
                          <a:pt x="18" y="39"/>
                        </a:lnTo>
                        <a:lnTo>
                          <a:pt x="15" y="28"/>
                        </a:lnTo>
                        <a:lnTo>
                          <a:pt x="2" y="19"/>
                        </a:lnTo>
                        <a:lnTo>
                          <a:pt x="2" y="13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3924360" y="1749600"/>
                  <a:ext cx="2930400" cy="3357360"/>
                  <a:chOff x="3924360" y="1749600"/>
                  <a:chExt cx="2930400" cy="335736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3924360" y="2583000"/>
                    <a:ext cx="145584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969">
                        <a:moveTo>
                          <a:pt x="685" y="116"/>
                        </a:moveTo>
                        <a:lnTo>
                          <a:pt x="700" y="156"/>
                        </a:lnTo>
                        <a:lnTo>
                          <a:pt x="729" y="217"/>
                        </a:lnTo>
                        <a:lnTo>
                          <a:pt x="786" y="316"/>
                        </a:lnTo>
                        <a:lnTo>
                          <a:pt x="807" y="330"/>
                        </a:lnTo>
                        <a:lnTo>
                          <a:pt x="820" y="358"/>
                        </a:lnTo>
                        <a:lnTo>
                          <a:pt x="865" y="357"/>
                        </a:lnTo>
                        <a:lnTo>
                          <a:pt x="895" y="348"/>
                        </a:lnTo>
                        <a:lnTo>
                          <a:pt x="916" y="348"/>
                        </a:lnTo>
                        <a:lnTo>
                          <a:pt x="915" y="387"/>
                        </a:lnTo>
                        <a:lnTo>
                          <a:pt x="907" y="408"/>
                        </a:lnTo>
                        <a:lnTo>
                          <a:pt x="825" y="495"/>
                        </a:lnTo>
                        <a:lnTo>
                          <a:pt x="750" y="585"/>
                        </a:lnTo>
                        <a:lnTo>
                          <a:pt x="751" y="619"/>
                        </a:lnTo>
                        <a:lnTo>
                          <a:pt x="772" y="645"/>
                        </a:lnTo>
                        <a:lnTo>
                          <a:pt x="762" y="664"/>
                        </a:lnTo>
                        <a:lnTo>
                          <a:pt x="768" y="691"/>
                        </a:lnTo>
                        <a:lnTo>
                          <a:pt x="762" y="711"/>
                        </a:lnTo>
                        <a:lnTo>
                          <a:pt x="744" y="727"/>
                        </a:lnTo>
                        <a:lnTo>
                          <a:pt x="729" y="727"/>
                        </a:lnTo>
                        <a:lnTo>
                          <a:pt x="703" y="756"/>
                        </a:lnTo>
                        <a:lnTo>
                          <a:pt x="681" y="789"/>
                        </a:lnTo>
                        <a:lnTo>
                          <a:pt x="685" y="825"/>
                        </a:lnTo>
                        <a:lnTo>
                          <a:pt x="663" y="841"/>
                        </a:lnTo>
                        <a:lnTo>
                          <a:pt x="642" y="879"/>
                        </a:lnTo>
                        <a:lnTo>
                          <a:pt x="616" y="913"/>
                        </a:lnTo>
                        <a:lnTo>
                          <a:pt x="603" y="926"/>
                        </a:lnTo>
                        <a:lnTo>
                          <a:pt x="591" y="929"/>
                        </a:lnTo>
                        <a:lnTo>
                          <a:pt x="570" y="952"/>
                        </a:lnTo>
                        <a:lnTo>
                          <a:pt x="535" y="965"/>
                        </a:lnTo>
                        <a:lnTo>
                          <a:pt x="492" y="968"/>
                        </a:lnTo>
                        <a:lnTo>
                          <a:pt x="468" y="953"/>
                        </a:lnTo>
                        <a:lnTo>
                          <a:pt x="465" y="938"/>
                        </a:lnTo>
                        <a:lnTo>
                          <a:pt x="460" y="919"/>
                        </a:lnTo>
                        <a:lnTo>
                          <a:pt x="444" y="908"/>
                        </a:lnTo>
                        <a:lnTo>
                          <a:pt x="430" y="871"/>
                        </a:lnTo>
                        <a:lnTo>
                          <a:pt x="426" y="853"/>
                        </a:lnTo>
                        <a:lnTo>
                          <a:pt x="424" y="831"/>
                        </a:lnTo>
                        <a:lnTo>
                          <a:pt x="417" y="814"/>
                        </a:lnTo>
                        <a:lnTo>
                          <a:pt x="415" y="804"/>
                        </a:lnTo>
                        <a:lnTo>
                          <a:pt x="402" y="787"/>
                        </a:lnTo>
                        <a:lnTo>
                          <a:pt x="387" y="774"/>
                        </a:lnTo>
                        <a:lnTo>
                          <a:pt x="376" y="751"/>
                        </a:lnTo>
                        <a:lnTo>
                          <a:pt x="369" y="735"/>
                        </a:lnTo>
                        <a:lnTo>
                          <a:pt x="372" y="708"/>
                        </a:lnTo>
                        <a:lnTo>
                          <a:pt x="394" y="667"/>
                        </a:lnTo>
                        <a:lnTo>
                          <a:pt x="399" y="624"/>
                        </a:lnTo>
                        <a:lnTo>
                          <a:pt x="382" y="574"/>
                        </a:lnTo>
                        <a:lnTo>
                          <a:pt x="358" y="555"/>
                        </a:lnTo>
                        <a:lnTo>
                          <a:pt x="342" y="528"/>
                        </a:lnTo>
                        <a:lnTo>
                          <a:pt x="348" y="486"/>
                        </a:lnTo>
                        <a:lnTo>
                          <a:pt x="336" y="454"/>
                        </a:lnTo>
                        <a:lnTo>
                          <a:pt x="307" y="451"/>
                        </a:lnTo>
                        <a:lnTo>
                          <a:pt x="277" y="427"/>
                        </a:lnTo>
                        <a:lnTo>
                          <a:pt x="240" y="414"/>
                        </a:lnTo>
                        <a:lnTo>
                          <a:pt x="201" y="435"/>
                        </a:lnTo>
                        <a:lnTo>
                          <a:pt x="99" y="429"/>
                        </a:lnTo>
                        <a:lnTo>
                          <a:pt x="44" y="376"/>
                        </a:lnTo>
                        <a:lnTo>
                          <a:pt x="0" y="304"/>
                        </a:lnTo>
                        <a:lnTo>
                          <a:pt x="8" y="280"/>
                        </a:lnTo>
                        <a:lnTo>
                          <a:pt x="27" y="262"/>
                        </a:lnTo>
                        <a:lnTo>
                          <a:pt x="36" y="213"/>
                        </a:lnTo>
                        <a:lnTo>
                          <a:pt x="50" y="177"/>
                        </a:lnTo>
                        <a:lnTo>
                          <a:pt x="89" y="139"/>
                        </a:lnTo>
                        <a:lnTo>
                          <a:pt x="129" y="123"/>
                        </a:lnTo>
                        <a:lnTo>
                          <a:pt x="167" y="84"/>
                        </a:lnTo>
                        <a:lnTo>
                          <a:pt x="176" y="68"/>
                        </a:lnTo>
                        <a:lnTo>
                          <a:pt x="225" y="26"/>
                        </a:lnTo>
                        <a:lnTo>
                          <a:pt x="256" y="42"/>
                        </a:lnTo>
                        <a:lnTo>
                          <a:pt x="279" y="41"/>
                        </a:lnTo>
                        <a:lnTo>
                          <a:pt x="306" y="18"/>
                        </a:lnTo>
                        <a:lnTo>
                          <a:pt x="337" y="15"/>
                        </a:lnTo>
                        <a:lnTo>
                          <a:pt x="358" y="21"/>
                        </a:lnTo>
                        <a:lnTo>
                          <a:pt x="378" y="3"/>
                        </a:lnTo>
                        <a:lnTo>
                          <a:pt x="403" y="0"/>
                        </a:lnTo>
                        <a:lnTo>
                          <a:pt x="409" y="33"/>
                        </a:lnTo>
                        <a:lnTo>
                          <a:pt x="426" y="57"/>
                        </a:lnTo>
                        <a:lnTo>
                          <a:pt x="472" y="81"/>
                        </a:lnTo>
                        <a:lnTo>
                          <a:pt x="511" y="86"/>
                        </a:lnTo>
                        <a:lnTo>
                          <a:pt x="516" y="59"/>
                        </a:lnTo>
                        <a:lnTo>
                          <a:pt x="546" y="59"/>
                        </a:lnTo>
                        <a:lnTo>
                          <a:pt x="582" y="75"/>
                        </a:lnTo>
                        <a:lnTo>
                          <a:pt x="621" y="84"/>
                        </a:lnTo>
                        <a:lnTo>
                          <a:pt x="655" y="74"/>
                        </a:lnTo>
                        <a:lnTo>
                          <a:pt x="685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4022640" y="1749600"/>
                    <a:ext cx="642960" cy="529920"/>
                    <a:chOff x="4022640" y="1749600"/>
                    <a:chExt cx="642960" cy="529920"/>
                  </a:xfrm>
                </p:grpSpPr>
                <p:grpSp>
                  <p:nvGrpSpPr>
                    <p:cNvPr id="1307" name=""/>
                    <p:cNvGrpSpPr/>
                    <p:nvPr/>
                  </p:nvGrpSpPr>
                  <p:grpSpPr>
                    <a:xfrm>
                      <a:off x="4278240" y="2081160"/>
                      <a:ext cx="200160" cy="198360"/>
                      <a:chOff x="4278240" y="2081160"/>
                      <a:chExt cx="200160" cy="198360"/>
                    </a:xfrm>
                  </p:grpSpPr>
                  <p:sp>
                    <p:nvSpPr>
                      <p:cNvPr id="1308" name=""/>
                      <p:cNvSpPr/>
                      <p:nvPr/>
                    </p:nvSpPr>
                    <p:spPr>
                      <a:xfrm>
                        <a:off x="4278240" y="2154240"/>
                        <a:ext cx="95400" cy="11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70">
                            <a:moveTo>
                              <a:pt x="14" y="21"/>
                            </a:moveTo>
                            <a:lnTo>
                              <a:pt x="18" y="14"/>
                            </a:lnTo>
                            <a:lnTo>
                              <a:pt x="29" y="14"/>
                            </a:lnTo>
                            <a:lnTo>
                              <a:pt x="44" y="0"/>
                            </a:lnTo>
                            <a:lnTo>
                              <a:pt x="48" y="9"/>
                            </a:lnTo>
                            <a:lnTo>
                              <a:pt x="56" y="9"/>
                            </a:lnTo>
                            <a:lnTo>
                              <a:pt x="59" y="14"/>
                            </a:lnTo>
                            <a:lnTo>
                              <a:pt x="54" y="21"/>
                            </a:lnTo>
                            <a:lnTo>
                              <a:pt x="48" y="24"/>
                            </a:lnTo>
                            <a:lnTo>
                              <a:pt x="48" y="30"/>
                            </a:lnTo>
                            <a:lnTo>
                              <a:pt x="47" y="33"/>
                            </a:lnTo>
                            <a:lnTo>
                              <a:pt x="45" y="38"/>
                            </a:lnTo>
                            <a:lnTo>
                              <a:pt x="48" y="44"/>
                            </a:lnTo>
                            <a:lnTo>
                              <a:pt x="44" y="50"/>
                            </a:lnTo>
                            <a:lnTo>
                              <a:pt x="39" y="53"/>
                            </a:lnTo>
                            <a:lnTo>
                              <a:pt x="35" y="53"/>
                            </a:lnTo>
                            <a:lnTo>
                              <a:pt x="33" y="54"/>
                            </a:lnTo>
                            <a:lnTo>
                              <a:pt x="32" y="59"/>
                            </a:lnTo>
                            <a:lnTo>
                              <a:pt x="24" y="60"/>
                            </a:lnTo>
                            <a:lnTo>
                              <a:pt x="23" y="59"/>
                            </a:lnTo>
                            <a:lnTo>
                              <a:pt x="17" y="63"/>
                            </a:lnTo>
                            <a:lnTo>
                              <a:pt x="15" y="65"/>
                            </a:lnTo>
                            <a:lnTo>
                              <a:pt x="8" y="69"/>
                            </a:lnTo>
                            <a:lnTo>
                              <a:pt x="5" y="69"/>
                            </a:lnTo>
                            <a:lnTo>
                              <a:pt x="3" y="66"/>
                            </a:lnTo>
                            <a:lnTo>
                              <a:pt x="2" y="59"/>
                            </a:lnTo>
                            <a:lnTo>
                              <a:pt x="0" y="57"/>
                            </a:lnTo>
                            <a:lnTo>
                              <a:pt x="0" y="51"/>
                            </a:lnTo>
                            <a:lnTo>
                              <a:pt x="5" y="48"/>
                            </a:lnTo>
                            <a:lnTo>
                              <a:pt x="9" y="45"/>
                            </a:lnTo>
                            <a:lnTo>
                              <a:pt x="12" y="39"/>
                            </a:lnTo>
                            <a:lnTo>
                              <a:pt x="17" y="39"/>
                            </a:lnTo>
                            <a:lnTo>
                              <a:pt x="20" y="41"/>
                            </a:lnTo>
                            <a:lnTo>
                              <a:pt x="24" y="39"/>
                            </a:lnTo>
                            <a:lnTo>
                              <a:pt x="20" y="38"/>
                            </a:lnTo>
                            <a:lnTo>
                              <a:pt x="14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24242"/>
                          </a:gs>
                          <a:gs pos="100000">
                            <a:srgbClr val="868686"/>
                          </a:gs>
                        </a:gsLst>
                        <a:lin ang="13500000"/>
                      </a:gra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50505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9" name=""/>
                      <p:cNvSpPr/>
                      <p:nvPr/>
                    </p:nvSpPr>
                    <p:spPr>
                      <a:xfrm>
                        <a:off x="4363920" y="2081160"/>
                        <a:ext cx="114480" cy="19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25">
                            <a:moveTo>
                              <a:pt x="23" y="18"/>
                            </a:moveTo>
                            <a:lnTo>
                              <a:pt x="27" y="13"/>
                            </a:lnTo>
                            <a:lnTo>
                              <a:pt x="41" y="15"/>
                            </a:lnTo>
                            <a:lnTo>
                              <a:pt x="44" y="12"/>
                            </a:lnTo>
                            <a:lnTo>
                              <a:pt x="47" y="7"/>
                            </a:lnTo>
                            <a:lnTo>
                              <a:pt x="50" y="7"/>
                            </a:lnTo>
                            <a:lnTo>
                              <a:pt x="53" y="6"/>
                            </a:lnTo>
                            <a:lnTo>
                              <a:pt x="57" y="3"/>
                            </a:lnTo>
                            <a:lnTo>
                              <a:pt x="63" y="0"/>
                            </a:lnTo>
                            <a:lnTo>
                              <a:pt x="71" y="1"/>
                            </a:lnTo>
                            <a:lnTo>
                              <a:pt x="69" y="7"/>
                            </a:lnTo>
                            <a:lnTo>
                              <a:pt x="66" y="12"/>
                            </a:lnTo>
                            <a:lnTo>
                              <a:pt x="63" y="13"/>
                            </a:lnTo>
                            <a:lnTo>
                              <a:pt x="60" y="15"/>
                            </a:lnTo>
                            <a:lnTo>
                              <a:pt x="51" y="18"/>
                            </a:lnTo>
                            <a:lnTo>
                              <a:pt x="51" y="24"/>
                            </a:lnTo>
                            <a:lnTo>
                              <a:pt x="53" y="27"/>
                            </a:lnTo>
                            <a:lnTo>
                              <a:pt x="62" y="24"/>
                            </a:lnTo>
                            <a:lnTo>
                              <a:pt x="69" y="21"/>
                            </a:lnTo>
                            <a:lnTo>
                              <a:pt x="71" y="24"/>
                            </a:lnTo>
                            <a:lnTo>
                              <a:pt x="71" y="33"/>
                            </a:lnTo>
                            <a:lnTo>
                              <a:pt x="65" y="34"/>
                            </a:lnTo>
                            <a:lnTo>
                              <a:pt x="59" y="34"/>
                            </a:lnTo>
                            <a:lnTo>
                              <a:pt x="54" y="39"/>
                            </a:lnTo>
                            <a:lnTo>
                              <a:pt x="53" y="42"/>
                            </a:lnTo>
                            <a:lnTo>
                              <a:pt x="53" y="46"/>
                            </a:lnTo>
                            <a:lnTo>
                              <a:pt x="57" y="52"/>
                            </a:lnTo>
                            <a:lnTo>
                              <a:pt x="62" y="57"/>
                            </a:lnTo>
                            <a:lnTo>
                              <a:pt x="65" y="61"/>
                            </a:lnTo>
                            <a:lnTo>
                              <a:pt x="66" y="67"/>
                            </a:lnTo>
                            <a:lnTo>
                              <a:pt x="68" y="73"/>
                            </a:lnTo>
                            <a:lnTo>
                              <a:pt x="71" y="81"/>
                            </a:lnTo>
                            <a:lnTo>
                              <a:pt x="71" y="91"/>
                            </a:lnTo>
                            <a:lnTo>
                              <a:pt x="68" y="97"/>
                            </a:lnTo>
                            <a:lnTo>
                              <a:pt x="62" y="102"/>
                            </a:lnTo>
                            <a:lnTo>
                              <a:pt x="60" y="105"/>
                            </a:lnTo>
                            <a:lnTo>
                              <a:pt x="63" y="111"/>
                            </a:lnTo>
                            <a:lnTo>
                              <a:pt x="66" y="117"/>
                            </a:lnTo>
                            <a:lnTo>
                              <a:pt x="57" y="117"/>
                            </a:lnTo>
                            <a:lnTo>
                              <a:pt x="50" y="117"/>
                            </a:lnTo>
                            <a:lnTo>
                              <a:pt x="47" y="115"/>
                            </a:lnTo>
                            <a:lnTo>
                              <a:pt x="41" y="115"/>
                            </a:lnTo>
                            <a:lnTo>
                              <a:pt x="33" y="117"/>
                            </a:lnTo>
                            <a:lnTo>
                              <a:pt x="27" y="120"/>
                            </a:lnTo>
                            <a:lnTo>
                              <a:pt x="23" y="120"/>
                            </a:lnTo>
                            <a:lnTo>
                              <a:pt x="20" y="121"/>
                            </a:lnTo>
                            <a:lnTo>
                              <a:pt x="12" y="124"/>
                            </a:lnTo>
                            <a:lnTo>
                              <a:pt x="11" y="123"/>
                            </a:lnTo>
                            <a:lnTo>
                              <a:pt x="8" y="120"/>
                            </a:lnTo>
                            <a:lnTo>
                              <a:pt x="3" y="118"/>
                            </a:lnTo>
                            <a:lnTo>
                              <a:pt x="0" y="117"/>
                            </a:lnTo>
                            <a:lnTo>
                              <a:pt x="0" y="111"/>
                            </a:lnTo>
                            <a:lnTo>
                              <a:pt x="3" y="103"/>
                            </a:lnTo>
                            <a:lnTo>
                              <a:pt x="8" y="103"/>
                            </a:lnTo>
                            <a:lnTo>
                              <a:pt x="12" y="102"/>
                            </a:lnTo>
                            <a:lnTo>
                              <a:pt x="18" y="102"/>
                            </a:lnTo>
                            <a:lnTo>
                              <a:pt x="18" y="100"/>
                            </a:lnTo>
                            <a:lnTo>
                              <a:pt x="12" y="97"/>
                            </a:lnTo>
                            <a:lnTo>
                              <a:pt x="12" y="93"/>
                            </a:lnTo>
                            <a:lnTo>
                              <a:pt x="12" y="90"/>
                            </a:lnTo>
                            <a:lnTo>
                              <a:pt x="18" y="87"/>
                            </a:lnTo>
                            <a:lnTo>
                              <a:pt x="21" y="85"/>
                            </a:lnTo>
                            <a:lnTo>
                              <a:pt x="24" y="84"/>
                            </a:lnTo>
                            <a:lnTo>
                              <a:pt x="29" y="84"/>
                            </a:lnTo>
                            <a:lnTo>
                              <a:pt x="32" y="82"/>
                            </a:lnTo>
                            <a:lnTo>
                              <a:pt x="33" y="70"/>
                            </a:lnTo>
                            <a:lnTo>
                              <a:pt x="38" y="61"/>
                            </a:lnTo>
                            <a:lnTo>
                              <a:pt x="38" y="57"/>
                            </a:lnTo>
                            <a:lnTo>
                              <a:pt x="27" y="55"/>
                            </a:lnTo>
                            <a:lnTo>
                              <a:pt x="30" y="48"/>
                            </a:lnTo>
                            <a:lnTo>
                              <a:pt x="23" y="43"/>
                            </a:lnTo>
                            <a:lnTo>
                              <a:pt x="15" y="45"/>
                            </a:lnTo>
                            <a:lnTo>
                              <a:pt x="24" y="34"/>
                            </a:lnTo>
                            <a:lnTo>
                              <a:pt x="23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24242"/>
                          </a:gs>
                          <a:gs pos="100000">
                            <a:srgbClr val="868686"/>
                          </a:gs>
                        </a:gsLst>
                        <a:lin ang="13500000"/>
                      </a:gra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50505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4022640" y="1749600"/>
                      <a:ext cx="642960" cy="33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211">
                          <a:moveTo>
                            <a:pt x="0" y="210"/>
                          </a:moveTo>
                          <a:lnTo>
                            <a:pt x="25" y="206"/>
                          </a:lnTo>
                          <a:lnTo>
                            <a:pt x="34" y="197"/>
                          </a:lnTo>
                          <a:lnTo>
                            <a:pt x="40" y="191"/>
                          </a:lnTo>
                          <a:lnTo>
                            <a:pt x="43" y="186"/>
                          </a:lnTo>
                          <a:lnTo>
                            <a:pt x="49" y="186"/>
                          </a:lnTo>
                          <a:lnTo>
                            <a:pt x="55" y="182"/>
                          </a:lnTo>
                          <a:lnTo>
                            <a:pt x="63" y="182"/>
                          </a:lnTo>
                          <a:lnTo>
                            <a:pt x="67" y="182"/>
                          </a:lnTo>
                          <a:lnTo>
                            <a:pt x="73" y="182"/>
                          </a:lnTo>
                          <a:lnTo>
                            <a:pt x="76" y="182"/>
                          </a:lnTo>
                          <a:lnTo>
                            <a:pt x="82" y="176"/>
                          </a:lnTo>
                          <a:lnTo>
                            <a:pt x="85" y="171"/>
                          </a:lnTo>
                          <a:lnTo>
                            <a:pt x="93" y="167"/>
                          </a:lnTo>
                          <a:lnTo>
                            <a:pt x="99" y="165"/>
                          </a:lnTo>
                          <a:lnTo>
                            <a:pt x="103" y="162"/>
                          </a:lnTo>
                          <a:lnTo>
                            <a:pt x="109" y="161"/>
                          </a:lnTo>
                          <a:lnTo>
                            <a:pt x="114" y="158"/>
                          </a:lnTo>
                          <a:lnTo>
                            <a:pt x="120" y="155"/>
                          </a:lnTo>
                          <a:lnTo>
                            <a:pt x="126" y="152"/>
                          </a:lnTo>
                          <a:lnTo>
                            <a:pt x="133" y="147"/>
                          </a:lnTo>
                          <a:lnTo>
                            <a:pt x="141" y="149"/>
                          </a:lnTo>
                          <a:lnTo>
                            <a:pt x="152" y="152"/>
                          </a:lnTo>
                          <a:lnTo>
                            <a:pt x="164" y="152"/>
                          </a:lnTo>
                          <a:lnTo>
                            <a:pt x="178" y="147"/>
                          </a:lnTo>
                          <a:lnTo>
                            <a:pt x="184" y="146"/>
                          </a:lnTo>
                          <a:lnTo>
                            <a:pt x="188" y="137"/>
                          </a:lnTo>
                          <a:lnTo>
                            <a:pt x="194" y="131"/>
                          </a:lnTo>
                          <a:lnTo>
                            <a:pt x="205" y="123"/>
                          </a:lnTo>
                          <a:lnTo>
                            <a:pt x="208" y="119"/>
                          </a:lnTo>
                          <a:lnTo>
                            <a:pt x="208" y="113"/>
                          </a:lnTo>
                          <a:lnTo>
                            <a:pt x="217" y="108"/>
                          </a:lnTo>
                          <a:lnTo>
                            <a:pt x="221" y="104"/>
                          </a:lnTo>
                          <a:lnTo>
                            <a:pt x="224" y="99"/>
                          </a:lnTo>
                          <a:lnTo>
                            <a:pt x="227" y="98"/>
                          </a:lnTo>
                          <a:lnTo>
                            <a:pt x="242" y="89"/>
                          </a:lnTo>
                          <a:lnTo>
                            <a:pt x="242" y="98"/>
                          </a:lnTo>
                          <a:lnTo>
                            <a:pt x="239" y="102"/>
                          </a:lnTo>
                          <a:lnTo>
                            <a:pt x="242" y="107"/>
                          </a:lnTo>
                          <a:lnTo>
                            <a:pt x="253" y="108"/>
                          </a:lnTo>
                          <a:lnTo>
                            <a:pt x="259" y="108"/>
                          </a:lnTo>
                          <a:lnTo>
                            <a:pt x="265" y="104"/>
                          </a:lnTo>
                          <a:lnTo>
                            <a:pt x="269" y="98"/>
                          </a:lnTo>
                          <a:lnTo>
                            <a:pt x="269" y="93"/>
                          </a:lnTo>
                          <a:lnTo>
                            <a:pt x="274" y="89"/>
                          </a:lnTo>
                          <a:lnTo>
                            <a:pt x="274" y="84"/>
                          </a:lnTo>
                          <a:lnTo>
                            <a:pt x="278" y="78"/>
                          </a:lnTo>
                          <a:lnTo>
                            <a:pt x="281" y="75"/>
                          </a:lnTo>
                          <a:lnTo>
                            <a:pt x="289" y="75"/>
                          </a:lnTo>
                          <a:lnTo>
                            <a:pt x="304" y="75"/>
                          </a:lnTo>
                          <a:lnTo>
                            <a:pt x="316" y="69"/>
                          </a:lnTo>
                          <a:lnTo>
                            <a:pt x="326" y="60"/>
                          </a:lnTo>
                          <a:lnTo>
                            <a:pt x="338" y="57"/>
                          </a:lnTo>
                          <a:lnTo>
                            <a:pt x="349" y="50"/>
                          </a:lnTo>
                          <a:lnTo>
                            <a:pt x="356" y="38"/>
                          </a:lnTo>
                          <a:lnTo>
                            <a:pt x="373" y="24"/>
                          </a:lnTo>
                          <a:lnTo>
                            <a:pt x="383" y="18"/>
                          </a:lnTo>
                          <a:lnTo>
                            <a:pt x="394" y="12"/>
                          </a:lnTo>
                          <a:lnTo>
                            <a:pt x="404" y="5"/>
                          </a:lnTo>
                          <a:lnTo>
                            <a:pt x="386" y="0"/>
                          </a:lnTo>
                          <a:lnTo>
                            <a:pt x="368" y="0"/>
                          </a:lnTo>
                          <a:lnTo>
                            <a:pt x="350" y="8"/>
                          </a:lnTo>
                          <a:lnTo>
                            <a:pt x="341" y="12"/>
                          </a:lnTo>
                          <a:lnTo>
                            <a:pt x="326" y="15"/>
                          </a:lnTo>
                          <a:lnTo>
                            <a:pt x="310" y="17"/>
                          </a:lnTo>
                          <a:lnTo>
                            <a:pt x="301" y="20"/>
                          </a:lnTo>
                          <a:lnTo>
                            <a:pt x="281" y="27"/>
                          </a:lnTo>
                          <a:lnTo>
                            <a:pt x="269" y="32"/>
                          </a:lnTo>
                          <a:lnTo>
                            <a:pt x="257" y="36"/>
                          </a:lnTo>
                          <a:lnTo>
                            <a:pt x="242" y="39"/>
                          </a:lnTo>
                          <a:lnTo>
                            <a:pt x="227" y="44"/>
                          </a:lnTo>
                          <a:lnTo>
                            <a:pt x="214" y="50"/>
                          </a:lnTo>
                          <a:lnTo>
                            <a:pt x="203" y="57"/>
                          </a:lnTo>
                          <a:lnTo>
                            <a:pt x="194" y="65"/>
                          </a:lnTo>
                          <a:lnTo>
                            <a:pt x="185" y="71"/>
                          </a:lnTo>
                          <a:lnTo>
                            <a:pt x="178" y="75"/>
                          </a:lnTo>
                          <a:lnTo>
                            <a:pt x="161" y="84"/>
                          </a:lnTo>
                          <a:lnTo>
                            <a:pt x="145" y="93"/>
                          </a:lnTo>
                          <a:lnTo>
                            <a:pt x="126" y="104"/>
                          </a:lnTo>
                          <a:lnTo>
                            <a:pt x="112" y="117"/>
                          </a:lnTo>
                          <a:lnTo>
                            <a:pt x="97" y="128"/>
                          </a:lnTo>
                          <a:lnTo>
                            <a:pt x="84" y="134"/>
                          </a:lnTo>
                          <a:lnTo>
                            <a:pt x="70" y="147"/>
                          </a:lnTo>
                          <a:lnTo>
                            <a:pt x="61" y="156"/>
                          </a:lnTo>
                          <a:lnTo>
                            <a:pt x="49" y="165"/>
                          </a:lnTo>
                          <a:lnTo>
                            <a:pt x="37" y="171"/>
                          </a:lnTo>
                          <a:lnTo>
                            <a:pt x="25" y="177"/>
                          </a:lnTo>
                          <a:lnTo>
                            <a:pt x="0" y="21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4319640" y="4795920"/>
                    <a:ext cx="95868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196">
                        <a:moveTo>
                          <a:pt x="0" y="86"/>
                        </a:moveTo>
                        <a:lnTo>
                          <a:pt x="58" y="60"/>
                        </a:lnTo>
                        <a:lnTo>
                          <a:pt x="73" y="59"/>
                        </a:lnTo>
                        <a:lnTo>
                          <a:pt x="82" y="54"/>
                        </a:lnTo>
                        <a:lnTo>
                          <a:pt x="148" y="57"/>
                        </a:lnTo>
                        <a:lnTo>
                          <a:pt x="153" y="51"/>
                        </a:lnTo>
                        <a:lnTo>
                          <a:pt x="160" y="48"/>
                        </a:lnTo>
                        <a:lnTo>
                          <a:pt x="174" y="44"/>
                        </a:lnTo>
                        <a:lnTo>
                          <a:pt x="183" y="38"/>
                        </a:lnTo>
                        <a:lnTo>
                          <a:pt x="192" y="38"/>
                        </a:lnTo>
                        <a:lnTo>
                          <a:pt x="195" y="38"/>
                        </a:lnTo>
                        <a:lnTo>
                          <a:pt x="198" y="38"/>
                        </a:lnTo>
                        <a:lnTo>
                          <a:pt x="210" y="39"/>
                        </a:lnTo>
                        <a:lnTo>
                          <a:pt x="222" y="44"/>
                        </a:lnTo>
                        <a:lnTo>
                          <a:pt x="229" y="53"/>
                        </a:lnTo>
                        <a:lnTo>
                          <a:pt x="234" y="51"/>
                        </a:lnTo>
                        <a:lnTo>
                          <a:pt x="237" y="59"/>
                        </a:lnTo>
                        <a:lnTo>
                          <a:pt x="253" y="57"/>
                        </a:lnTo>
                        <a:lnTo>
                          <a:pt x="268" y="53"/>
                        </a:lnTo>
                        <a:lnTo>
                          <a:pt x="277" y="51"/>
                        </a:lnTo>
                        <a:lnTo>
                          <a:pt x="288" y="47"/>
                        </a:lnTo>
                        <a:lnTo>
                          <a:pt x="300" y="42"/>
                        </a:lnTo>
                        <a:lnTo>
                          <a:pt x="310" y="42"/>
                        </a:lnTo>
                        <a:lnTo>
                          <a:pt x="318" y="39"/>
                        </a:lnTo>
                        <a:lnTo>
                          <a:pt x="327" y="35"/>
                        </a:lnTo>
                        <a:lnTo>
                          <a:pt x="333" y="39"/>
                        </a:lnTo>
                        <a:lnTo>
                          <a:pt x="351" y="44"/>
                        </a:lnTo>
                        <a:lnTo>
                          <a:pt x="369" y="47"/>
                        </a:lnTo>
                        <a:lnTo>
                          <a:pt x="387" y="47"/>
                        </a:lnTo>
                        <a:lnTo>
                          <a:pt x="394" y="39"/>
                        </a:lnTo>
                        <a:lnTo>
                          <a:pt x="399" y="39"/>
                        </a:lnTo>
                        <a:lnTo>
                          <a:pt x="403" y="35"/>
                        </a:lnTo>
                        <a:lnTo>
                          <a:pt x="417" y="27"/>
                        </a:lnTo>
                        <a:lnTo>
                          <a:pt x="433" y="24"/>
                        </a:lnTo>
                        <a:lnTo>
                          <a:pt x="442" y="24"/>
                        </a:lnTo>
                        <a:lnTo>
                          <a:pt x="456" y="20"/>
                        </a:lnTo>
                        <a:lnTo>
                          <a:pt x="462" y="20"/>
                        </a:lnTo>
                        <a:lnTo>
                          <a:pt x="477" y="9"/>
                        </a:lnTo>
                        <a:lnTo>
                          <a:pt x="481" y="11"/>
                        </a:lnTo>
                        <a:lnTo>
                          <a:pt x="486" y="5"/>
                        </a:lnTo>
                        <a:lnTo>
                          <a:pt x="490" y="3"/>
                        </a:lnTo>
                        <a:lnTo>
                          <a:pt x="496" y="0"/>
                        </a:lnTo>
                        <a:lnTo>
                          <a:pt x="496" y="8"/>
                        </a:lnTo>
                        <a:lnTo>
                          <a:pt x="502" y="14"/>
                        </a:lnTo>
                        <a:lnTo>
                          <a:pt x="507" y="21"/>
                        </a:lnTo>
                        <a:lnTo>
                          <a:pt x="511" y="26"/>
                        </a:lnTo>
                        <a:lnTo>
                          <a:pt x="516" y="26"/>
                        </a:lnTo>
                        <a:lnTo>
                          <a:pt x="520" y="29"/>
                        </a:lnTo>
                        <a:lnTo>
                          <a:pt x="526" y="29"/>
                        </a:lnTo>
                        <a:lnTo>
                          <a:pt x="526" y="32"/>
                        </a:lnTo>
                        <a:lnTo>
                          <a:pt x="556" y="32"/>
                        </a:lnTo>
                        <a:lnTo>
                          <a:pt x="568" y="41"/>
                        </a:lnTo>
                        <a:lnTo>
                          <a:pt x="571" y="41"/>
                        </a:lnTo>
                        <a:lnTo>
                          <a:pt x="574" y="47"/>
                        </a:lnTo>
                        <a:lnTo>
                          <a:pt x="582" y="44"/>
                        </a:lnTo>
                        <a:lnTo>
                          <a:pt x="601" y="48"/>
                        </a:lnTo>
                        <a:lnTo>
                          <a:pt x="597" y="57"/>
                        </a:lnTo>
                        <a:lnTo>
                          <a:pt x="603" y="65"/>
                        </a:lnTo>
                        <a:lnTo>
                          <a:pt x="580" y="81"/>
                        </a:lnTo>
                        <a:lnTo>
                          <a:pt x="562" y="95"/>
                        </a:lnTo>
                        <a:lnTo>
                          <a:pt x="540" y="114"/>
                        </a:lnTo>
                        <a:lnTo>
                          <a:pt x="501" y="140"/>
                        </a:lnTo>
                        <a:lnTo>
                          <a:pt x="463" y="156"/>
                        </a:lnTo>
                        <a:lnTo>
                          <a:pt x="433" y="171"/>
                        </a:lnTo>
                        <a:lnTo>
                          <a:pt x="414" y="176"/>
                        </a:lnTo>
                        <a:lnTo>
                          <a:pt x="390" y="182"/>
                        </a:lnTo>
                        <a:lnTo>
                          <a:pt x="370" y="186"/>
                        </a:lnTo>
                        <a:lnTo>
                          <a:pt x="358" y="186"/>
                        </a:lnTo>
                        <a:lnTo>
                          <a:pt x="339" y="191"/>
                        </a:lnTo>
                        <a:lnTo>
                          <a:pt x="328" y="189"/>
                        </a:lnTo>
                        <a:lnTo>
                          <a:pt x="310" y="192"/>
                        </a:lnTo>
                        <a:lnTo>
                          <a:pt x="291" y="191"/>
                        </a:lnTo>
                        <a:lnTo>
                          <a:pt x="267" y="192"/>
                        </a:lnTo>
                        <a:lnTo>
                          <a:pt x="253" y="195"/>
                        </a:lnTo>
                        <a:lnTo>
                          <a:pt x="238" y="191"/>
                        </a:lnTo>
                        <a:lnTo>
                          <a:pt x="220" y="188"/>
                        </a:lnTo>
                        <a:lnTo>
                          <a:pt x="202" y="189"/>
                        </a:lnTo>
                        <a:lnTo>
                          <a:pt x="183" y="188"/>
                        </a:lnTo>
                        <a:lnTo>
                          <a:pt x="166" y="185"/>
                        </a:lnTo>
                        <a:lnTo>
                          <a:pt x="151" y="183"/>
                        </a:lnTo>
                        <a:lnTo>
                          <a:pt x="139" y="183"/>
                        </a:lnTo>
                        <a:lnTo>
                          <a:pt x="126" y="176"/>
                        </a:lnTo>
                        <a:lnTo>
                          <a:pt x="106" y="168"/>
                        </a:lnTo>
                        <a:lnTo>
                          <a:pt x="90" y="158"/>
                        </a:lnTo>
                        <a:lnTo>
                          <a:pt x="73" y="149"/>
                        </a:lnTo>
                        <a:lnTo>
                          <a:pt x="54" y="137"/>
                        </a:lnTo>
                        <a:lnTo>
                          <a:pt x="37" y="125"/>
                        </a:lnTo>
                        <a:lnTo>
                          <a:pt x="25" y="113"/>
                        </a:lnTo>
                        <a:lnTo>
                          <a:pt x="13" y="102"/>
                        </a:lnTo>
                        <a:lnTo>
                          <a:pt x="0" y="8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164200" y="3635280"/>
                    <a:ext cx="1918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05">
                        <a:moveTo>
                          <a:pt x="23" y="64"/>
                        </a:moveTo>
                        <a:lnTo>
                          <a:pt x="20" y="105"/>
                        </a:lnTo>
                        <a:lnTo>
                          <a:pt x="9" y="130"/>
                        </a:lnTo>
                        <a:lnTo>
                          <a:pt x="0" y="154"/>
                        </a:lnTo>
                        <a:lnTo>
                          <a:pt x="0" y="172"/>
                        </a:lnTo>
                        <a:lnTo>
                          <a:pt x="3" y="187"/>
                        </a:lnTo>
                        <a:lnTo>
                          <a:pt x="14" y="201"/>
                        </a:lnTo>
                        <a:lnTo>
                          <a:pt x="23" y="202"/>
                        </a:lnTo>
                        <a:lnTo>
                          <a:pt x="30" y="202"/>
                        </a:lnTo>
                        <a:lnTo>
                          <a:pt x="39" y="204"/>
                        </a:lnTo>
                        <a:lnTo>
                          <a:pt x="44" y="193"/>
                        </a:lnTo>
                        <a:lnTo>
                          <a:pt x="48" y="166"/>
                        </a:lnTo>
                        <a:lnTo>
                          <a:pt x="62" y="148"/>
                        </a:lnTo>
                        <a:lnTo>
                          <a:pt x="65" y="121"/>
                        </a:lnTo>
                        <a:lnTo>
                          <a:pt x="71" y="111"/>
                        </a:lnTo>
                        <a:lnTo>
                          <a:pt x="77" y="103"/>
                        </a:lnTo>
                        <a:lnTo>
                          <a:pt x="81" y="84"/>
                        </a:lnTo>
                        <a:lnTo>
                          <a:pt x="90" y="72"/>
                        </a:lnTo>
                        <a:lnTo>
                          <a:pt x="96" y="63"/>
                        </a:lnTo>
                        <a:lnTo>
                          <a:pt x="102" y="55"/>
                        </a:lnTo>
                        <a:lnTo>
                          <a:pt x="102" y="51"/>
                        </a:lnTo>
                        <a:lnTo>
                          <a:pt x="116" y="40"/>
                        </a:lnTo>
                        <a:lnTo>
                          <a:pt x="117" y="22"/>
                        </a:lnTo>
                        <a:lnTo>
                          <a:pt x="120" y="12"/>
                        </a:lnTo>
                        <a:lnTo>
                          <a:pt x="108" y="7"/>
                        </a:lnTo>
                        <a:lnTo>
                          <a:pt x="101" y="0"/>
                        </a:lnTo>
                        <a:lnTo>
                          <a:pt x="90" y="7"/>
                        </a:lnTo>
                        <a:lnTo>
                          <a:pt x="81" y="25"/>
                        </a:lnTo>
                        <a:lnTo>
                          <a:pt x="71" y="39"/>
                        </a:lnTo>
                        <a:lnTo>
                          <a:pt x="62" y="49"/>
                        </a:lnTo>
                        <a:lnTo>
                          <a:pt x="57" y="49"/>
                        </a:lnTo>
                        <a:lnTo>
                          <a:pt x="48" y="55"/>
                        </a:lnTo>
                        <a:lnTo>
                          <a:pt x="44" y="61"/>
                        </a:lnTo>
                        <a:lnTo>
                          <a:pt x="23" y="6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243320" y="1781280"/>
                    <a:ext cx="2611440" cy="15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5" h="968">
                        <a:moveTo>
                          <a:pt x="0" y="433"/>
                        </a:moveTo>
                        <a:lnTo>
                          <a:pt x="15" y="420"/>
                        </a:lnTo>
                        <a:lnTo>
                          <a:pt x="24" y="409"/>
                        </a:lnTo>
                        <a:lnTo>
                          <a:pt x="43" y="409"/>
                        </a:lnTo>
                        <a:lnTo>
                          <a:pt x="64" y="412"/>
                        </a:lnTo>
                        <a:lnTo>
                          <a:pt x="79" y="406"/>
                        </a:lnTo>
                        <a:lnTo>
                          <a:pt x="96" y="405"/>
                        </a:lnTo>
                        <a:lnTo>
                          <a:pt x="97" y="387"/>
                        </a:lnTo>
                        <a:lnTo>
                          <a:pt x="106" y="375"/>
                        </a:lnTo>
                        <a:lnTo>
                          <a:pt x="84" y="361"/>
                        </a:lnTo>
                        <a:lnTo>
                          <a:pt x="81" y="351"/>
                        </a:lnTo>
                        <a:lnTo>
                          <a:pt x="82" y="336"/>
                        </a:lnTo>
                        <a:lnTo>
                          <a:pt x="99" y="336"/>
                        </a:lnTo>
                        <a:lnTo>
                          <a:pt x="109" y="334"/>
                        </a:lnTo>
                        <a:lnTo>
                          <a:pt x="111" y="336"/>
                        </a:lnTo>
                        <a:lnTo>
                          <a:pt x="123" y="327"/>
                        </a:lnTo>
                        <a:lnTo>
                          <a:pt x="135" y="322"/>
                        </a:lnTo>
                        <a:lnTo>
                          <a:pt x="139" y="322"/>
                        </a:lnTo>
                        <a:lnTo>
                          <a:pt x="147" y="313"/>
                        </a:lnTo>
                        <a:lnTo>
                          <a:pt x="156" y="310"/>
                        </a:lnTo>
                        <a:lnTo>
                          <a:pt x="165" y="294"/>
                        </a:lnTo>
                        <a:lnTo>
                          <a:pt x="171" y="298"/>
                        </a:lnTo>
                        <a:lnTo>
                          <a:pt x="183" y="288"/>
                        </a:lnTo>
                        <a:lnTo>
                          <a:pt x="184" y="288"/>
                        </a:lnTo>
                        <a:lnTo>
                          <a:pt x="199" y="276"/>
                        </a:lnTo>
                        <a:lnTo>
                          <a:pt x="208" y="274"/>
                        </a:lnTo>
                        <a:lnTo>
                          <a:pt x="220" y="274"/>
                        </a:lnTo>
                        <a:lnTo>
                          <a:pt x="228" y="274"/>
                        </a:lnTo>
                        <a:lnTo>
                          <a:pt x="222" y="259"/>
                        </a:lnTo>
                        <a:lnTo>
                          <a:pt x="219" y="247"/>
                        </a:lnTo>
                        <a:lnTo>
                          <a:pt x="216" y="222"/>
                        </a:lnTo>
                        <a:lnTo>
                          <a:pt x="234" y="220"/>
                        </a:lnTo>
                        <a:lnTo>
                          <a:pt x="243" y="216"/>
                        </a:lnTo>
                        <a:lnTo>
                          <a:pt x="238" y="226"/>
                        </a:lnTo>
                        <a:lnTo>
                          <a:pt x="246" y="234"/>
                        </a:lnTo>
                        <a:lnTo>
                          <a:pt x="253" y="243"/>
                        </a:lnTo>
                        <a:lnTo>
                          <a:pt x="258" y="249"/>
                        </a:lnTo>
                        <a:lnTo>
                          <a:pt x="279" y="247"/>
                        </a:lnTo>
                        <a:lnTo>
                          <a:pt x="297" y="225"/>
                        </a:lnTo>
                        <a:lnTo>
                          <a:pt x="310" y="214"/>
                        </a:lnTo>
                        <a:lnTo>
                          <a:pt x="318" y="207"/>
                        </a:lnTo>
                        <a:lnTo>
                          <a:pt x="327" y="198"/>
                        </a:lnTo>
                        <a:lnTo>
                          <a:pt x="336" y="186"/>
                        </a:lnTo>
                        <a:lnTo>
                          <a:pt x="343" y="190"/>
                        </a:lnTo>
                        <a:lnTo>
                          <a:pt x="343" y="183"/>
                        </a:lnTo>
                        <a:lnTo>
                          <a:pt x="348" y="178"/>
                        </a:lnTo>
                        <a:lnTo>
                          <a:pt x="361" y="181"/>
                        </a:lnTo>
                        <a:lnTo>
                          <a:pt x="384" y="201"/>
                        </a:lnTo>
                        <a:lnTo>
                          <a:pt x="379" y="147"/>
                        </a:lnTo>
                        <a:lnTo>
                          <a:pt x="360" y="171"/>
                        </a:lnTo>
                        <a:lnTo>
                          <a:pt x="345" y="169"/>
                        </a:lnTo>
                        <a:lnTo>
                          <a:pt x="340" y="154"/>
                        </a:lnTo>
                        <a:lnTo>
                          <a:pt x="340" y="147"/>
                        </a:lnTo>
                        <a:lnTo>
                          <a:pt x="336" y="142"/>
                        </a:lnTo>
                        <a:lnTo>
                          <a:pt x="348" y="130"/>
                        </a:lnTo>
                        <a:lnTo>
                          <a:pt x="355" y="121"/>
                        </a:lnTo>
                        <a:lnTo>
                          <a:pt x="363" y="118"/>
                        </a:lnTo>
                        <a:lnTo>
                          <a:pt x="369" y="117"/>
                        </a:lnTo>
                        <a:lnTo>
                          <a:pt x="373" y="109"/>
                        </a:lnTo>
                        <a:lnTo>
                          <a:pt x="379" y="108"/>
                        </a:lnTo>
                        <a:lnTo>
                          <a:pt x="387" y="108"/>
                        </a:lnTo>
                        <a:lnTo>
                          <a:pt x="373" y="94"/>
                        </a:lnTo>
                        <a:lnTo>
                          <a:pt x="360" y="97"/>
                        </a:lnTo>
                        <a:lnTo>
                          <a:pt x="351" y="97"/>
                        </a:lnTo>
                        <a:lnTo>
                          <a:pt x="343" y="93"/>
                        </a:lnTo>
                        <a:lnTo>
                          <a:pt x="343" y="102"/>
                        </a:lnTo>
                        <a:lnTo>
                          <a:pt x="336" y="111"/>
                        </a:lnTo>
                        <a:lnTo>
                          <a:pt x="325" y="126"/>
                        </a:lnTo>
                        <a:lnTo>
                          <a:pt x="315" y="132"/>
                        </a:lnTo>
                        <a:lnTo>
                          <a:pt x="307" y="132"/>
                        </a:lnTo>
                        <a:lnTo>
                          <a:pt x="304" y="142"/>
                        </a:lnTo>
                        <a:lnTo>
                          <a:pt x="304" y="147"/>
                        </a:lnTo>
                        <a:lnTo>
                          <a:pt x="298" y="151"/>
                        </a:lnTo>
                        <a:lnTo>
                          <a:pt x="306" y="169"/>
                        </a:lnTo>
                        <a:lnTo>
                          <a:pt x="310" y="178"/>
                        </a:lnTo>
                        <a:lnTo>
                          <a:pt x="301" y="192"/>
                        </a:lnTo>
                        <a:lnTo>
                          <a:pt x="291" y="201"/>
                        </a:lnTo>
                        <a:lnTo>
                          <a:pt x="288" y="214"/>
                        </a:lnTo>
                        <a:lnTo>
                          <a:pt x="282" y="225"/>
                        </a:lnTo>
                        <a:lnTo>
                          <a:pt x="276" y="225"/>
                        </a:lnTo>
                        <a:lnTo>
                          <a:pt x="267" y="226"/>
                        </a:lnTo>
                        <a:lnTo>
                          <a:pt x="258" y="231"/>
                        </a:lnTo>
                        <a:lnTo>
                          <a:pt x="255" y="229"/>
                        </a:lnTo>
                        <a:lnTo>
                          <a:pt x="255" y="222"/>
                        </a:lnTo>
                        <a:lnTo>
                          <a:pt x="253" y="210"/>
                        </a:lnTo>
                        <a:lnTo>
                          <a:pt x="246" y="210"/>
                        </a:lnTo>
                        <a:lnTo>
                          <a:pt x="241" y="202"/>
                        </a:lnTo>
                        <a:lnTo>
                          <a:pt x="243" y="192"/>
                        </a:lnTo>
                        <a:lnTo>
                          <a:pt x="244" y="186"/>
                        </a:lnTo>
                        <a:lnTo>
                          <a:pt x="243" y="183"/>
                        </a:lnTo>
                        <a:lnTo>
                          <a:pt x="237" y="186"/>
                        </a:lnTo>
                        <a:lnTo>
                          <a:pt x="234" y="186"/>
                        </a:lnTo>
                        <a:lnTo>
                          <a:pt x="229" y="184"/>
                        </a:lnTo>
                        <a:lnTo>
                          <a:pt x="226" y="183"/>
                        </a:lnTo>
                        <a:lnTo>
                          <a:pt x="219" y="189"/>
                        </a:lnTo>
                        <a:lnTo>
                          <a:pt x="211" y="196"/>
                        </a:lnTo>
                        <a:lnTo>
                          <a:pt x="204" y="204"/>
                        </a:lnTo>
                        <a:lnTo>
                          <a:pt x="187" y="202"/>
                        </a:lnTo>
                        <a:lnTo>
                          <a:pt x="177" y="201"/>
                        </a:lnTo>
                        <a:lnTo>
                          <a:pt x="169" y="193"/>
                        </a:lnTo>
                        <a:lnTo>
                          <a:pt x="169" y="189"/>
                        </a:lnTo>
                        <a:lnTo>
                          <a:pt x="174" y="183"/>
                        </a:lnTo>
                        <a:lnTo>
                          <a:pt x="180" y="178"/>
                        </a:lnTo>
                        <a:lnTo>
                          <a:pt x="184" y="172"/>
                        </a:lnTo>
                        <a:lnTo>
                          <a:pt x="174" y="175"/>
                        </a:lnTo>
                        <a:lnTo>
                          <a:pt x="169" y="168"/>
                        </a:lnTo>
                        <a:lnTo>
                          <a:pt x="169" y="163"/>
                        </a:lnTo>
                        <a:lnTo>
                          <a:pt x="184" y="162"/>
                        </a:lnTo>
                        <a:lnTo>
                          <a:pt x="198" y="160"/>
                        </a:lnTo>
                        <a:lnTo>
                          <a:pt x="189" y="156"/>
                        </a:lnTo>
                        <a:lnTo>
                          <a:pt x="175" y="157"/>
                        </a:lnTo>
                        <a:lnTo>
                          <a:pt x="175" y="148"/>
                        </a:lnTo>
                        <a:lnTo>
                          <a:pt x="181" y="142"/>
                        </a:lnTo>
                        <a:lnTo>
                          <a:pt x="195" y="136"/>
                        </a:lnTo>
                        <a:lnTo>
                          <a:pt x="199" y="130"/>
                        </a:lnTo>
                        <a:lnTo>
                          <a:pt x="204" y="127"/>
                        </a:lnTo>
                        <a:lnTo>
                          <a:pt x="214" y="126"/>
                        </a:lnTo>
                        <a:lnTo>
                          <a:pt x="223" y="127"/>
                        </a:lnTo>
                        <a:lnTo>
                          <a:pt x="228" y="130"/>
                        </a:lnTo>
                        <a:lnTo>
                          <a:pt x="235" y="126"/>
                        </a:lnTo>
                        <a:lnTo>
                          <a:pt x="228" y="124"/>
                        </a:lnTo>
                        <a:lnTo>
                          <a:pt x="228" y="112"/>
                        </a:lnTo>
                        <a:lnTo>
                          <a:pt x="247" y="99"/>
                        </a:lnTo>
                        <a:lnTo>
                          <a:pt x="258" y="90"/>
                        </a:lnTo>
                        <a:lnTo>
                          <a:pt x="264" y="88"/>
                        </a:lnTo>
                        <a:lnTo>
                          <a:pt x="262" y="84"/>
                        </a:lnTo>
                        <a:lnTo>
                          <a:pt x="271" y="73"/>
                        </a:lnTo>
                        <a:lnTo>
                          <a:pt x="282" y="60"/>
                        </a:lnTo>
                        <a:lnTo>
                          <a:pt x="294" y="54"/>
                        </a:lnTo>
                        <a:lnTo>
                          <a:pt x="285" y="48"/>
                        </a:lnTo>
                        <a:lnTo>
                          <a:pt x="309" y="34"/>
                        </a:lnTo>
                        <a:lnTo>
                          <a:pt x="319" y="36"/>
                        </a:lnTo>
                        <a:lnTo>
                          <a:pt x="318" y="28"/>
                        </a:lnTo>
                        <a:lnTo>
                          <a:pt x="339" y="27"/>
                        </a:lnTo>
                        <a:lnTo>
                          <a:pt x="378" y="3"/>
                        </a:lnTo>
                        <a:lnTo>
                          <a:pt x="384" y="0"/>
                        </a:lnTo>
                        <a:lnTo>
                          <a:pt x="376" y="18"/>
                        </a:lnTo>
                        <a:lnTo>
                          <a:pt x="385" y="9"/>
                        </a:lnTo>
                        <a:lnTo>
                          <a:pt x="396" y="6"/>
                        </a:lnTo>
                        <a:lnTo>
                          <a:pt x="394" y="13"/>
                        </a:lnTo>
                        <a:lnTo>
                          <a:pt x="424" y="4"/>
                        </a:lnTo>
                        <a:lnTo>
                          <a:pt x="439" y="12"/>
                        </a:lnTo>
                        <a:lnTo>
                          <a:pt x="418" y="19"/>
                        </a:lnTo>
                        <a:lnTo>
                          <a:pt x="426" y="28"/>
                        </a:lnTo>
                        <a:lnTo>
                          <a:pt x="456" y="27"/>
                        </a:lnTo>
                        <a:lnTo>
                          <a:pt x="499" y="40"/>
                        </a:lnTo>
                        <a:lnTo>
                          <a:pt x="496" y="55"/>
                        </a:lnTo>
                        <a:lnTo>
                          <a:pt x="478" y="69"/>
                        </a:lnTo>
                        <a:lnTo>
                          <a:pt x="451" y="76"/>
                        </a:lnTo>
                        <a:lnTo>
                          <a:pt x="447" y="93"/>
                        </a:lnTo>
                        <a:lnTo>
                          <a:pt x="448" y="108"/>
                        </a:lnTo>
                        <a:lnTo>
                          <a:pt x="456" y="111"/>
                        </a:lnTo>
                        <a:lnTo>
                          <a:pt x="457" y="118"/>
                        </a:lnTo>
                        <a:lnTo>
                          <a:pt x="460" y="121"/>
                        </a:lnTo>
                        <a:lnTo>
                          <a:pt x="466" y="124"/>
                        </a:lnTo>
                        <a:lnTo>
                          <a:pt x="468" y="133"/>
                        </a:lnTo>
                        <a:lnTo>
                          <a:pt x="477" y="144"/>
                        </a:lnTo>
                        <a:lnTo>
                          <a:pt x="477" y="148"/>
                        </a:lnTo>
                        <a:lnTo>
                          <a:pt x="486" y="148"/>
                        </a:lnTo>
                        <a:lnTo>
                          <a:pt x="489" y="151"/>
                        </a:lnTo>
                        <a:lnTo>
                          <a:pt x="496" y="154"/>
                        </a:lnTo>
                        <a:lnTo>
                          <a:pt x="501" y="150"/>
                        </a:lnTo>
                        <a:lnTo>
                          <a:pt x="505" y="142"/>
                        </a:lnTo>
                        <a:lnTo>
                          <a:pt x="508" y="138"/>
                        </a:lnTo>
                        <a:lnTo>
                          <a:pt x="516" y="141"/>
                        </a:lnTo>
                        <a:lnTo>
                          <a:pt x="525" y="130"/>
                        </a:lnTo>
                        <a:lnTo>
                          <a:pt x="525" y="123"/>
                        </a:lnTo>
                        <a:lnTo>
                          <a:pt x="528" y="117"/>
                        </a:lnTo>
                        <a:lnTo>
                          <a:pt x="529" y="112"/>
                        </a:lnTo>
                        <a:lnTo>
                          <a:pt x="547" y="108"/>
                        </a:lnTo>
                        <a:lnTo>
                          <a:pt x="562" y="103"/>
                        </a:lnTo>
                        <a:lnTo>
                          <a:pt x="582" y="97"/>
                        </a:lnTo>
                        <a:lnTo>
                          <a:pt x="604" y="102"/>
                        </a:lnTo>
                        <a:lnTo>
                          <a:pt x="627" y="102"/>
                        </a:lnTo>
                        <a:lnTo>
                          <a:pt x="664" y="102"/>
                        </a:lnTo>
                        <a:lnTo>
                          <a:pt x="670" y="64"/>
                        </a:lnTo>
                        <a:lnTo>
                          <a:pt x="691" y="66"/>
                        </a:lnTo>
                        <a:lnTo>
                          <a:pt x="706" y="94"/>
                        </a:lnTo>
                        <a:lnTo>
                          <a:pt x="709" y="70"/>
                        </a:lnTo>
                        <a:lnTo>
                          <a:pt x="778" y="4"/>
                        </a:lnTo>
                        <a:lnTo>
                          <a:pt x="805" y="4"/>
                        </a:lnTo>
                        <a:lnTo>
                          <a:pt x="829" y="18"/>
                        </a:lnTo>
                        <a:lnTo>
                          <a:pt x="861" y="16"/>
                        </a:lnTo>
                        <a:lnTo>
                          <a:pt x="903" y="40"/>
                        </a:lnTo>
                        <a:lnTo>
                          <a:pt x="951" y="54"/>
                        </a:lnTo>
                        <a:lnTo>
                          <a:pt x="985" y="51"/>
                        </a:lnTo>
                        <a:lnTo>
                          <a:pt x="1030" y="66"/>
                        </a:lnTo>
                        <a:lnTo>
                          <a:pt x="1068" y="66"/>
                        </a:lnTo>
                        <a:lnTo>
                          <a:pt x="1086" y="55"/>
                        </a:lnTo>
                        <a:lnTo>
                          <a:pt x="1128" y="55"/>
                        </a:lnTo>
                        <a:lnTo>
                          <a:pt x="1150" y="67"/>
                        </a:lnTo>
                        <a:lnTo>
                          <a:pt x="1207" y="67"/>
                        </a:lnTo>
                        <a:lnTo>
                          <a:pt x="1255" y="88"/>
                        </a:lnTo>
                        <a:lnTo>
                          <a:pt x="1344" y="85"/>
                        </a:lnTo>
                        <a:lnTo>
                          <a:pt x="1483" y="94"/>
                        </a:lnTo>
                        <a:lnTo>
                          <a:pt x="1551" y="123"/>
                        </a:lnTo>
                        <a:lnTo>
                          <a:pt x="1608" y="141"/>
                        </a:lnTo>
                        <a:lnTo>
                          <a:pt x="1644" y="156"/>
                        </a:lnTo>
                        <a:lnTo>
                          <a:pt x="1633" y="160"/>
                        </a:lnTo>
                        <a:lnTo>
                          <a:pt x="1608" y="148"/>
                        </a:lnTo>
                        <a:lnTo>
                          <a:pt x="1549" y="144"/>
                        </a:lnTo>
                        <a:lnTo>
                          <a:pt x="1566" y="156"/>
                        </a:lnTo>
                        <a:lnTo>
                          <a:pt x="1591" y="162"/>
                        </a:lnTo>
                        <a:lnTo>
                          <a:pt x="1584" y="181"/>
                        </a:lnTo>
                        <a:lnTo>
                          <a:pt x="1557" y="193"/>
                        </a:lnTo>
                        <a:lnTo>
                          <a:pt x="1548" y="213"/>
                        </a:lnTo>
                        <a:lnTo>
                          <a:pt x="1584" y="231"/>
                        </a:lnTo>
                        <a:lnTo>
                          <a:pt x="1609" y="255"/>
                        </a:lnTo>
                        <a:lnTo>
                          <a:pt x="1623" y="289"/>
                        </a:lnTo>
                        <a:lnTo>
                          <a:pt x="1606" y="292"/>
                        </a:lnTo>
                        <a:lnTo>
                          <a:pt x="1570" y="282"/>
                        </a:lnTo>
                        <a:lnTo>
                          <a:pt x="1533" y="256"/>
                        </a:lnTo>
                        <a:lnTo>
                          <a:pt x="1518" y="243"/>
                        </a:lnTo>
                        <a:lnTo>
                          <a:pt x="1509" y="225"/>
                        </a:lnTo>
                        <a:lnTo>
                          <a:pt x="1500" y="198"/>
                        </a:lnTo>
                        <a:lnTo>
                          <a:pt x="1485" y="189"/>
                        </a:lnTo>
                        <a:lnTo>
                          <a:pt x="1471" y="187"/>
                        </a:lnTo>
                        <a:lnTo>
                          <a:pt x="1459" y="190"/>
                        </a:lnTo>
                        <a:lnTo>
                          <a:pt x="1473" y="211"/>
                        </a:lnTo>
                        <a:lnTo>
                          <a:pt x="1437" y="214"/>
                        </a:lnTo>
                        <a:lnTo>
                          <a:pt x="1420" y="204"/>
                        </a:lnTo>
                        <a:lnTo>
                          <a:pt x="1389" y="210"/>
                        </a:lnTo>
                        <a:lnTo>
                          <a:pt x="1365" y="226"/>
                        </a:lnTo>
                        <a:lnTo>
                          <a:pt x="1365" y="235"/>
                        </a:lnTo>
                        <a:lnTo>
                          <a:pt x="1374" y="250"/>
                        </a:lnTo>
                        <a:lnTo>
                          <a:pt x="1411" y="255"/>
                        </a:lnTo>
                        <a:lnTo>
                          <a:pt x="1441" y="273"/>
                        </a:lnTo>
                        <a:lnTo>
                          <a:pt x="1492" y="322"/>
                        </a:lnTo>
                        <a:lnTo>
                          <a:pt x="1513" y="355"/>
                        </a:lnTo>
                        <a:lnTo>
                          <a:pt x="1516" y="390"/>
                        </a:lnTo>
                        <a:lnTo>
                          <a:pt x="1512" y="418"/>
                        </a:lnTo>
                        <a:lnTo>
                          <a:pt x="1500" y="418"/>
                        </a:lnTo>
                        <a:lnTo>
                          <a:pt x="1486" y="408"/>
                        </a:lnTo>
                        <a:lnTo>
                          <a:pt x="1467" y="421"/>
                        </a:lnTo>
                        <a:lnTo>
                          <a:pt x="1447" y="433"/>
                        </a:lnTo>
                        <a:lnTo>
                          <a:pt x="1444" y="456"/>
                        </a:lnTo>
                        <a:lnTo>
                          <a:pt x="1465" y="480"/>
                        </a:lnTo>
                        <a:lnTo>
                          <a:pt x="1452" y="499"/>
                        </a:lnTo>
                        <a:lnTo>
                          <a:pt x="1447" y="532"/>
                        </a:lnTo>
                        <a:lnTo>
                          <a:pt x="1473" y="553"/>
                        </a:lnTo>
                        <a:lnTo>
                          <a:pt x="1501" y="559"/>
                        </a:lnTo>
                        <a:lnTo>
                          <a:pt x="1531" y="582"/>
                        </a:lnTo>
                        <a:lnTo>
                          <a:pt x="1557" y="612"/>
                        </a:lnTo>
                        <a:lnTo>
                          <a:pt x="1558" y="656"/>
                        </a:lnTo>
                        <a:lnTo>
                          <a:pt x="1549" y="677"/>
                        </a:lnTo>
                        <a:lnTo>
                          <a:pt x="1522" y="695"/>
                        </a:lnTo>
                        <a:lnTo>
                          <a:pt x="1489" y="704"/>
                        </a:lnTo>
                        <a:lnTo>
                          <a:pt x="1468" y="718"/>
                        </a:lnTo>
                        <a:lnTo>
                          <a:pt x="1456" y="710"/>
                        </a:lnTo>
                        <a:lnTo>
                          <a:pt x="1446" y="718"/>
                        </a:lnTo>
                        <a:lnTo>
                          <a:pt x="1443" y="751"/>
                        </a:lnTo>
                        <a:lnTo>
                          <a:pt x="1450" y="770"/>
                        </a:lnTo>
                        <a:lnTo>
                          <a:pt x="1483" y="793"/>
                        </a:lnTo>
                        <a:lnTo>
                          <a:pt x="1497" y="815"/>
                        </a:lnTo>
                        <a:lnTo>
                          <a:pt x="1507" y="829"/>
                        </a:lnTo>
                        <a:lnTo>
                          <a:pt x="1504" y="853"/>
                        </a:lnTo>
                        <a:lnTo>
                          <a:pt x="1483" y="872"/>
                        </a:lnTo>
                        <a:lnTo>
                          <a:pt x="1461" y="872"/>
                        </a:lnTo>
                        <a:lnTo>
                          <a:pt x="1425" y="844"/>
                        </a:lnTo>
                        <a:lnTo>
                          <a:pt x="1399" y="833"/>
                        </a:lnTo>
                        <a:lnTo>
                          <a:pt x="1389" y="827"/>
                        </a:lnTo>
                        <a:lnTo>
                          <a:pt x="1378" y="842"/>
                        </a:lnTo>
                        <a:lnTo>
                          <a:pt x="1381" y="863"/>
                        </a:lnTo>
                        <a:lnTo>
                          <a:pt x="1390" y="880"/>
                        </a:lnTo>
                        <a:lnTo>
                          <a:pt x="1396" y="905"/>
                        </a:lnTo>
                        <a:lnTo>
                          <a:pt x="1419" y="914"/>
                        </a:lnTo>
                        <a:lnTo>
                          <a:pt x="1411" y="928"/>
                        </a:lnTo>
                        <a:lnTo>
                          <a:pt x="1413" y="947"/>
                        </a:lnTo>
                        <a:lnTo>
                          <a:pt x="1420" y="967"/>
                        </a:lnTo>
                        <a:lnTo>
                          <a:pt x="1405" y="965"/>
                        </a:lnTo>
                        <a:lnTo>
                          <a:pt x="1389" y="943"/>
                        </a:lnTo>
                        <a:lnTo>
                          <a:pt x="1390" y="919"/>
                        </a:lnTo>
                        <a:lnTo>
                          <a:pt x="1384" y="911"/>
                        </a:lnTo>
                        <a:lnTo>
                          <a:pt x="1378" y="884"/>
                        </a:lnTo>
                        <a:lnTo>
                          <a:pt x="1371" y="877"/>
                        </a:lnTo>
                        <a:lnTo>
                          <a:pt x="1368" y="839"/>
                        </a:lnTo>
                        <a:lnTo>
                          <a:pt x="1357" y="815"/>
                        </a:lnTo>
                        <a:lnTo>
                          <a:pt x="1339" y="794"/>
                        </a:lnTo>
                        <a:lnTo>
                          <a:pt x="1306" y="782"/>
                        </a:lnTo>
                        <a:lnTo>
                          <a:pt x="1282" y="763"/>
                        </a:lnTo>
                        <a:lnTo>
                          <a:pt x="1272" y="748"/>
                        </a:lnTo>
                        <a:lnTo>
                          <a:pt x="1255" y="731"/>
                        </a:lnTo>
                        <a:lnTo>
                          <a:pt x="1230" y="694"/>
                        </a:lnTo>
                        <a:lnTo>
                          <a:pt x="1207" y="697"/>
                        </a:lnTo>
                        <a:lnTo>
                          <a:pt x="1177" y="715"/>
                        </a:lnTo>
                        <a:lnTo>
                          <a:pt x="1164" y="730"/>
                        </a:lnTo>
                        <a:lnTo>
                          <a:pt x="1137" y="758"/>
                        </a:lnTo>
                        <a:lnTo>
                          <a:pt x="1117" y="788"/>
                        </a:lnTo>
                        <a:lnTo>
                          <a:pt x="1110" y="799"/>
                        </a:lnTo>
                        <a:lnTo>
                          <a:pt x="1117" y="835"/>
                        </a:lnTo>
                        <a:lnTo>
                          <a:pt x="1116" y="869"/>
                        </a:lnTo>
                        <a:lnTo>
                          <a:pt x="1092" y="893"/>
                        </a:lnTo>
                        <a:lnTo>
                          <a:pt x="1078" y="895"/>
                        </a:lnTo>
                        <a:lnTo>
                          <a:pt x="1050" y="845"/>
                        </a:lnTo>
                        <a:lnTo>
                          <a:pt x="1027" y="809"/>
                        </a:lnTo>
                        <a:lnTo>
                          <a:pt x="982" y="743"/>
                        </a:lnTo>
                        <a:lnTo>
                          <a:pt x="981" y="718"/>
                        </a:lnTo>
                        <a:lnTo>
                          <a:pt x="970" y="706"/>
                        </a:lnTo>
                        <a:lnTo>
                          <a:pt x="963" y="722"/>
                        </a:lnTo>
                        <a:lnTo>
                          <a:pt x="924" y="685"/>
                        </a:lnTo>
                        <a:lnTo>
                          <a:pt x="871" y="656"/>
                        </a:lnTo>
                        <a:lnTo>
                          <a:pt x="838" y="662"/>
                        </a:lnTo>
                        <a:lnTo>
                          <a:pt x="790" y="659"/>
                        </a:lnTo>
                        <a:lnTo>
                          <a:pt x="768" y="638"/>
                        </a:lnTo>
                        <a:lnTo>
                          <a:pt x="742" y="641"/>
                        </a:lnTo>
                        <a:lnTo>
                          <a:pt x="706" y="633"/>
                        </a:lnTo>
                        <a:lnTo>
                          <a:pt x="631" y="562"/>
                        </a:lnTo>
                        <a:lnTo>
                          <a:pt x="636" y="591"/>
                        </a:lnTo>
                        <a:lnTo>
                          <a:pt x="658" y="631"/>
                        </a:lnTo>
                        <a:lnTo>
                          <a:pt x="684" y="659"/>
                        </a:lnTo>
                        <a:lnTo>
                          <a:pt x="711" y="674"/>
                        </a:lnTo>
                        <a:lnTo>
                          <a:pt x="741" y="662"/>
                        </a:lnTo>
                        <a:lnTo>
                          <a:pt x="765" y="662"/>
                        </a:lnTo>
                        <a:lnTo>
                          <a:pt x="796" y="688"/>
                        </a:lnTo>
                        <a:lnTo>
                          <a:pt x="814" y="707"/>
                        </a:lnTo>
                        <a:lnTo>
                          <a:pt x="811" y="719"/>
                        </a:lnTo>
                        <a:lnTo>
                          <a:pt x="757" y="775"/>
                        </a:lnTo>
                        <a:lnTo>
                          <a:pt x="721" y="796"/>
                        </a:lnTo>
                        <a:lnTo>
                          <a:pt x="646" y="824"/>
                        </a:lnTo>
                        <a:lnTo>
                          <a:pt x="624" y="833"/>
                        </a:lnTo>
                        <a:lnTo>
                          <a:pt x="610" y="824"/>
                        </a:lnTo>
                        <a:lnTo>
                          <a:pt x="606" y="812"/>
                        </a:lnTo>
                        <a:lnTo>
                          <a:pt x="604" y="796"/>
                        </a:lnTo>
                        <a:lnTo>
                          <a:pt x="598" y="779"/>
                        </a:lnTo>
                        <a:lnTo>
                          <a:pt x="588" y="766"/>
                        </a:lnTo>
                        <a:lnTo>
                          <a:pt x="579" y="754"/>
                        </a:lnTo>
                        <a:lnTo>
                          <a:pt x="565" y="737"/>
                        </a:lnTo>
                        <a:lnTo>
                          <a:pt x="558" y="727"/>
                        </a:lnTo>
                        <a:lnTo>
                          <a:pt x="552" y="713"/>
                        </a:lnTo>
                        <a:lnTo>
                          <a:pt x="541" y="701"/>
                        </a:lnTo>
                        <a:lnTo>
                          <a:pt x="525" y="671"/>
                        </a:lnTo>
                        <a:lnTo>
                          <a:pt x="516" y="659"/>
                        </a:lnTo>
                        <a:lnTo>
                          <a:pt x="504" y="643"/>
                        </a:lnTo>
                        <a:lnTo>
                          <a:pt x="484" y="621"/>
                        </a:lnTo>
                        <a:lnTo>
                          <a:pt x="474" y="607"/>
                        </a:lnTo>
                        <a:lnTo>
                          <a:pt x="465" y="598"/>
                        </a:lnTo>
                        <a:lnTo>
                          <a:pt x="454" y="579"/>
                        </a:lnTo>
                        <a:lnTo>
                          <a:pt x="486" y="561"/>
                        </a:lnTo>
                        <a:lnTo>
                          <a:pt x="499" y="522"/>
                        </a:lnTo>
                        <a:lnTo>
                          <a:pt x="469" y="511"/>
                        </a:lnTo>
                        <a:lnTo>
                          <a:pt x="427" y="517"/>
                        </a:lnTo>
                        <a:lnTo>
                          <a:pt x="418" y="513"/>
                        </a:lnTo>
                        <a:lnTo>
                          <a:pt x="414" y="513"/>
                        </a:lnTo>
                        <a:lnTo>
                          <a:pt x="408" y="513"/>
                        </a:lnTo>
                        <a:lnTo>
                          <a:pt x="403" y="513"/>
                        </a:lnTo>
                        <a:lnTo>
                          <a:pt x="402" y="505"/>
                        </a:lnTo>
                        <a:lnTo>
                          <a:pt x="399" y="499"/>
                        </a:lnTo>
                        <a:lnTo>
                          <a:pt x="399" y="487"/>
                        </a:lnTo>
                        <a:lnTo>
                          <a:pt x="391" y="481"/>
                        </a:lnTo>
                        <a:lnTo>
                          <a:pt x="390" y="474"/>
                        </a:lnTo>
                        <a:lnTo>
                          <a:pt x="385" y="472"/>
                        </a:lnTo>
                        <a:lnTo>
                          <a:pt x="381" y="466"/>
                        </a:lnTo>
                        <a:lnTo>
                          <a:pt x="379" y="460"/>
                        </a:lnTo>
                        <a:lnTo>
                          <a:pt x="376" y="454"/>
                        </a:lnTo>
                        <a:lnTo>
                          <a:pt x="373" y="448"/>
                        </a:lnTo>
                        <a:lnTo>
                          <a:pt x="364" y="448"/>
                        </a:lnTo>
                        <a:lnTo>
                          <a:pt x="358" y="448"/>
                        </a:lnTo>
                        <a:lnTo>
                          <a:pt x="355" y="448"/>
                        </a:lnTo>
                        <a:lnTo>
                          <a:pt x="354" y="459"/>
                        </a:lnTo>
                        <a:lnTo>
                          <a:pt x="354" y="466"/>
                        </a:lnTo>
                        <a:lnTo>
                          <a:pt x="354" y="475"/>
                        </a:lnTo>
                        <a:lnTo>
                          <a:pt x="354" y="484"/>
                        </a:lnTo>
                        <a:lnTo>
                          <a:pt x="354" y="490"/>
                        </a:lnTo>
                        <a:lnTo>
                          <a:pt x="346" y="493"/>
                        </a:lnTo>
                        <a:lnTo>
                          <a:pt x="340" y="499"/>
                        </a:lnTo>
                        <a:lnTo>
                          <a:pt x="331" y="490"/>
                        </a:lnTo>
                        <a:lnTo>
                          <a:pt x="325" y="478"/>
                        </a:lnTo>
                        <a:lnTo>
                          <a:pt x="327" y="465"/>
                        </a:lnTo>
                        <a:lnTo>
                          <a:pt x="318" y="444"/>
                        </a:lnTo>
                        <a:lnTo>
                          <a:pt x="313" y="432"/>
                        </a:lnTo>
                        <a:lnTo>
                          <a:pt x="303" y="424"/>
                        </a:lnTo>
                        <a:lnTo>
                          <a:pt x="291" y="417"/>
                        </a:lnTo>
                        <a:lnTo>
                          <a:pt x="285" y="406"/>
                        </a:lnTo>
                        <a:lnTo>
                          <a:pt x="280" y="399"/>
                        </a:lnTo>
                        <a:lnTo>
                          <a:pt x="270" y="397"/>
                        </a:lnTo>
                        <a:lnTo>
                          <a:pt x="267" y="393"/>
                        </a:lnTo>
                        <a:lnTo>
                          <a:pt x="259" y="393"/>
                        </a:lnTo>
                        <a:lnTo>
                          <a:pt x="253" y="400"/>
                        </a:lnTo>
                        <a:lnTo>
                          <a:pt x="247" y="406"/>
                        </a:lnTo>
                        <a:lnTo>
                          <a:pt x="261" y="414"/>
                        </a:lnTo>
                        <a:lnTo>
                          <a:pt x="268" y="424"/>
                        </a:lnTo>
                        <a:lnTo>
                          <a:pt x="282" y="438"/>
                        </a:lnTo>
                        <a:lnTo>
                          <a:pt x="288" y="444"/>
                        </a:lnTo>
                        <a:lnTo>
                          <a:pt x="298" y="448"/>
                        </a:lnTo>
                        <a:lnTo>
                          <a:pt x="306" y="460"/>
                        </a:lnTo>
                        <a:lnTo>
                          <a:pt x="297" y="471"/>
                        </a:lnTo>
                        <a:lnTo>
                          <a:pt x="295" y="466"/>
                        </a:lnTo>
                        <a:lnTo>
                          <a:pt x="295" y="460"/>
                        </a:lnTo>
                        <a:lnTo>
                          <a:pt x="291" y="474"/>
                        </a:lnTo>
                        <a:lnTo>
                          <a:pt x="289" y="486"/>
                        </a:lnTo>
                        <a:lnTo>
                          <a:pt x="280" y="489"/>
                        </a:lnTo>
                        <a:lnTo>
                          <a:pt x="283" y="474"/>
                        </a:lnTo>
                        <a:lnTo>
                          <a:pt x="282" y="466"/>
                        </a:lnTo>
                        <a:lnTo>
                          <a:pt x="271" y="462"/>
                        </a:lnTo>
                        <a:lnTo>
                          <a:pt x="267" y="459"/>
                        </a:lnTo>
                        <a:lnTo>
                          <a:pt x="262" y="453"/>
                        </a:lnTo>
                        <a:lnTo>
                          <a:pt x="253" y="447"/>
                        </a:lnTo>
                        <a:lnTo>
                          <a:pt x="247" y="442"/>
                        </a:lnTo>
                        <a:lnTo>
                          <a:pt x="241" y="433"/>
                        </a:lnTo>
                        <a:lnTo>
                          <a:pt x="234" y="429"/>
                        </a:lnTo>
                        <a:lnTo>
                          <a:pt x="229" y="420"/>
                        </a:lnTo>
                        <a:lnTo>
                          <a:pt x="228" y="412"/>
                        </a:lnTo>
                        <a:lnTo>
                          <a:pt x="222" y="409"/>
                        </a:lnTo>
                        <a:lnTo>
                          <a:pt x="216" y="405"/>
                        </a:lnTo>
                        <a:lnTo>
                          <a:pt x="204" y="405"/>
                        </a:lnTo>
                        <a:lnTo>
                          <a:pt x="193" y="406"/>
                        </a:lnTo>
                        <a:lnTo>
                          <a:pt x="181" y="405"/>
                        </a:lnTo>
                        <a:lnTo>
                          <a:pt x="160" y="406"/>
                        </a:lnTo>
                        <a:lnTo>
                          <a:pt x="145" y="408"/>
                        </a:lnTo>
                        <a:lnTo>
                          <a:pt x="141" y="411"/>
                        </a:lnTo>
                        <a:lnTo>
                          <a:pt x="139" y="420"/>
                        </a:lnTo>
                        <a:lnTo>
                          <a:pt x="139" y="430"/>
                        </a:lnTo>
                        <a:lnTo>
                          <a:pt x="130" y="441"/>
                        </a:lnTo>
                        <a:lnTo>
                          <a:pt x="124" y="445"/>
                        </a:lnTo>
                        <a:lnTo>
                          <a:pt x="121" y="448"/>
                        </a:lnTo>
                        <a:lnTo>
                          <a:pt x="117" y="459"/>
                        </a:lnTo>
                        <a:lnTo>
                          <a:pt x="114" y="465"/>
                        </a:lnTo>
                        <a:lnTo>
                          <a:pt x="118" y="469"/>
                        </a:lnTo>
                        <a:lnTo>
                          <a:pt x="118" y="478"/>
                        </a:lnTo>
                        <a:lnTo>
                          <a:pt x="117" y="483"/>
                        </a:lnTo>
                        <a:lnTo>
                          <a:pt x="114" y="489"/>
                        </a:lnTo>
                        <a:lnTo>
                          <a:pt x="106" y="499"/>
                        </a:lnTo>
                        <a:lnTo>
                          <a:pt x="102" y="495"/>
                        </a:lnTo>
                        <a:lnTo>
                          <a:pt x="97" y="498"/>
                        </a:lnTo>
                        <a:lnTo>
                          <a:pt x="91" y="502"/>
                        </a:lnTo>
                        <a:lnTo>
                          <a:pt x="82" y="504"/>
                        </a:lnTo>
                        <a:lnTo>
                          <a:pt x="73" y="511"/>
                        </a:lnTo>
                        <a:lnTo>
                          <a:pt x="64" y="513"/>
                        </a:lnTo>
                        <a:lnTo>
                          <a:pt x="55" y="513"/>
                        </a:lnTo>
                        <a:lnTo>
                          <a:pt x="46" y="513"/>
                        </a:lnTo>
                        <a:lnTo>
                          <a:pt x="27" y="517"/>
                        </a:lnTo>
                        <a:lnTo>
                          <a:pt x="18" y="517"/>
                        </a:lnTo>
                        <a:lnTo>
                          <a:pt x="13" y="507"/>
                        </a:lnTo>
                        <a:lnTo>
                          <a:pt x="9" y="493"/>
                        </a:lnTo>
                        <a:lnTo>
                          <a:pt x="6" y="481"/>
                        </a:lnTo>
                        <a:lnTo>
                          <a:pt x="5" y="469"/>
                        </a:lnTo>
                        <a:lnTo>
                          <a:pt x="5" y="454"/>
                        </a:lnTo>
                        <a:lnTo>
                          <a:pt x="0" y="43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4" name=""/>
              <p:cNvGrpSpPr/>
              <p:nvPr/>
            </p:nvGrpSpPr>
            <p:grpSpPr>
              <a:xfrm>
                <a:off x="642960" y="1744560"/>
                <a:ext cx="2838600" cy="3386160"/>
                <a:chOff x="642960" y="1744560"/>
                <a:chExt cx="2838600" cy="33861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642960" y="4889520"/>
                  <a:ext cx="714240" cy="225360"/>
                </a:xfrm>
                <a:custGeom>
                  <a:avLst/>
                  <a:gdLst/>
                  <a:ahLst/>
                  <a:rect l="l" t="t" r="r" b="b"/>
                  <a:pathLst>
                    <a:path w="450" h="142">
                      <a:moveTo>
                        <a:pt x="95" y="67"/>
                      </a:moveTo>
                      <a:lnTo>
                        <a:pt x="93" y="52"/>
                      </a:lnTo>
                      <a:lnTo>
                        <a:pt x="102" y="49"/>
                      </a:lnTo>
                      <a:lnTo>
                        <a:pt x="116" y="54"/>
                      </a:lnTo>
                      <a:lnTo>
                        <a:pt x="132" y="58"/>
                      </a:lnTo>
                      <a:lnTo>
                        <a:pt x="146" y="45"/>
                      </a:lnTo>
                      <a:lnTo>
                        <a:pt x="144" y="36"/>
                      </a:lnTo>
                      <a:lnTo>
                        <a:pt x="165" y="42"/>
                      </a:lnTo>
                      <a:lnTo>
                        <a:pt x="174" y="42"/>
                      </a:lnTo>
                      <a:lnTo>
                        <a:pt x="183" y="43"/>
                      </a:lnTo>
                      <a:lnTo>
                        <a:pt x="200" y="31"/>
                      </a:lnTo>
                      <a:lnTo>
                        <a:pt x="219" y="27"/>
                      </a:lnTo>
                      <a:lnTo>
                        <a:pt x="239" y="27"/>
                      </a:lnTo>
                      <a:lnTo>
                        <a:pt x="251" y="22"/>
                      </a:lnTo>
                      <a:lnTo>
                        <a:pt x="270" y="24"/>
                      </a:lnTo>
                      <a:lnTo>
                        <a:pt x="287" y="24"/>
                      </a:lnTo>
                      <a:lnTo>
                        <a:pt x="302" y="22"/>
                      </a:lnTo>
                      <a:lnTo>
                        <a:pt x="326" y="24"/>
                      </a:lnTo>
                      <a:lnTo>
                        <a:pt x="336" y="22"/>
                      </a:lnTo>
                      <a:lnTo>
                        <a:pt x="359" y="33"/>
                      </a:lnTo>
                      <a:lnTo>
                        <a:pt x="380" y="30"/>
                      </a:lnTo>
                      <a:lnTo>
                        <a:pt x="393" y="16"/>
                      </a:lnTo>
                      <a:lnTo>
                        <a:pt x="405" y="13"/>
                      </a:lnTo>
                      <a:lnTo>
                        <a:pt x="423" y="1"/>
                      </a:lnTo>
                      <a:lnTo>
                        <a:pt x="449" y="0"/>
                      </a:lnTo>
                      <a:lnTo>
                        <a:pt x="440" y="10"/>
                      </a:lnTo>
                      <a:lnTo>
                        <a:pt x="431" y="16"/>
                      </a:lnTo>
                      <a:lnTo>
                        <a:pt x="422" y="25"/>
                      </a:lnTo>
                      <a:lnTo>
                        <a:pt x="408" y="34"/>
                      </a:lnTo>
                      <a:lnTo>
                        <a:pt x="401" y="43"/>
                      </a:lnTo>
                      <a:lnTo>
                        <a:pt x="389" y="49"/>
                      </a:lnTo>
                      <a:lnTo>
                        <a:pt x="380" y="55"/>
                      </a:lnTo>
                      <a:lnTo>
                        <a:pt x="371" y="60"/>
                      </a:lnTo>
                      <a:lnTo>
                        <a:pt x="363" y="66"/>
                      </a:lnTo>
                      <a:lnTo>
                        <a:pt x="351" y="67"/>
                      </a:lnTo>
                      <a:lnTo>
                        <a:pt x="342" y="72"/>
                      </a:lnTo>
                      <a:lnTo>
                        <a:pt x="333" y="78"/>
                      </a:lnTo>
                      <a:lnTo>
                        <a:pt x="315" y="87"/>
                      </a:lnTo>
                      <a:lnTo>
                        <a:pt x="302" y="90"/>
                      </a:lnTo>
                      <a:lnTo>
                        <a:pt x="287" y="97"/>
                      </a:lnTo>
                      <a:lnTo>
                        <a:pt x="272" y="102"/>
                      </a:lnTo>
                      <a:lnTo>
                        <a:pt x="258" y="108"/>
                      </a:lnTo>
                      <a:lnTo>
                        <a:pt x="243" y="112"/>
                      </a:lnTo>
                      <a:lnTo>
                        <a:pt x="228" y="118"/>
                      </a:lnTo>
                      <a:lnTo>
                        <a:pt x="215" y="121"/>
                      </a:lnTo>
                      <a:lnTo>
                        <a:pt x="201" y="124"/>
                      </a:lnTo>
                      <a:lnTo>
                        <a:pt x="188" y="129"/>
                      </a:lnTo>
                      <a:lnTo>
                        <a:pt x="170" y="132"/>
                      </a:lnTo>
                      <a:lnTo>
                        <a:pt x="153" y="133"/>
                      </a:lnTo>
                      <a:lnTo>
                        <a:pt x="138" y="138"/>
                      </a:lnTo>
                      <a:lnTo>
                        <a:pt x="120" y="141"/>
                      </a:lnTo>
                      <a:lnTo>
                        <a:pt x="104" y="141"/>
                      </a:lnTo>
                      <a:lnTo>
                        <a:pt x="87" y="139"/>
                      </a:lnTo>
                      <a:lnTo>
                        <a:pt x="71" y="141"/>
                      </a:lnTo>
                      <a:lnTo>
                        <a:pt x="56" y="133"/>
                      </a:lnTo>
                      <a:lnTo>
                        <a:pt x="42" y="127"/>
                      </a:lnTo>
                      <a:lnTo>
                        <a:pt x="29" y="120"/>
                      </a:lnTo>
                      <a:lnTo>
                        <a:pt x="14" y="108"/>
                      </a:lnTo>
                      <a:lnTo>
                        <a:pt x="0" y="99"/>
                      </a:lnTo>
                      <a:lnTo>
                        <a:pt x="39" y="94"/>
                      </a:lnTo>
                      <a:lnTo>
                        <a:pt x="45" y="94"/>
                      </a:lnTo>
                      <a:lnTo>
                        <a:pt x="48" y="91"/>
                      </a:lnTo>
                      <a:lnTo>
                        <a:pt x="60" y="90"/>
                      </a:lnTo>
                      <a:lnTo>
                        <a:pt x="72" y="94"/>
                      </a:lnTo>
                      <a:lnTo>
                        <a:pt x="81" y="102"/>
                      </a:lnTo>
                      <a:lnTo>
                        <a:pt x="86" y="102"/>
                      </a:lnTo>
                      <a:lnTo>
                        <a:pt x="92" y="106"/>
                      </a:lnTo>
                      <a:lnTo>
                        <a:pt x="101" y="102"/>
                      </a:lnTo>
                      <a:lnTo>
                        <a:pt x="104" y="90"/>
                      </a:lnTo>
                      <a:lnTo>
                        <a:pt x="107" y="79"/>
                      </a:lnTo>
                      <a:lnTo>
                        <a:pt x="95" y="67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608200" y="4734000"/>
                  <a:ext cx="727200" cy="396720"/>
                </a:xfrm>
                <a:custGeom>
                  <a:avLst/>
                  <a:gdLst/>
                  <a:ahLst/>
                  <a:rect l="l" t="t" r="r" b="b"/>
                  <a:pathLst>
                    <a:path w="458" h="250">
                      <a:moveTo>
                        <a:pt x="250" y="20"/>
                      </a:moveTo>
                      <a:lnTo>
                        <a:pt x="223" y="33"/>
                      </a:lnTo>
                      <a:lnTo>
                        <a:pt x="219" y="42"/>
                      </a:lnTo>
                      <a:lnTo>
                        <a:pt x="208" y="48"/>
                      </a:lnTo>
                      <a:lnTo>
                        <a:pt x="204" y="50"/>
                      </a:lnTo>
                      <a:lnTo>
                        <a:pt x="195" y="54"/>
                      </a:lnTo>
                      <a:lnTo>
                        <a:pt x="205" y="68"/>
                      </a:lnTo>
                      <a:lnTo>
                        <a:pt x="210" y="74"/>
                      </a:lnTo>
                      <a:lnTo>
                        <a:pt x="210" y="84"/>
                      </a:lnTo>
                      <a:lnTo>
                        <a:pt x="231" y="111"/>
                      </a:lnTo>
                      <a:lnTo>
                        <a:pt x="231" y="128"/>
                      </a:lnTo>
                      <a:lnTo>
                        <a:pt x="228" y="143"/>
                      </a:lnTo>
                      <a:lnTo>
                        <a:pt x="201" y="167"/>
                      </a:lnTo>
                      <a:lnTo>
                        <a:pt x="192" y="176"/>
                      </a:lnTo>
                      <a:lnTo>
                        <a:pt x="180" y="180"/>
                      </a:lnTo>
                      <a:lnTo>
                        <a:pt x="160" y="177"/>
                      </a:lnTo>
                      <a:lnTo>
                        <a:pt x="156" y="173"/>
                      </a:lnTo>
                      <a:lnTo>
                        <a:pt x="139" y="176"/>
                      </a:lnTo>
                      <a:lnTo>
                        <a:pt x="145" y="180"/>
                      </a:lnTo>
                      <a:lnTo>
                        <a:pt x="145" y="189"/>
                      </a:lnTo>
                      <a:lnTo>
                        <a:pt x="154" y="198"/>
                      </a:lnTo>
                      <a:lnTo>
                        <a:pt x="160" y="197"/>
                      </a:lnTo>
                      <a:lnTo>
                        <a:pt x="180" y="203"/>
                      </a:lnTo>
                      <a:lnTo>
                        <a:pt x="219" y="203"/>
                      </a:lnTo>
                      <a:lnTo>
                        <a:pt x="225" y="207"/>
                      </a:lnTo>
                      <a:lnTo>
                        <a:pt x="289" y="203"/>
                      </a:lnTo>
                      <a:lnTo>
                        <a:pt x="319" y="192"/>
                      </a:lnTo>
                      <a:lnTo>
                        <a:pt x="336" y="186"/>
                      </a:lnTo>
                      <a:lnTo>
                        <a:pt x="354" y="177"/>
                      </a:lnTo>
                      <a:lnTo>
                        <a:pt x="360" y="171"/>
                      </a:lnTo>
                      <a:lnTo>
                        <a:pt x="366" y="167"/>
                      </a:lnTo>
                      <a:lnTo>
                        <a:pt x="379" y="161"/>
                      </a:lnTo>
                      <a:lnTo>
                        <a:pt x="393" y="152"/>
                      </a:lnTo>
                      <a:lnTo>
                        <a:pt x="412" y="147"/>
                      </a:lnTo>
                      <a:lnTo>
                        <a:pt x="457" y="123"/>
                      </a:lnTo>
                      <a:lnTo>
                        <a:pt x="453" y="143"/>
                      </a:lnTo>
                      <a:lnTo>
                        <a:pt x="444" y="156"/>
                      </a:lnTo>
                      <a:lnTo>
                        <a:pt x="435" y="168"/>
                      </a:lnTo>
                      <a:lnTo>
                        <a:pt x="426" y="179"/>
                      </a:lnTo>
                      <a:lnTo>
                        <a:pt x="411" y="189"/>
                      </a:lnTo>
                      <a:lnTo>
                        <a:pt x="399" y="198"/>
                      </a:lnTo>
                      <a:lnTo>
                        <a:pt x="387" y="207"/>
                      </a:lnTo>
                      <a:lnTo>
                        <a:pt x="370" y="218"/>
                      </a:lnTo>
                      <a:lnTo>
                        <a:pt x="349" y="230"/>
                      </a:lnTo>
                      <a:lnTo>
                        <a:pt x="331" y="237"/>
                      </a:lnTo>
                      <a:lnTo>
                        <a:pt x="313" y="242"/>
                      </a:lnTo>
                      <a:lnTo>
                        <a:pt x="286" y="246"/>
                      </a:lnTo>
                      <a:lnTo>
                        <a:pt x="256" y="249"/>
                      </a:lnTo>
                      <a:lnTo>
                        <a:pt x="229" y="249"/>
                      </a:lnTo>
                      <a:lnTo>
                        <a:pt x="198" y="248"/>
                      </a:lnTo>
                      <a:lnTo>
                        <a:pt x="178" y="245"/>
                      </a:lnTo>
                      <a:lnTo>
                        <a:pt x="151" y="240"/>
                      </a:lnTo>
                      <a:lnTo>
                        <a:pt x="135" y="234"/>
                      </a:lnTo>
                      <a:lnTo>
                        <a:pt x="117" y="224"/>
                      </a:lnTo>
                      <a:lnTo>
                        <a:pt x="99" y="218"/>
                      </a:lnTo>
                      <a:lnTo>
                        <a:pt x="87" y="212"/>
                      </a:lnTo>
                      <a:lnTo>
                        <a:pt x="75" y="206"/>
                      </a:lnTo>
                      <a:lnTo>
                        <a:pt x="66" y="203"/>
                      </a:lnTo>
                      <a:lnTo>
                        <a:pt x="51" y="195"/>
                      </a:lnTo>
                      <a:lnTo>
                        <a:pt x="40" y="188"/>
                      </a:lnTo>
                      <a:lnTo>
                        <a:pt x="31" y="182"/>
                      </a:lnTo>
                      <a:lnTo>
                        <a:pt x="24" y="173"/>
                      </a:lnTo>
                      <a:lnTo>
                        <a:pt x="15" y="165"/>
                      </a:lnTo>
                      <a:lnTo>
                        <a:pt x="7" y="159"/>
                      </a:lnTo>
                      <a:lnTo>
                        <a:pt x="0" y="153"/>
                      </a:lnTo>
                      <a:lnTo>
                        <a:pt x="15" y="140"/>
                      </a:lnTo>
                      <a:lnTo>
                        <a:pt x="24" y="138"/>
                      </a:lnTo>
                      <a:lnTo>
                        <a:pt x="30" y="138"/>
                      </a:lnTo>
                      <a:lnTo>
                        <a:pt x="39" y="137"/>
                      </a:lnTo>
                      <a:lnTo>
                        <a:pt x="51" y="132"/>
                      </a:lnTo>
                      <a:lnTo>
                        <a:pt x="60" y="134"/>
                      </a:lnTo>
                      <a:lnTo>
                        <a:pt x="72" y="131"/>
                      </a:lnTo>
                      <a:lnTo>
                        <a:pt x="87" y="129"/>
                      </a:lnTo>
                      <a:lnTo>
                        <a:pt x="97" y="131"/>
                      </a:lnTo>
                      <a:lnTo>
                        <a:pt x="106" y="132"/>
                      </a:lnTo>
                      <a:lnTo>
                        <a:pt x="114" y="132"/>
                      </a:lnTo>
                      <a:lnTo>
                        <a:pt x="118" y="134"/>
                      </a:lnTo>
                      <a:lnTo>
                        <a:pt x="127" y="134"/>
                      </a:lnTo>
                      <a:lnTo>
                        <a:pt x="132" y="132"/>
                      </a:lnTo>
                      <a:lnTo>
                        <a:pt x="151" y="129"/>
                      </a:lnTo>
                      <a:lnTo>
                        <a:pt x="166" y="128"/>
                      </a:lnTo>
                      <a:lnTo>
                        <a:pt x="175" y="129"/>
                      </a:lnTo>
                      <a:lnTo>
                        <a:pt x="177" y="125"/>
                      </a:lnTo>
                      <a:lnTo>
                        <a:pt x="174" y="119"/>
                      </a:lnTo>
                      <a:lnTo>
                        <a:pt x="171" y="111"/>
                      </a:lnTo>
                      <a:lnTo>
                        <a:pt x="169" y="107"/>
                      </a:lnTo>
                      <a:lnTo>
                        <a:pt x="166" y="101"/>
                      </a:lnTo>
                      <a:lnTo>
                        <a:pt x="174" y="93"/>
                      </a:lnTo>
                      <a:lnTo>
                        <a:pt x="180" y="86"/>
                      </a:lnTo>
                      <a:lnTo>
                        <a:pt x="187" y="74"/>
                      </a:lnTo>
                      <a:lnTo>
                        <a:pt x="180" y="69"/>
                      </a:lnTo>
                      <a:lnTo>
                        <a:pt x="178" y="65"/>
                      </a:lnTo>
                      <a:lnTo>
                        <a:pt x="174" y="60"/>
                      </a:lnTo>
                      <a:lnTo>
                        <a:pt x="180" y="50"/>
                      </a:lnTo>
                      <a:lnTo>
                        <a:pt x="186" y="41"/>
                      </a:lnTo>
                      <a:lnTo>
                        <a:pt x="190" y="30"/>
                      </a:lnTo>
                      <a:lnTo>
                        <a:pt x="196" y="23"/>
                      </a:lnTo>
                      <a:lnTo>
                        <a:pt x="201" y="21"/>
                      </a:lnTo>
                      <a:lnTo>
                        <a:pt x="208" y="11"/>
                      </a:lnTo>
                      <a:lnTo>
                        <a:pt x="214" y="8"/>
                      </a:lnTo>
                      <a:lnTo>
                        <a:pt x="219" y="8"/>
                      </a:lnTo>
                      <a:lnTo>
                        <a:pt x="229" y="2"/>
                      </a:lnTo>
                      <a:lnTo>
                        <a:pt x="235" y="0"/>
                      </a:lnTo>
                      <a:lnTo>
                        <a:pt x="244" y="2"/>
                      </a:lnTo>
                      <a:lnTo>
                        <a:pt x="250" y="2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193760" y="1871640"/>
                  <a:ext cx="1550880" cy="1333440"/>
                </a:xfrm>
                <a:custGeom>
                  <a:avLst/>
                  <a:gdLst/>
                  <a:ahLst/>
                  <a:rect l="l" t="t" r="r" b="b"/>
                  <a:pathLst>
                    <a:path w="977" h="840">
                      <a:moveTo>
                        <a:pt x="0" y="216"/>
                      </a:moveTo>
                      <a:lnTo>
                        <a:pt x="46" y="187"/>
                      </a:lnTo>
                      <a:lnTo>
                        <a:pt x="73" y="175"/>
                      </a:lnTo>
                      <a:lnTo>
                        <a:pt x="78" y="157"/>
                      </a:lnTo>
                      <a:lnTo>
                        <a:pt x="57" y="147"/>
                      </a:lnTo>
                      <a:lnTo>
                        <a:pt x="55" y="126"/>
                      </a:lnTo>
                      <a:lnTo>
                        <a:pt x="64" y="120"/>
                      </a:lnTo>
                      <a:lnTo>
                        <a:pt x="63" y="111"/>
                      </a:lnTo>
                      <a:lnTo>
                        <a:pt x="99" y="108"/>
                      </a:lnTo>
                      <a:lnTo>
                        <a:pt x="108" y="91"/>
                      </a:lnTo>
                      <a:lnTo>
                        <a:pt x="109" y="76"/>
                      </a:lnTo>
                      <a:lnTo>
                        <a:pt x="139" y="72"/>
                      </a:lnTo>
                      <a:lnTo>
                        <a:pt x="142" y="57"/>
                      </a:lnTo>
                      <a:lnTo>
                        <a:pt x="114" y="52"/>
                      </a:lnTo>
                      <a:lnTo>
                        <a:pt x="127" y="42"/>
                      </a:lnTo>
                      <a:lnTo>
                        <a:pt x="174" y="42"/>
                      </a:lnTo>
                      <a:lnTo>
                        <a:pt x="187" y="30"/>
                      </a:lnTo>
                      <a:lnTo>
                        <a:pt x="207" y="28"/>
                      </a:lnTo>
                      <a:lnTo>
                        <a:pt x="219" y="18"/>
                      </a:lnTo>
                      <a:lnTo>
                        <a:pt x="234" y="36"/>
                      </a:lnTo>
                      <a:lnTo>
                        <a:pt x="292" y="33"/>
                      </a:lnTo>
                      <a:lnTo>
                        <a:pt x="319" y="51"/>
                      </a:lnTo>
                      <a:lnTo>
                        <a:pt x="406" y="46"/>
                      </a:lnTo>
                      <a:lnTo>
                        <a:pt x="420" y="37"/>
                      </a:lnTo>
                      <a:lnTo>
                        <a:pt x="453" y="52"/>
                      </a:lnTo>
                      <a:lnTo>
                        <a:pt x="487" y="66"/>
                      </a:lnTo>
                      <a:lnTo>
                        <a:pt x="504" y="60"/>
                      </a:lnTo>
                      <a:lnTo>
                        <a:pt x="514" y="52"/>
                      </a:lnTo>
                      <a:lnTo>
                        <a:pt x="543" y="57"/>
                      </a:lnTo>
                      <a:lnTo>
                        <a:pt x="523" y="46"/>
                      </a:lnTo>
                      <a:lnTo>
                        <a:pt x="505" y="48"/>
                      </a:lnTo>
                      <a:lnTo>
                        <a:pt x="478" y="51"/>
                      </a:lnTo>
                      <a:lnTo>
                        <a:pt x="465" y="36"/>
                      </a:lnTo>
                      <a:lnTo>
                        <a:pt x="450" y="28"/>
                      </a:lnTo>
                      <a:lnTo>
                        <a:pt x="450" y="15"/>
                      </a:lnTo>
                      <a:lnTo>
                        <a:pt x="454" y="1"/>
                      </a:lnTo>
                      <a:lnTo>
                        <a:pt x="466" y="0"/>
                      </a:lnTo>
                      <a:lnTo>
                        <a:pt x="483" y="12"/>
                      </a:lnTo>
                      <a:lnTo>
                        <a:pt x="487" y="6"/>
                      </a:lnTo>
                      <a:lnTo>
                        <a:pt x="501" y="0"/>
                      </a:lnTo>
                      <a:lnTo>
                        <a:pt x="517" y="9"/>
                      </a:lnTo>
                      <a:lnTo>
                        <a:pt x="526" y="1"/>
                      </a:lnTo>
                      <a:lnTo>
                        <a:pt x="535" y="13"/>
                      </a:lnTo>
                      <a:lnTo>
                        <a:pt x="537" y="22"/>
                      </a:lnTo>
                      <a:lnTo>
                        <a:pt x="561" y="33"/>
                      </a:lnTo>
                      <a:lnTo>
                        <a:pt x="552" y="42"/>
                      </a:lnTo>
                      <a:lnTo>
                        <a:pt x="552" y="54"/>
                      </a:lnTo>
                      <a:lnTo>
                        <a:pt x="592" y="57"/>
                      </a:lnTo>
                      <a:lnTo>
                        <a:pt x="603" y="42"/>
                      </a:lnTo>
                      <a:lnTo>
                        <a:pt x="595" y="34"/>
                      </a:lnTo>
                      <a:lnTo>
                        <a:pt x="577" y="36"/>
                      </a:lnTo>
                      <a:lnTo>
                        <a:pt x="582" y="18"/>
                      </a:lnTo>
                      <a:lnTo>
                        <a:pt x="618" y="28"/>
                      </a:lnTo>
                      <a:lnTo>
                        <a:pt x="625" y="40"/>
                      </a:lnTo>
                      <a:lnTo>
                        <a:pt x="655" y="40"/>
                      </a:lnTo>
                      <a:lnTo>
                        <a:pt x="685" y="55"/>
                      </a:lnTo>
                      <a:lnTo>
                        <a:pt x="700" y="52"/>
                      </a:lnTo>
                      <a:lnTo>
                        <a:pt x="717" y="66"/>
                      </a:lnTo>
                      <a:lnTo>
                        <a:pt x="700" y="84"/>
                      </a:lnTo>
                      <a:lnTo>
                        <a:pt x="687" y="70"/>
                      </a:lnTo>
                      <a:lnTo>
                        <a:pt x="678" y="75"/>
                      </a:lnTo>
                      <a:lnTo>
                        <a:pt x="664" y="85"/>
                      </a:lnTo>
                      <a:lnTo>
                        <a:pt x="643" y="94"/>
                      </a:lnTo>
                      <a:lnTo>
                        <a:pt x="654" y="108"/>
                      </a:lnTo>
                      <a:lnTo>
                        <a:pt x="636" y="109"/>
                      </a:lnTo>
                      <a:lnTo>
                        <a:pt x="621" y="127"/>
                      </a:lnTo>
                      <a:lnTo>
                        <a:pt x="606" y="150"/>
                      </a:lnTo>
                      <a:lnTo>
                        <a:pt x="628" y="169"/>
                      </a:lnTo>
                      <a:lnTo>
                        <a:pt x="646" y="192"/>
                      </a:lnTo>
                      <a:lnTo>
                        <a:pt x="681" y="195"/>
                      </a:lnTo>
                      <a:lnTo>
                        <a:pt x="711" y="192"/>
                      </a:lnTo>
                      <a:lnTo>
                        <a:pt x="724" y="204"/>
                      </a:lnTo>
                      <a:lnTo>
                        <a:pt x="718" y="210"/>
                      </a:lnTo>
                      <a:lnTo>
                        <a:pt x="709" y="222"/>
                      </a:lnTo>
                      <a:lnTo>
                        <a:pt x="723" y="243"/>
                      </a:lnTo>
                      <a:lnTo>
                        <a:pt x="727" y="258"/>
                      </a:lnTo>
                      <a:lnTo>
                        <a:pt x="744" y="265"/>
                      </a:lnTo>
                      <a:lnTo>
                        <a:pt x="766" y="252"/>
                      </a:lnTo>
                      <a:lnTo>
                        <a:pt x="760" y="232"/>
                      </a:lnTo>
                      <a:lnTo>
                        <a:pt x="741" y="216"/>
                      </a:lnTo>
                      <a:lnTo>
                        <a:pt x="763" y="196"/>
                      </a:lnTo>
                      <a:lnTo>
                        <a:pt x="744" y="163"/>
                      </a:lnTo>
                      <a:lnTo>
                        <a:pt x="726" y="150"/>
                      </a:lnTo>
                      <a:lnTo>
                        <a:pt x="741" y="138"/>
                      </a:lnTo>
                      <a:lnTo>
                        <a:pt x="738" y="120"/>
                      </a:lnTo>
                      <a:lnTo>
                        <a:pt x="748" y="109"/>
                      </a:lnTo>
                      <a:lnTo>
                        <a:pt x="766" y="120"/>
                      </a:lnTo>
                      <a:lnTo>
                        <a:pt x="808" y="159"/>
                      </a:lnTo>
                      <a:lnTo>
                        <a:pt x="834" y="165"/>
                      </a:lnTo>
                      <a:lnTo>
                        <a:pt x="841" y="154"/>
                      </a:lnTo>
                      <a:lnTo>
                        <a:pt x="835" y="133"/>
                      </a:lnTo>
                      <a:lnTo>
                        <a:pt x="850" y="136"/>
                      </a:lnTo>
                      <a:lnTo>
                        <a:pt x="876" y="160"/>
                      </a:lnTo>
                      <a:lnTo>
                        <a:pt x="880" y="174"/>
                      </a:lnTo>
                      <a:lnTo>
                        <a:pt x="895" y="183"/>
                      </a:lnTo>
                      <a:lnTo>
                        <a:pt x="925" y="193"/>
                      </a:lnTo>
                      <a:lnTo>
                        <a:pt x="940" y="213"/>
                      </a:lnTo>
                      <a:lnTo>
                        <a:pt x="963" y="226"/>
                      </a:lnTo>
                      <a:lnTo>
                        <a:pt x="975" y="231"/>
                      </a:lnTo>
                      <a:lnTo>
                        <a:pt x="976" y="243"/>
                      </a:lnTo>
                      <a:lnTo>
                        <a:pt x="958" y="250"/>
                      </a:lnTo>
                      <a:lnTo>
                        <a:pt x="948" y="241"/>
                      </a:lnTo>
                      <a:lnTo>
                        <a:pt x="939" y="243"/>
                      </a:lnTo>
                      <a:lnTo>
                        <a:pt x="936" y="262"/>
                      </a:lnTo>
                      <a:lnTo>
                        <a:pt x="921" y="267"/>
                      </a:lnTo>
                      <a:lnTo>
                        <a:pt x="904" y="256"/>
                      </a:lnTo>
                      <a:lnTo>
                        <a:pt x="870" y="256"/>
                      </a:lnTo>
                      <a:lnTo>
                        <a:pt x="865" y="279"/>
                      </a:lnTo>
                      <a:lnTo>
                        <a:pt x="874" y="292"/>
                      </a:lnTo>
                      <a:lnTo>
                        <a:pt x="888" y="285"/>
                      </a:lnTo>
                      <a:lnTo>
                        <a:pt x="901" y="282"/>
                      </a:lnTo>
                      <a:lnTo>
                        <a:pt x="915" y="289"/>
                      </a:lnTo>
                      <a:lnTo>
                        <a:pt x="897" y="306"/>
                      </a:lnTo>
                      <a:lnTo>
                        <a:pt x="915" y="321"/>
                      </a:lnTo>
                      <a:lnTo>
                        <a:pt x="939" y="325"/>
                      </a:lnTo>
                      <a:lnTo>
                        <a:pt x="936" y="334"/>
                      </a:lnTo>
                      <a:lnTo>
                        <a:pt x="927" y="336"/>
                      </a:lnTo>
                      <a:lnTo>
                        <a:pt x="904" y="387"/>
                      </a:lnTo>
                      <a:lnTo>
                        <a:pt x="906" y="354"/>
                      </a:lnTo>
                      <a:lnTo>
                        <a:pt x="916" y="337"/>
                      </a:lnTo>
                      <a:lnTo>
                        <a:pt x="904" y="330"/>
                      </a:lnTo>
                      <a:lnTo>
                        <a:pt x="891" y="340"/>
                      </a:lnTo>
                      <a:lnTo>
                        <a:pt x="898" y="349"/>
                      </a:lnTo>
                      <a:lnTo>
                        <a:pt x="888" y="355"/>
                      </a:lnTo>
                      <a:lnTo>
                        <a:pt x="877" y="363"/>
                      </a:lnTo>
                      <a:lnTo>
                        <a:pt x="879" y="385"/>
                      </a:lnTo>
                      <a:lnTo>
                        <a:pt x="864" y="394"/>
                      </a:lnTo>
                      <a:lnTo>
                        <a:pt x="843" y="397"/>
                      </a:lnTo>
                      <a:lnTo>
                        <a:pt x="850" y="409"/>
                      </a:lnTo>
                      <a:lnTo>
                        <a:pt x="843" y="423"/>
                      </a:lnTo>
                      <a:lnTo>
                        <a:pt x="850" y="433"/>
                      </a:lnTo>
                      <a:lnTo>
                        <a:pt x="838" y="456"/>
                      </a:lnTo>
                      <a:lnTo>
                        <a:pt x="834" y="477"/>
                      </a:lnTo>
                      <a:lnTo>
                        <a:pt x="816" y="489"/>
                      </a:lnTo>
                      <a:lnTo>
                        <a:pt x="793" y="522"/>
                      </a:lnTo>
                      <a:lnTo>
                        <a:pt x="790" y="544"/>
                      </a:lnTo>
                      <a:lnTo>
                        <a:pt x="798" y="562"/>
                      </a:lnTo>
                      <a:lnTo>
                        <a:pt x="808" y="584"/>
                      </a:lnTo>
                      <a:lnTo>
                        <a:pt x="814" y="608"/>
                      </a:lnTo>
                      <a:lnTo>
                        <a:pt x="804" y="619"/>
                      </a:lnTo>
                      <a:lnTo>
                        <a:pt x="790" y="611"/>
                      </a:lnTo>
                      <a:lnTo>
                        <a:pt x="793" y="599"/>
                      </a:lnTo>
                      <a:lnTo>
                        <a:pt x="786" y="573"/>
                      </a:lnTo>
                      <a:lnTo>
                        <a:pt x="777" y="568"/>
                      </a:lnTo>
                      <a:lnTo>
                        <a:pt x="771" y="552"/>
                      </a:lnTo>
                      <a:lnTo>
                        <a:pt x="759" y="552"/>
                      </a:lnTo>
                      <a:lnTo>
                        <a:pt x="745" y="543"/>
                      </a:lnTo>
                      <a:lnTo>
                        <a:pt x="730" y="546"/>
                      </a:lnTo>
                      <a:lnTo>
                        <a:pt x="717" y="540"/>
                      </a:lnTo>
                      <a:lnTo>
                        <a:pt x="700" y="547"/>
                      </a:lnTo>
                      <a:lnTo>
                        <a:pt x="670" y="541"/>
                      </a:lnTo>
                      <a:lnTo>
                        <a:pt x="690" y="561"/>
                      </a:lnTo>
                      <a:lnTo>
                        <a:pt x="664" y="559"/>
                      </a:lnTo>
                      <a:lnTo>
                        <a:pt x="646" y="544"/>
                      </a:lnTo>
                      <a:lnTo>
                        <a:pt x="616" y="544"/>
                      </a:lnTo>
                      <a:lnTo>
                        <a:pt x="621" y="568"/>
                      </a:lnTo>
                      <a:lnTo>
                        <a:pt x="598" y="561"/>
                      </a:lnTo>
                      <a:lnTo>
                        <a:pt x="586" y="584"/>
                      </a:lnTo>
                      <a:lnTo>
                        <a:pt x="595" y="595"/>
                      </a:lnTo>
                      <a:lnTo>
                        <a:pt x="586" y="623"/>
                      </a:lnTo>
                      <a:lnTo>
                        <a:pt x="597" y="656"/>
                      </a:lnTo>
                      <a:lnTo>
                        <a:pt x="609" y="679"/>
                      </a:lnTo>
                      <a:lnTo>
                        <a:pt x="622" y="700"/>
                      </a:lnTo>
                      <a:lnTo>
                        <a:pt x="664" y="698"/>
                      </a:lnTo>
                      <a:lnTo>
                        <a:pt x="682" y="694"/>
                      </a:lnTo>
                      <a:lnTo>
                        <a:pt x="685" y="679"/>
                      </a:lnTo>
                      <a:lnTo>
                        <a:pt x="676" y="667"/>
                      </a:lnTo>
                      <a:lnTo>
                        <a:pt x="678" y="656"/>
                      </a:lnTo>
                      <a:lnTo>
                        <a:pt x="703" y="659"/>
                      </a:lnTo>
                      <a:lnTo>
                        <a:pt x="729" y="653"/>
                      </a:lnTo>
                      <a:lnTo>
                        <a:pt x="729" y="667"/>
                      </a:lnTo>
                      <a:lnTo>
                        <a:pt x="721" y="686"/>
                      </a:lnTo>
                      <a:lnTo>
                        <a:pt x="709" y="701"/>
                      </a:lnTo>
                      <a:lnTo>
                        <a:pt x="706" y="722"/>
                      </a:lnTo>
                      <a:lnTo>
                        <a:pt x="723" y="731"/>
                      </a:lnTo>
                      <a:lnTo>
                        <a:pt x="745" y="728"/>
                      </a:lnTo>
                      <a:lnTo>
                        <a:pt x="759" y="736"/>
                      </a:lnTo>
                      <a:lnTo>
                        <a:pt x="771" y="733"/>
                      </a:lnTo>
                      <a:lnTo>
                        <a:pt x="775" y="746"/>
                      </a:lnTo>
                      <a:lnTo>
                        <a:pt x="765" y="767"/>
                      </a:lnTo>
                      <a:lnTo>
                        <a:pt x="774" y="779"/>
                      </a:lnTo>
                      <a:lnTo>
                        <a:pt x="775" y="803"/>
                      </a:lnTo>
                      <a:lnTo>
                        <a:pt x="790" y="820"/>
                      </a:lnTo>
                      <a:lnTo>
                        <a:pt x="810" y="824"/>
                      </a:lnTo>
                      <a:lnTo>
                        <a:pt x="823" y="820"/>
                      </a:lnTo>
                      <a:lnTo>
                        <a:pt x="829" y="821"/>
                      </a:lnTo>
                      <a:lnTo>
                        <a:pt x="855" y="821"/>
                      </a:lnTo>
                      <a:lnTo>
                        <a:pt x="877" y="823"/>
                      </a:lnTo>
                      <a:lnTo>
                        <a:pt x="883" y="812"/>
                      </a:lnTo>
                      <a:lnTo>
                        <a:pt x="864" y="830"/>
                      </a:lnTo>
                      <a:lnTo>
                        <a:pt x="850" y="829"/>
                      </a:lnTo>
                      <a:lnTo>
                        <a:pt x="837" y="830"/>
                      </a:lnTo>
                      <a:lnTo>
                        <a:pt x="810" y="839"/>
                      </a:lnTo>
                      <a:lnTo>
                        <a:pt x="787" y="827"/>
                      </a:lnTo>
                      <a:lnTo>
                        <a:pt x="766" y="820"/>
                      </a:lnTo>
                      <a:lnTo>
                        <a:pt x="757" y="821"/>
                      </a:lnTo>
                      <a:lnTo>
                        <a:pt x="759" y="811"/>
                      </a:lnTo>
                      <a:lnTo>
                        <a:pt x="757" y="794"/>
                      </a:lnTo>
                      <a:lnTo>
                        <a:pt x="739" y="779"/>
                      </a:lnTo>
                      <a:lnTo>
                        <a:pt x="702" y="770"/>
                      </a:lnTo>
                      <a:lnTo>
                        <a:pt x="696" y="763"/>
                      </a:lnTo>
                      <a:lnTo>
                        <a:pt x="685" y="764"/>
                      </a:lnTo>
                      <a:lnTo>
                        <a:pt x="675" y="757"/>
                      </a:lnTo>
                      <a:lnTo>
                        <a:pt x="658" y="749"/>
                      </a:lnTo>
                      <a:lnTo>
                        <a:pt x="640" y="728"/>
                      </a:lnTo>
                      <a:lnTo>
                        <a:pt x="619" y="722"/>
                      </a:lnTo>
                      <a:lnTo>
                        <a:pt x="607" y="736"/>
                      </a:lnTo>
                      <a:lnTo>
                        <a:pt x="594" y="725"/>
                      </a:lnTo>
                      <a:lnTo>
                        <a:pt x="577" y="725"/>
                      </a:lnTo>
                      <a:lnTo>
                        <a:pt x="544" y="718"/>
                      </a:lnTo>
                      <a:lnTo>
                        <a:pt x="484" y="682"/>
                      </a:lnTo>
                      <a:lnTo>
                        <a:pt x="480" y="644"/>
                      </a:lnTo>
                      <a:lnTo>
                        <a:pt x="474" y="629"/>
                      </a:lnTo>
                      <a:lnTo>
                        <a:pt x="463" y="619"/>
                      </a:lnTo>
                      <a:lnTo>
                        <a:pt x="450" y="598"/>
                      </a:lnTo>
                      <a:lnTo>
                        <a:pt x="387" y="526"/>
                      </a:lnTo>
                      <a:lnTo>
                        <a:pt x="387" y="553"/>
                      </a:lnTo>
                      <a:lnTo>
                        <a:pt x="426" y="601"/>
                      </a:lnTo>
                      <a:lnTo>
                        <a:pt x="442" y="641"/>
                      </a:lnTo>
                      <a:lnTo>
                        <a:pt x="418" y="632"/>
                      </a:lnTo>
                      <a:lnTo>
                        <a:pt x="414" y="608"/>
                      </a:lnTo>
                      <a:lnTo>
                        <a:pt x="382" y="593"/>
                      </a:lnTo>
                      <a:lnTo>
                        <a:pt x="400" y="584"/>
                      </a:lnTo>
                      <a:lnTo>
                        <a:pt x="358" y="559"/>
                      </a:lnTo>
                      <a:lnTo>
                        <a:pt x="375" y="544"/>
                      </a:lnTo>
                      <a:lnTo>
                        <a:pt x="360" y="514"/>
                      </a:lnTo>
                      <a:lnTo>
                        <a:pt x="309" y="451"/>
                      </a:lnTo>
                      <a:lnTo>
                        <a:pt x="303" y="415"/>
                      </a:lnTo>
                      <a:lnTo>
                        <a:pt x="306" y="385"/>
                      </a:lnTo>
                      <a:lnTo>
                        <a:pt x="319" y="355"/>
                      </a:lnTo>
                      <a:lnTo>
                        <a:pt x="319" y="325"/>
                      </a:lnTo>
                      <a:lnTo>
                        <a:pt x="309" y="307"/>
                      </a:lnTo>
                      <a:lnTo>
                        <a:pt x="337" y="301"/>
                      </a:lnTo>
                      <a:lnTo>
                        <a:pt x="303" y="265"/>
                      </a:lnTo>
                      <a:lnTo>
                        <a:pt x="304" y="249"/>
                      </a:lnTo>
                      <a:lnTo>
                        <a:pt x="289" y="226"/>
                      </a:lnTo>
                      <a:lnTo>
                        <a:pt x="295" y="213"/>
                      </a:lnTo>
                      <a:lnTo>
                        <a:pt x="285" y="205"/>
                      </a:lnTo>
                      <a:lnTo>
                        <a:pt x="283" y="190"/>
                      </a:lnTo>
                      <a:lnTo>
                        <a:pt x="273" y="178"/>
                      </a:lnTo>
                      <a:lnTo>
                        <a:pt x="285" y="168"/>
                      </a:lnTo>
                      <a:lnTo>
                        <a:pt x="268" y="160"/>
                      </a:lnTo>
                      <a:lnTo>
                        <a:pt x="255" y="171"/>
                      </a:lnTo>
                      <a:lnTo>
                        <a:pt x="235" y="150"/>
                      </a:lnTo>
                      <a:lnTo>
                        <a:pt x="214" y="144"/>
                      </a:lnTo>
                      <a:lnTo>
                        <a:pt x="184" y="144"/>
                      </a:lnTo>
                      <a:lnTo>
                        <a:pt x="165" y="163"/>
                      </a:lnTo>
                      <a:lnTo>
                        <a:pt x="156" y="157"/>
                      </a:lnTo>
                      <a:lnTo>
                        <a:pt x="172" y="132"/>
                      </a:lnTo>
                      <a:lnTo>
                        <a:pt x="157" y="136"/>
                      </a:lnTo>
                      <a:lnTo>
                        <a:pt x="127" y="163"/>
                      </a:lnTo>
                      <a:lnTo>
                        <a:pt x="96" y="187"/>
                      </a:lnTo>
                      <a:lnTo>
                        <a:pt x="67" y="193"/>
                      </a:lnTo>
                      <a:lnTo>
                        <a:pt x="19" y="217"/>
                      </a:lnTo>
                      <a:lnTo>
                        <a:pt x="0" y="216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303640" y="1744560"/>
                  <a:ext cx="527040" cy="352440"/>
                </a:xfrm>
                <a:custGeom>
                  <a:avLst/>
                  <a:gdLst/>
                  <a:ahLst/>
                  <a:rect l="l" t="t" r="r" b="b"/>
                  <a:pathLst>
                    <a:path w="332" h="222">
                      <a:moveTo>
                        <a:pt x="0" y="45"/>
                      </a:moveTo>
                      <a:lnTo>
                        <a:pt x="7" y="29"/>
                      </a:lnTo>
                      <a:lnTo>
                        <a:pt x="7" y="17"/>
                      </a:lnTo>
                      <a:lnTo>
                        <a:pt x="19" y="0"/>
                      </a:lnTo>
                      <a:lnTo>
                        <a:pt x="79" y="11"/>
                      </a:lnTo>
                      <a:lnTo>
                        <a:pt x="183" y="30"/>
                      </a:lnTo>
                      <a:lnTo>
                        <a:pt x="223" y="47"/>
                      </a:lnTo>
                      <a:lnTo>
                        <a:pt x="277" y="62"/>
                      </a:lnTo>
                      <a:lnTo>
                        <a:pt x="304" y="90"/>
                      </a:lnTo>
                      <a:lnTo>
                        <a:pt x="331" y="105"/>
                      </a:lnTo>
                      <a:lnTo>
                        <a:pt x="321" y="116"/>
                      </a:lnTo>
                      <a:lnTo>
                        <a:pt x="321" y="129"/>
                      </a:lnTo>
                      <a:lnTo>
                        <a:pt x="310" y="132"/>
                      </a:lnTo>
                      <a:lnTo>
                        <a:pt x="301" y="144"/>
                      </a:lnTo>
                      <a:lnTo>
                        <a:pt x="310" y="156"/>
                      </a:lnTo>
                      <a:lnTo>
                        <a:pt x="309" y="165"/>
                      </a:lnTo>
                      <a:lnTo>
                        <a:pt x="298" y="177"/>
                      </a:lnTo>
                      <a:lnTo>
                        <a:pt x="300" y="189"/>
                      </a:lnTo>
                      <a:lnTo>
                        <a:pt x="318" y="201"/>
                      </a:lnTo>
                      <a:lnTo>
                        <a:pt x="319" y="213"/>
                      </a:lnTo>
                      <a:lnTo>
                        <a:pt x="315" y="219"/>
                      </a:lnTo>
                      <a:lnTo>
                        <a:pt x="297" y="221"/>
                      </a:lnTo>
                      <a:lnTo>
                        <a:pt x="283" y="215"/>
                      </a:lnTo>
                      <a:lnTo>
                        <a:pt x="268" y="200"/>
                      </a:lnTo>
                      <a:lnTo>
                        <a:pt x="262" y="200"/>
                      </a:lnTo>
                      <a:lnTo>
                        <a:pt x="255" y="194"/>
                      </a:lnTo>
                      <a:lnTo>
                        <a:pt x="247" y="176"/>
                      </a:lnTo>
                      <a:lnTo>
                        <a:pt x="238" y="170"/>
                      </a:lnTo>
                      <a:lnTo>
                        <a:pt x="219" y="161"/>
                      </a:lnTo>
                      <a:lnTo>
                        <a:pt x="202" y="155"/>
                      </a:lnTo>
                      <a:lnTo>
                        <a:pt x="178" y="138"/>
                      </a:lnTo>
                      <a:lnTo>
                        <a:pt x="168" y="126"/>
                      </a:lnTo>
                      <a:lnTo>
                        <a:pt x="169" y="117"/>
                      </a:lnTo>
                      <a:lnTo>
                        <a:pt x="180" y="110"/>
                      </a:lnTo>
                      <a:lnTo>
                        <a:pt x="171" y="99"/>
                      </a:lnTo>
                      <a:lnTo>
                        <a:pt x="162" y="105"/>
                      </a:lnTo>
                      <a:lnTo>
                        <a:pt x="147" y="90"/>
                      </a:lnTo>
                      <a:lnTo>
                        <a:pt x="144" y="98"/>
                      </a:lnTo>
                      <a:lnTo>
                        <a:pt x="130" y="98"/>
                      </a:lnTo>
                      <a:lnTo>
                        <a:pt x="127" y="92"/>
                      </a:lnTo>
                      <a:lnTo>
                        <a:pt x="127" y="81"/>
                      </a:lnTo>
                      <a:lnTo>
                        <a:pt x="121" y="75"/>
                      </a:lnTo>
                      <a:lnTo>
                        <a:pt x="112" y="77"/>
                      </a:lnTo>
                      <a:lnTo>
                        <a:pt x="100" y="60"/>
                      </a:lnTo>
                      <a:lnTo>
                        <a:pt x="91" y="59"/>
                      </a:lnTo>
                      <a:lnTo>
                        <a:pt x="78" y="51"/>
                      </a:lnTo>
                      <a:lnTo>
                        <a:pt x="49" y="53"/>
                      </a:lnTo>
                      <a:lnTo>
                        <a:pt x="21" y="51"/>
                      </a:lnTo>
                      <a:lnTo>
                        <a:pt x="0" y="45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190600" y="1868400"/>
                  <a:ext cx="344520" cy="182520"/>
                </a:xfrm>
                <a:custGeom>
                  <a:avLst/>
                  <a:gdLst/>
                  <a:ahLst/>
                  <a:rect l="l" t="t" r="r" b="b"/>
                  <a:pathLst>
                    <a:path w="217" h="115">
                      <a:moveTo>
                        <a:pt x="8" y="0"/>
                      </a:moveTo>
                      <a:lnTo>
                        <a:pt x="0" y="9"/>
                      </a:lnTo>
                      <a:lnTo>
                        <a:pt x="0" y="20"/>
                      </a:lnTo>
                      <a:lnTo>
                        <a:pt x="15" y="32"/>
                      </a:lnTo>
                      <a:lnTo>
                        <a:pt x="24" y="29"/>
                      </a:lnTo>
                      <a:lnTo>
                        <a:pt x="27" y="33"/>
                      </a:lnTo>
                      <a:lnTo>
                        <a:pt x="39" y="35"/>
                      </a:lnTo>
                      <a:lnTo>
                        <a:pt x="45" y="27"/>
                      </a:lnTo>
                      <a:lnTo>
                        <a:pt x="66" y="29"/>
                      </a:lnTo>
                      <a:lnTo>
                        <a:pt x="69" y="36"/>
                      </a:lnTo>
                      <a:lnTo>
                        <a:pt x="77" y="39"/>
                      </a:lnTo>
                      <a:lnTo>
                        <a:pt x="95" y="38"/>
                      </a:lnTo>
                      <a:lnTo>
                        <a:pt x="101" y="42"/>
                      </a:lnTo>
                      <a:lnTo>
                        <a:pt x="110" y="47"/>
                      </a:lnTo>
                      <a:lnTo>
                        <a:pt x="117" y="56"/>
                      </a:lnTo>
                      <a:lnTo>
                        <a:pt x="117" y="68"/>
                      </a:lnTo>
                      <a:lnTo>
                        <a:pt x="111" y="71"/>
                      </a:lnTo>
                      <a:lnTo>
                        <a:pt x="114" y="75"/>
                      </a:lnTo>
                      <a:lnTo>
                        <a:pt x="105" y="83"/>
                      </a:lnTo>
                      <a:lnTo>
                        <a:pt x="105" y="93"/>
                      </a:lnTo>
                      <a:lnTo>
                        <a:pt x="119" y="95"/>
                      </a:lnTo>
                      <a:lnTo>
                        <a:pt x="126" y="92"/>
                      </a:lnTo>
                      <a:lnTo>
                        <a:pt x="129" y="87"/>
                      </a:lnTo>
                      <a:lnTo>
                        <a:pt x="134" y="92"/>
                      </a:lnTo>
                      <a:lnTo>
                        <a:pt x="141" y="89"/>
                      </a:lnTo>
                      <a:lnTo>
                        <a:pt x="158" y="95"/>
                      </a:lnTo>
                      <a:lnTo>
                        <a:pt x="168" y="105"/>
                      </a:lnTo>
                      <a:lnTo>
                        <a:pt x="171" y="105"/>
                      </a:lnTo>
                      <a:lnTo>
                        <a:pt x="173" y="111"/>
                      </a:lnTo>
                      <a:lnTo>
                        <a:pt x="183" y="114"/>
                      </a:lnTo>
                      <a:lnTo>
                        <a:pt x="195" y="114"/>
                      </a:lnTo>
                      <a:lnTo>
                        <a:pt x="188" y="108"/>
                      </a:lnTo>
                      <a:lnTo>
                        <a:pt x="191" y="102"/>
                      </a:lnTo>
                      <a:lnTo>
                        <a:pt x="200" y="108"/>
                      </a:lnTo>
                      <a:lnTo>
                        <a:pt x="210" y="110"/>
                      </a:lnTo>
                      <a:lnTo>
                        <a:pt x="212" y="101"/>
                      </a:lnTo>
                      <a:lnTo>
                        <a:pt x="201" y="93"/>
                      </a:lnTo>
                      <a:lnTo>
                        <a:pt x="194" y="93"/>
                      </a:lnTo>
                      <a:lnTo>
                        <a:pt x="183" y="86"/>
                      </a:lnTo>
                      <a:lnTo>
                        <a:pt x="194" y="86"/>
                      </a:lnTo>
                      <a:lnTo>
                        <a:pt x="201" y="90"/>
                      </a:lnTo>
                      <a:lnTo>
                        <a:pt x="216" y="90"/>
                      </a:lnTo>
                      <a:lnTo>
                        <a:pt x="213" y="81"/>
                      </a:lnTo>
                      <a:lnTo>
                        <a:pt x="200" y="72"/>
                      </a:lnTo>
                      <a:lnTo>
                        <a:pt x="191" y="71"/>
                      </a:lnTo>
                      <a:lnTo>
                        <a:pt x="177" y="60"/>
                      </a:lnTo>
                      <a:lnTo>
                        <a:pt x="161" y="57"/>
                      </a:lnTo>
                      <a:lnTo>
                        <a:pt x="147" y="53"/>
                      </a:lnTo>
                      <a:lnTo>
                        <a:pt x="137" y="39"/>
                      </a:lnTo>
                      <a:lnTo>
                        <a:pt x="129" y="21"/>
                      </a:lnTo>
                      <a:lnTo>
                        <a:pt x="119" y="21"/>
                      </a:lnTo>
                      <a:lnTo>
                        <a:pt x="116" y="17"/>
                      </a:lnTo>
                      <a:lnTo>
                        <a:pt x="110" y="18"/>
                      </a:lnTo>
                      <a:lnTo>
                        <a:pt x="99" y="11"/>
                      </a:lnTo>
                      <a:lnTo>
                        <a:pt x="81" y="8"/>
                      </a:lnTo>
                      <a:lnTo>
                        <a:pt x="74" y="12"/>
                      </a:lnTo>
                      <a:lnTo>
                        <a:pt x="57" y="8"/>
                      </a:lnTo>
                      <a:lnTo>
                        <a:pt x="47" y="8"/>
                      </a:lnTo>
                      <a:lnTo>
                        <a:pt x="42" y="2"/>
                      </a:lnTo>
                      <a:lnTo>
                        <a:pt x="36" y="0"/>
                      </a:lnTo>
                      <a:lnTo>
                        <a:pt x="27" y="2"/>
                      </a:lnTo>
                      <a:lnTo>
                        <a:pt x="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386080" y="2873520"/>
                  <a:ext cx="243000" cy="82440"/>
                </a:xfrm>
                <a:custGeom>
                  <a:avLst/>
                  <a:gdLst/>
                  <a:ahLst/>
                  <a:rect l="l" t="t" r="r" b="b"/>
                  <a:pathLst>
                    <a:path w="153" h="52">
                      <a:moveTo>
                        <a:pt x="0" y="25"/>
                      </a:moveTo>
                      <a:lnTo>
                        <a:pt x="14" y="10"/>
                      </a:lnTo>
                      <a:lnTo>
                        <a:pt x="20" y="10"/>
                      </a:lnTo>
                      <a:lnTo>
                        <a:pt x="30" y="3"/>
                      </a:lnTo>
                      <a:lnTo>
                        <a:pt x="42" y="3"/>
                      </a:lnTo>
                      <a:lnTo>
                        <a:pt x="45" y="1"/>
                      </a:lnTo>
                      <a:lnTo>
                        <a:pt x="50" y="0"/>
                      </a:lnTo>
                      <a:lnTo>
                        <a:pt x="65" y="9"/>
                      </a:lnTo>
                      <a:lnTo>
                        <a:pt x="69" y="15"/>
                      </a:lnTo>
                      <a:lnTo>
                        <a:pt x="72" y="12"/>
                      </a:lnTo>
                      <a:lnTo>
                        <a:pt x="84" y="18"/>
                      </a:lnTo>
                      <a:lnTo>
                        <a:pt x="92" y="18"/>
                      </a:lnTo>
                      <a:lnTo>
                        <a:pt x="98" y="22"/>
                      </a:lnTo>
                      <a:lnTo>
                        <a:pt x="108" y="25"/>
                      </a:lnTo>
                      <a:lnTo>
                        <a:pt x="108" y="33"/>
                      </a:lnTo>
                      <a:lnTo>
                        <a:pt x="128" y="33"/>
                      </a:lnTo>
                      <a:lnTo>
                        <a:pt x="132" y="40"/>
                      </a:lnTo>
                      <a:lnTo>
                        <a:pt x="144" y="40"/>
                      </a:lnTo>
                      <a:lnTo>
                        <a:pt x="152" y="49"/>
                      </a:lnTo>
                      <a:lnTo>
                        <a:pt x="147" y="51"/>
                      </a:lnTo>
                      <a:lnTo>
                        <a:pt x="144" y="48"/>
                      </a:lnTo>
                      <a:lnTo>
                        <a:pt x="143" y="46"/>
                      </a:lnTo>
                      <a:lnTo>
                        <a:pt x="132" y="48"/>
                      </a:lnTo>
                      <a:lnTo>
                        <a:pt x="129" y="49"/>
                      </a:lnTo>
                      <a:lnTo>
                        <a:pt x="120" y="51"/>
                      </a:lnTo>
                      <a:lnTo>
                        <a:pt x="107" y="51"/>
                      </a:lnTo>
                      <a:lnTo>
                        <a:pt x="98" y="51"/>
                      </a:lnTo>
                      <a:lnTo>
                        <a:pt x="98" y="46"/>
                      </a:lnTo>
                      <a:lnTo>
                        <a:pt x="84" y="34"/>
                      </a:lnTo>
                      <a:lnTo>
                        <a:pt x="84" y="27"/>
                      </a:lnTo>
                      <a:lnTo>
                        <a:pt x="69" y="27"/>
                      </a:lnTo>
                      <a:lnTo>
                        <a:pt x="63" y="22"/>
                      </a:lnTo>
                      <a:lnTo>
                        <a:pt x="59" y="27"/>
                      </a:lnTo>
                      <a:lnTo>
                        <a:pt x="54" y="21"/>
                      </a:lnTo>
                      <a:lnTo>
                        <a:pt x="50" y="21"/>
                      </a:lnTo>
                      <a:lnTo>
                        <a:pt x="50" y="13"/>
                      </a:lnTo>
                      <a:lnTo>
                        <a:pt x="45" y="10"/>
                      </a:lnTo>
                      <a:lnTo>
                        <a:pt x="32" y="12"/>
                      </a:lnTo>
                      <a:lnTo>
                        <a:pt x="23" y="21"/>
                      </a:lnTo>
                      <a:lnTo>
                        <a:pt x="12" y="22"/>
                      </a:lnTo>
                      <a:lnTo>
                        <a:pt x="0" y="25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598840" y="2932200"/>
                  <a:ext cx="153720" cy="71280"/>
                </a:xfrm>
                <a:custGeom>
                  <a:avLst/>
                  <a:gdLst/>
                  <a:ahLst/>
                  <a:rect l="l" t="t" r="r" b="b"/>
                  <a:pathLst>
                    <a:path w="97" h="4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30" y="33"/>
                      </a:lnTo>
                      <a:lnTo>
                        <a:pt x="39" y="42"/>
                      </a:lnTo>
                      <a:lnTo>
                        <a:pt x="51" y="44"/>
                      </a:lnTo>
                      <a:lnTo>
                        <a:pt x="57" y="33"/>
                      </a:lnTo>
                      <a:lnTo>
                        <a:pt x="54" y="30"/>
                      </a:lnTo>
                      <a:lnTo>
                        <a:pt x="60" y="26"/>
                      </a:lnTo>
                      <a:lnTo>
                        <a:pt x="72" y="33"/>
                      </a:lnTo>
                      <a:lnTo>
                        <a:pt x="81" y="33"/>
                      </a:lnTo>
                      <a:lnTo>
                        <a:pt x="81" y="29"/>
                      </a:lnTo>
                      <a:lnTo>
                        <a:pt x="87" y="29"/>
                      </a:lnTo>
                      <a:lnTo>
                        <a:pt x="96" y="21"/>
                      </a:lnTo>
                      <a:lnTo>
                        <a:pt x="90" y="20"/>
                      </a:lnTo>
                      <a:lnTo>
                        <a:pt x="90" y="12"/>
                      </a:lnTo>
                      <a:lnTo>
                        <a:pt x="90" y="6"/>
                      </a:lnTo>
                      <a:lnTo>
                        <a:pt x="76" y="5"/>
                      </a:lnTo>
                      <a:lnTo>
                        <a:pt x="66" y="6"/>
                      </a:lnTo>
                      <a:lnTo>
                        <a:pt x="57" y="6"/>
                      </a:lnTo>
                      <a:lnTo>
                        <a:pt x="43" y="5"/>
                      </a:lnTo>
                      <a:lnTo>
                        <a:pt x="33" y="0"/>
                      </a:lnTo>
                      <a:lnTo>
                        <a:pt x="30" y="5"/>
                      </a:lnTo>
                      <a:lnTo>
                        <a:pt x="28" y="14"/>
                      </a:lnTo>
                      <a:lnTo>
                        <a:pt x="18" y="14"/>
                      </a:lnTo>
                      <a:lnTo>
                        <a:pt x="15" y="21"/>
                      </a:lnTo>
                      <a:lnTo>
                        <a:pt x="9" y="24"/>
                      </a:lnTo>
                      <a:lnTo>
                        <a:pt x="0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500200" y="3135240"/>
                  <a:ext cx="981360" cy="1455840"/>
                </a:xfrm>
                <a:custGeom>
                  <a:avLst/>
                  <a:gdLst/>
                  <a:ahLst/>
                  <a:rect l="l" t="t" r="r" b="b"/>
                  <a:pathLst>
                    <a:path w="618" h="917">
                      <a:moveTo>
                        <a:pt x="48" y="40"/>
                      </a:moveTo>
                      <a:lnTo>
                        <a:pt x="56" y="30"/>
                      </a:lnTo>
                      <a:lnTo>
                        <a:pt x="71" y="15"/>
                      </a:lnTo>
                      <a:lnTo>
                        <a:pt x="93" y="6"/>
                      </a:lnTo>
                      <a:lnTo>
                        <a:pt x="105" y="0"/>
                      </a:lnTo>
                      <a:lnTo>
                        <a:pt x="117" y="1"/>
                      </a:lnTo>
                      <a:lnTo>
                        <a:pt x="114" y="9"/>
                      </a:lnTo>
                      <a:lnTo>
                        <a:pt x="101" y="16"/>
                      </a:lnTo>
                      <a:lnTo>
                        <a:pt x="98" y="31"/>
                      </a:lnTo>
                      <a:lnTo>
                        <a:pt x="101" y="43"/>
                      </a:lnTo>
                      <a:lnTo>
                        <a:pt x="113" y="43"/>
                      </a:lnTo>
                      <a:lnTo>
                        <a:pt x="117" y="30"/>
                      </a:lnTo>
                      <a:lnTo>
                        <a:pt x="120" y="16"/>
                      </a:lnTo>
                      <a:lnTo>
                        <a:pt x="128" y="21"/>
                      </a:lnTo>
                      <a:lnTo>
                        <a:pt x="137" y="28"/>
                      </a:lnTo>
                      <a:lnTo>
                        <a:pt x="152" y="25"/>
                      </a:lnTo>
                      <a:lnTo>
                        <a:pt x="161" y="31"/>
                      </a:lnTo>
                      <a:lnTo>
                        <a:pt x="164" y="39"/>
                      </a:lnTo>
                      <a:lnTo>
                        <a:pt x="186" y="36"/>
                      </a:lnTo>
                      <a:lnTo>
                        <a:pt x="231" y="31"/>
                      </a:lnTo>
                      <a:lnTo>
                        <a:pt x="248" y="55"/>
                      </a:lnTo>
                      <a:lnTo>
                        <a:pt x="276" y="67"/>
                      </a:lnTo>
                      <a:lnTo>
                        <a:pt x="275" y="78"/>
                      </a:lnTo>
                      <a:lnTo>
                        <a:pt x="287" y="72"/>
                      </a:lnTo>
                      <a:lnTo>
                        <a:pt x="300" y="72"/>
                      </a:lnTo>
                      <a:lnTo>
                        <a:pt x="317" y="82"/>
                      </a:lnTo>
                      <a:lnTo>
                        <a:pt x="336" y="81"/>
                      </a:lnTo>
                      <a:lnTo>
                        <a:pt x="353" y="82"/>
                      </a:lnTo>
                      <a:lnTo>
                        <a:pt x="380" y="102"/>
                      </a:lnTo>
                      <a:lnTo>
                        <a:pt x="408" y="126"/>
                      </a:lnTo>
                      <a:lnTo>
                        <a:pt x="420" y="153"/>
                      </a:lnTo>
                      <a:lnTo>
                        <a:pt x="413" y="174"/>
                      </a:lnTo>
                      <a:lnTo>
                        <a:pt x="447" y="181"/>
                      </a:lnTo>
                      <a:lnTo>
                        <a:pt x="504" y="192"/>
                      </a:lnTo>
                      <a:lnTo>
                        <a:pt x="563" y="204"/>
                      </a:lnTo>
                      <a:lnTo>
                        <a:pt x="600" y="228"/>
                      </a:lnTo>
                      <a:lnTo>
                        <a:pt x="617" y="250"/>
                      </a:lnTo>
                      <a:lnTo>
                        <a:pt x="617" y="279"/>
                      </a:lnTo>
                      <a:lnTo>
                        <a:pt x="602" y="304"/>
                      </a:lnTo>
                      <a:lnTo>
                        <a:pt x="585" y="318"/>
                      </a:lnTo>
                      <a:lnTo>
                        <a:pt x="575" y="327"/>
                      </a:lnTo>
                      <a:lnTo>
                        <a:pt x="563" y="346"/>
                      </a:lnTo>
                      <a:lnTo>
                        <a:pt x="561" y="363"/>
                      </a:lnTo>
                      <a:lnTo>
                        <a:pt x="563" y="384"/>
                      </a:lnTo>
                      <a:lnTo>
                        <a:pt x="557" y="405"/>
                      </a:lnTo>
                      <a:lnTo>
                        <a:pt x="548" y="409"/>
                      </a:lnTo>
                      <a:lnTo>
                        <a:pt x="545" y="421"/>
                      </a:lnTo>
                      <a:lnTo>
                        <a:pt x="534" y="430"/>
                      </a:lnTo>
                      <a:lnTo>
                        <a:pt x="533" y="441"/>
                      </a:lnTo>
                      <a:lnTo>
                        <a:pt x="519" y="453"/>
                      </a:lnTo>
                      <a:lnTo>
                        <a:pt x="498" y="474"/>
                      </a:lnTo>
                      <a:lnTo>
                        <a:pt x="480" y="480"/>
                      </a:lnTo>
                      <a:lnTo>
                        <a:pt x="468" y="478"/>
                      </a:lnTo>
                      <a:lnTo>
                        <a:pt x="446" y="489"/>
                      </a:lnTo>
                      <a:lnTo>
                        <a:pt x="423" y="513"/>
                      </a:lnTo>
                      <a:lnTo>
                        <a:pt x="419" y="522"/>
                      </a:lnTo>
                      <a:lnTo>
                        <a:pt x="419" y="533"/>
                      </a:lnTo>
                      <a:lnTo>
                        <a:pt x="423" y="547"/>
                      </a:lnTo>
                      <a:lnTo>
                        <a:pt x="413" y="560"/>
                      </a:lnTo>
                      <a:lnTo>
                        <a:pt x="413" y="571"/>
                      </a:lnTo>
                      <a:lnTo>
                        <a:pt x="395" y="583"/>
                      </a:lnTo>
                      <a:lnTo>
                        <a:pt x="381" y="592"/>
                      </a:lnTo>
                      <a:lnTo>
                        <a:pt x="371" y="605"/>
                      </a:lnTo>
                      <a:lnTo>
                        <a:pt x="366" y="619"/>
                      </a:lnTo>
                      <a:lnTo>
                        <a:pt x="351" y="635"/>
                      </a:lnTo>
                      <a:lnTo>
                        <a:pt x="345" y="632"/>
                      </a:lnTo>
                      <a:lnTo>
                        <a:pt x="333" y="632"/>
                      </a:lnTo>
                      <a:lnTo>
                        <a:pt x="318" y="638"/>
                      </a:lnTo>
                      <a:lnTo>
                        <a:pt x="329" y="646"/>
                      </a:lnTo>
                      <a:lnTo>
                        <a:pt x="329" y="661"/>
                      </a:lnTo>
                      <a:lnTo>
                        <a:pt x="327" y="673"/>
                      </a:lnTo>
                      <a:lnTo>
                        <a:pt x="320" y="682"/>
                      </a:lnTo>
                      <a:lnTo>
                        <a:pt x="300" y="683"/>
                      </a:lnTo>
                      <a:lnTo>
                        <a:pt x="285" y="688"/>
                      </a:lnTo>
                      <a:lnTo>
                        <a:pt x="278" y="697"/>
                      </a:lnTo>
                      <a:lnTo>
                        <a:pt x="278" y="712"/>
                      </a:lnTo>
                      <a:lnTo>
                        <a:pt x="260" y="716"/>
                      </a:lnTo>
                      <a:lnTo>
                        <a:pt x="245" y="712"/>
                      </a:lnTo>
                      <a:lnTo>
                        <a:pt x="240" y="721"/>
                      </a:lnTo>
                      <a:lnTo>
                        <a:pt x="248" y="727"/>
                      </a:lnTo>
                      <a:lnTo>
                        <a:pt x="243" y="749"/>
                      </a:lnTo>
                      <a:lnTo>
                        <a:pt x="237" y="769"/>
                      </a:lnTo>
                      <a:lnTo>
                        <a:pt x="218" y="769"/>
                      </a:lnTo>
                      <a:lnTo>
                        <a:pt x="212" y="776"/>
                      </a:lnTo>
                      <a:lnTo>
                        <a:pt x="213" y="791"/>
                      </a:lnTo>
                      <a:lnTo>
                        <a:pt x="224" y="791"/>
                      </a:lnTo>
                      <a:lnTo>
                        <a:pt x="231" y="800"/>
                      </a:lnTo>
                      <a:lnTo>
                        <a:pt x="227" y="815"/>
                      </a:lnTo>
                      <a:lnTo>
                        <a:pt x="216" y="817"/>
                      </a:lnTo>
                      <a:lnTo>
                        <a:pt x="200" y="823"/>
                      </a:lnTo>
                      <a:lnTo>
                        <a:pt x="195" y="835"/>
                      </a:lnTo>
                      <a:lnTo>
                        <a:pt x="194" y="853"/>
                      </a:lnTo>
                      <a:lnTo>
                        <a:pt x="183" y="862"/>
                      </a:lnTo>
                      <a:lnTo>
                        <a:pt x="221" y="892"/>
                      </a:lnTo>
                      <a:lnTo>
                        <a:pt x="231" y="907"/>
                      </a:lnTo>
                      <a:lnTo>
                        <a:pt x="225" y="916"/>
                      </a:lnTo>
                      <a:lnTo>
                        <a:pt x="209" y="910"/>
                      </a:lnTo>
                      <a:lnTo>
                        <a:pt x="195" y="898"/>
                      </a:lnTo>
                      <a:lnTo>
                        <a:pt x="176" y="889"/>
                      </a:lnTo>
                      <a:lnTo>
                        <a:pt x="158" y="874"/>
                      </a:lnTo>
                      <a:lnTo>
                        <a:pt x="146" y="856"/>
                      </a:lnTo>
                      <a:lnTo>
                        <a:pt x="144" y="841"/>
                      </a:lnTo>
                      <a:lnTo>
                        <a:pt x="147" y="829"/>
                      </a:lnTo>
                      <a:lnTo>
                        <a:pt x="146" y="731"/>
                      </a:lnTo>
                      <a:lnTo>
                        <a:pt x="141" y="712"/>
                      </a:lnTo>
                      <a:lnTo>
                        <a:pt x="128" y="694"/>
                      </a:lnTo>
                      <a:lnTo>
                        <a:pt x="128" y="677"/>
                      </a:lnTo>
                      <a:lnTo>
                        <a:pt x="137" y="658"/>
                      </a:lnTo>
                      <a:lnTo>
                        <a:pt x="144" y="634"/>
                      </a:lnTo>
                      <a:lnTo>
                        <a:pt x="141" y="610"/>
                      </a:lnTo>
                      <a:lnTo>
                        <a:pt x="140" y="599"/>
                      </a:lnTo>
                      <a:lnTo>
                        <a:pt x="138" y="586"/>
                      </a:lnTo>
                      <a:lnTo>
                        <a:pt x="143" y="580"/>
                      </a:lnTo>
                      <a:lnTo>
                        <a:pt x="146" y="553"/>
                      </a:lnTo>
                      <a:lnTo>
                        <a:pt x="143" y="539"/>
                      </a:lnTo>
                      <a:lnTo>
                        <a:pt x="149" y="507"/>
                      </a:lnTo>
                      <a:lnTo>
                        <a:pt x="143" y="478"/>
                      </a:lnTo>
                      <a:lnTo>
                        <a:pt x="147" y="463"/>
                      </a:lnTo>
                      <a:lnTo>
                        <a:pt x="155" y="435"/>
                      </a:lnTo>
                      <a:lnTo>
                        <a:pt x="147" y="417"/>
                      </a:lnTo>
                      <a:lnTo>
                        <a:pt x="132" y="403"/>
                      </a:lnTo>
                      <a:lnTo>
                        <a:pt x="128" y="388"/>
                      </a:lnTo>
                      <a:lnTo>
                        <a:pt x="111" y="375"/>
                      </a:lnTo>
                      <a:lnTo>
                        <a:pt x="93" y="366"/>
                      </a:lnTo>
                      <a:lnTo>
                        <a:pt x="68" y="361"/>
                      </a:lnTo>
                      <a:lnTo>
                        <a:pt x="56" y="340"/>
                      </a:lnTo>
                      <a:lnTo>
                        <a:pt x="39" y="321"/>
                      </a:lnTo>
                      <a:lnTo>
                        <a:pt x="38" y="304"/>
                      </a:lnTo>
                      <a:lnTo>
                        <a:pt x="36" y="289"/>
                      </a:lnTo>
                      <a:lnTo>
                        <a:pt x="32" y="279"/>
                      </a:lnTo>
                      <a:lnTo>
                        <a:pt x="23" y="267"/>
                      </a:lnTo>
                      <a:lnTo>
                        <a:pt x="11" y="261"/>
                      </a:lnTo>
                      <a:lnTo>
                        <a:pt x="2" y="249"/>
                      </a:lnTo>
                      <a:lnTo>
                        <a:pt x="12" y="238"/>
                      </a:lnTo>
                      <a:lnTo>
                        <a:pt x="12" y="213"/>
                      </a:lnTo>
                      <a:lnTo>
                        <a:pt x="6" y="199"/>
                      </a:lnTo>
                      <a:lnTo>
                        <a:pt x="0" y="186"/>
                      </a:lnTo>
                      <a:lnTo>
                        <a:pt x="6" y="166"/>
                      </a:lnTo>
                      <a:lnTo>
                        <a:pt x="30" y="118"/>
                      </a:lnTo>
                      <a:lnTo>
                        <a:pt x="32" y="97"/>
                      </a:lnTo>
                      <a:lnTo>
                        <a:pt x="45" y="75"/>
                      </a:lnTo>
                      <a:lnTo>
                        <a:pt x="45" y="63"/>
                      </a:lnTo>
                      <a:lnTo>
                        <a:pt x="48" y="4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21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907920" y="804960"/>
            <a:ext cx="7162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产品系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300 Internet Access Server - 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傻瓜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320 Internet Access Server - 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傻瓜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540 Remote Access Serv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入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545 Remote Access Rout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入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320H Internet Access Serv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集线型傻瓜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320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3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mote Access Serv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集线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接入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7543800" y="5638680"/>
          <a:ext cx="128124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638680"/>
                    <a:ext cx="12812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1219320" y="609480"/>
            <a:ext cx="670536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S-2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广域接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DN 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J-4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MAX2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2002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1279440" y="1219320"/>
            <a:ext cx="632484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3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S-2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广域接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型电缆连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两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DN 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J-4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ca3002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2004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1219320" y="304920"/>
            <a:ext cx="69339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5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RS-232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广域接口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可连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部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ISDN 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RJ-45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及一个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BNC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可同时供远端用户以电话拨人，访问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域网内部任何一部电脑，如同在本地一样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2" name="MAX3" descr=""/>
          <p:cNvPicPr/>
          <p:nvPr/>
        </p:nvPicPr>
        <p:blipFill>
          <a:blip r:embed="rId1"/>
          <a:stretch/>
        </p:blipFill>
        <p:spPr>
          <a:xfrm>
            <a:off x="3809880" y="4994280"/>
            <a:ext cx="21337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690560" y="57960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320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-2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域接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连接两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E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SDN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J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ca300h&amp;545%2520pic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819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121932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2998800" cy="296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257800" y="3505320"/>
            <a:ext cx="3352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erne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3491640" y="554040"/>
            <a:ext cx="203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CA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系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AX2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1200240" cy="142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4191120"/>
            <a:ext cx="3733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191120"/>
            <a:ext cx="0" cy="838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191120"/>
            <a:ext cx="0" cy="761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20040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320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3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7652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域接口－可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SDN 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同时供远端用户以电话拨入，访问局域网内部任何一部电脑，如同在本地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914400" y="304920"/>
            <a:ext cx="7467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-2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域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SDN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J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N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太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同时供多机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同时供远端用户以电话拨入，访问局域网 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任何一部电脑，并可供用户通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访问局域网内对外公开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局域网间的路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MAX1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590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规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-to-LA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483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al-on-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andwidth-on-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ss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rtua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twork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纯中文版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1752480" cy="14209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1714680" cy="120024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3"/>
          <a:stretch/>
        </p:blipFill>
        <p:spPr>
          <a:xfrm>
            <a:off x="4876920" y="2438280"/>
            <a:ext cx="2209680" cy="94464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/>
          <p:cNvPicPr/>
          <p:nvPr/>
        </p:nvPicPr>
        <p:blipFill>
          <a:blip r:embed="rId4"/>
          <a:stretch/>
        </p:blipFill>
        <p:spPr>
          <a:xfrm>
            <a:off x="990720" y="44197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5"/>
          <a:stretch/>
        </p:blipFill>
        <p:spPr>
          <a:xfrm>
            <a:off x="2666880" y="44197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6"/>
          <a:stretch/>
        </p:blipFill>
        <p:spPr>
          <a:xfrm>
            <a:off x="4495680" y="44197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348" name="MAX2" descr=""/>
          <p:cNvPicPr/>
          <p:nvPr/>
        </p:nvPicPr>
        <p:blipFill>
          <a:blip r:embed="rId7"/>
          <a:stretch/>
        </p:blipFill>
        <p:spPr>
          <a:xfrm>
            <a:off x="3200400" y="2666880"/>
            <a:ext cx="942840" cy="1117800"/>
          </a:xfrm>
          <a:prstGeom prst="rect">
            <a:avLst/>
          </a:prstGeom>
          <a:ln w="0">
            <a:noFill/>
          </a:ln>
        </p:spPr>
      </p:pic>
      <p:sp>
        <p:nvSpPr>
          <p:cNvPr id="1349" name=""/>
          <p:cNvSpPr/>
          <p:nvPr/>
        </p:nvSpPr>
        <p:spPr>
          <a:xfrm>
            <a:off x="609480" y="4114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00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2767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05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6668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stCxn id="1348" idx="3"/>
            <a:endCxn id="1344" idx="1"/>
          </p:cNvCxnSpPr>
          <p:nvPr/>
        </p:nvCxnSpPr>
        <p:spPr>
          <a:xfrm flipV="1">
            <a:off x="4143240" y="2910960"/>
            <a:ext cx="734400" cy="3153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6" name=""/>
          <p:cNvSpPr/>
          <p:nvPr/>
        </p:nvSpPr>
        <p:spPr>
          <a:xfrm rot="15857400">
            <a:off x="7124400" y="2171520"/>
            <a:ext cx="838080" cy="106704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32800" y="16002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1880" y="571500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3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37800" y="57150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95 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9200" y="18288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958560" y="342900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Acces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97160" y="2819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7010280" y="533520"/>
            <a:ext cx="1543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914400" y="3048120"/>
            <a:ext cx="7238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纯中文设置与网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简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可在一分钟内完成快速设置，超强功能的管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软件，允许用户进行千变万化的联网解决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要一个帐号，让办公室所有的人都可以上网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cabanner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547560" y="453960"/>
            <a:ext cx="8001000" cy="55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远端存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你从家中或其他办公室，以电话拨入公司内部网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取你所需要的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办公室间联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不要另买路由器，就可以将各个办公室联网，并开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有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的服务器供外界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许安全的划分对外开放的公网与保密的内部网，并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放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转换成内部私有地址，防止外部人侵或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1563480" y="0"/>
            <a:ext cx="65314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限制用户应用权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有效限制用户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子邮件服务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将任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帐号供多人分享，并保留个人保密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，除可收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邮件，也可进行内部邮件收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8" name="MSP%2520pic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5812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155520" y="838080"/>
            <a:ext cx="921708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 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硬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80188 CPU 25 MHZ or 40MHZ/10Mbps Ethernet adap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UART serial port controller/256KB RAM and 256KB flash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连接端口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One LAN port RJ-45/One to Four WAN ports D-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广域网通迅协议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Asynchronous P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广域网传输速度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Up to 460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局域网标准和传输速度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Ethernet 802.3/10BaseT UPT 10Mbps 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支援前台的工作站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Windows9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、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Windows N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Windows3.X,------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支援的通讯协议及保密方式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TCP/IP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NA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DHCP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"/>
              </a:rPr>
              <a:t>PAP/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457200" y="762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85800" y="6094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6280" y="647640"/>
            <a:ext cx="85723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内建功能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ial-On-Demand,Idle Timer,DHCP Server,IP Addre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Mapping,Virtual Server Mapping,Routing,E-Mai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ddress Mapping,Remote Access,Acce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ontrol,Brid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服务器管理软件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Windows-Based configuration/Configuration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电子邮件服务器软件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Mail Server L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电源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C6.0-7.5V,500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产品认证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FCC Rules Part 15 Class B, CE M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保修年限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-year warran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4400" y="3733920"/>
            <a:ext cx="742464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Can my 2 offices using CA300 to dial up to internet so that the 2 offices can connect to each other using the fix IP Addresses given by ISPs and the others can also surf the internet and their workstations are also protected by firewa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Ans.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间如何互联？ 简单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MAXBEN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4771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1840" y="1046160"/>
            <a:ext cx="609588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国际互联网的时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际互联网已成为现在及未来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或缺的通信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人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已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万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万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用户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之前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百万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SKY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4243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28600" y="914400"/>
            <a:ext cx="5562720" cy="1066680"/>
          </a:xfrm>
          <a:prstGeom prst="cloudCallout">
            <a:avLst>
              <a:gd name="adj1" fmla="val -25171"/>
              <a:gd name="adj2" fmla="val 717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.168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19080" y="3049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Can I connect 2 branch offices’s TCP/IP networks through CA30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Ans,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62320" y="2076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10320" y="533520"/>
            <a:ext cx="274320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Routing 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IP:                  192.168.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NetMask:       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Gateway:       192.168.1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Interface:       WAN Port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IP:                  0.0.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NetMask:       0.0.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Gateway:       192.168.1.25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"/>
              </a:rPr>
              <a:t>Interface:       Local  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4480" y="2610000"/>
            <a:ext cx="10666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2057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92.168.1.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385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48120" y="2876400"/>
            <a:ext cx="137160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30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33840" y="2876400"/>
            <a:ext cx="2743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Server IP:192.168.1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 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External Port IP: 1.1.1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86600" y="302904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300001.co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09480" y="321948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3733920"/>
            <a:ext cx="2666880" cy="742680"/>
          </a:xfrm>
          <a:prstGeom prst="cloudCallout">
            <a:avLst>
              <a:gd name="adj1" fmla="val -35356"/>
              <a:gd name="adj2" fmla="val 66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576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647800" y="3581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85800" y="46101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440" y="5048280"/>
            <a:ext cx="11430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858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4920" y="5638680"/>
            <a:ext cx="4572000" cy="1086120"/>
          </a:xfrm>
          <a:prstGeom prst="cloudCallout">
            <a:avLst>
              <a:gd name="adj1" fmla="val -25833"/>
              <a:gd name="adj2" fmla="val -23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192.168.2.X Networ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-38160" y="5581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92.168.2.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48120" y="4000680"/>
            <a:ext cx="1447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300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5146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572000" y="3943440"/>
            <a:ext cx="2895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Server IP: 192.168.2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 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External Port IP:2.2.2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029360" y="3809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300002.co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5880" y="4686480"/>
            <a:ext cx="287676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P:                   192.168.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       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Gateway:        192.168.2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terface:         WAN Por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P:               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    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Gateway:         192.168.2.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terface:         Local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6576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304920"/>
            <a:ext cx="861048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I connect 2 branch offices’s TCP/IP networks through CA3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using ML-PP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2120" y="838080"/>
            <a:ext cx="487656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2.168.1.X.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19920" y="762120"/>
            <a:ext cx="380988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IP                     192.168.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work           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Gateway           192.168.1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Interface           WAN 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124080" y="20955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590920"/>
            <a:ext cx="17524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2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857840" y="2228760"/>
            <a:ext cx="3429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Server IP: 192.168.1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 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External Port IP: 1.1.1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ML-PPP is enab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124080" y="32004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38280" y="3733920"/>
            <a:ext cx="167652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2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200400" y="4324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371600" y="5029200"/>
            <a:ext cx="4114800" cy="1066680"/>
          </a:xfrm>
          <a:prstGeom prst="cloudCallout">
            <a:avLst>
              <a:gd name="adj1" fmla="val -45601"/>
              <a:gd name="adj2" fmla="val 1127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.168.2.X.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00600" y="3505320"/>
            <a:ext cx="3809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Server IP:192.168.2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External Port IP:2.2.2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ML-PPP is enab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15000" y="4876920"/>
            <a:ext cx="373392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IP:192.168.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Gateway:192.168.2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Interface:WAN   Port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5252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86080" y="441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0" y="34308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I connect 3 branch offices’s IP networks through CA32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86080" y="914400"/>
            <a:ext cx="45720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2.168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944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17188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781360" y="2590920"/>
            <a:ext cx="1752480" cy="5140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2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10160" y="2362320"/>
            <a:ext cx="4114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Server IP:192.168.1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External Port 1 IP:1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External Port 2 IP:1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743880" y="228600"/>
            <a:ext cx="3657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P:                  192.168.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NetMask:       255.255.25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Gateway:       192.168.1.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nterface:       WAN Port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P:                  192.168.3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NetMask:       255.255.25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Gateway:       192.168.1.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nterface        :WAN Port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0" y="2286000"/>
            <a:ext cx="49528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P:                  192.168.1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NetMask        :255.255.25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Gateway:       192.168.3.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nterface:       WAN Port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P:                 192.168.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NetMask       :255.255.25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Gateway:       192.168.3.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Interface:       WAN Port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29400" y="4343400"/>
            <a:ext cx="144792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2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7704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76840" y="5410080"/>
            <a:ext cx="3048120" cy="1067040"/>
          </a:xfrm>
          <a:prstGeom prst="cloudCallout">
            <a:avLst>
              <a:gd name="adj1" fmla="val -29685"/>
              <a:gd name="adj2" fmla="val 69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.168.X.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533840" y="312408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7240" y="1962000"/>
            <a:ext cx="350496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P:                 192.168.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     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Gateway:      192.168.2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terface:      WAN Por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P:                192.168.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    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Gateway:     192.168.2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terface:      WAN Por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6280" y="4381560"/>
            <a:ext cx="16002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2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1638360" y="31237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09556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33720" y="3848040"/>
            <a:ext cx="1752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192.168.2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xternal Port1 IP:2.2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xternal Port2 IP:2.2.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210200" y="3848040"/>
            <a:ext cx="18288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192.168.3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xternal Port1 IP:3.3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xternal Port2 IP:3.3.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18116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760" y="5257800"/>
            <a:ext cx="34290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.168.2.X.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0" y="160200"/>
            <a:ext cx="990612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Can I apply for 16 fix IP addresses from ISP and use CA300 as a rout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Ans.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84440" y="914400"/>
            <a:ext cx="266688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7972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49560" y="2971800"/>
            <a:ext cx="182880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8797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019160" y="420516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8424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0636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.95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04164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55840" y="4952880"/>
            <a:ext cx="16002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.95.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659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851520" y="4946760"/>
            <a:ext cx="19051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.95.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724280" y="23623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Port IP: 168.95.2.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181480" y="2971800"/>
            <a:ext cx="28195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Server IP:168.95.2.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0" y="228600"/>
            <a:ext cx="83818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my 4 fix IP addresses applying from ISP coexisten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local illegal IP addresses and route through CA3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3160" y="1447920"/>
            <a:ext cx="21337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79840" y="2341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79840" y="3297240"/>
            <a:ext cx="190512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5120" y="1143000"/>
            <a:ext cx="617220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P addresses assigned to CA300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8.95.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8.95.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8.95.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8.95.2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029200" y="2666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ed Port IP:168.95.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15000" y="3365640"/>
            <a:ext cx="2819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erver IP:168.95.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95680" y="399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38080" y="45594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03160" y="455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2840" y="5230800"/>
            <a:ext cx="1405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68272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35000" y="5210280"/>
            <a:ext cx="1417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006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038480" y="5195880"/>
            <a:ext cx="1676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772400" y="45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946920" y="5216400"/>
            <a:ext cx="1676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2.2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55600" y="1496880"/>
            <a:ext cx="33526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Virtual Server IP Ma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xternal IP: 168.95.2.5       External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l  IP: 192.168.2.5     Internal 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xternal IP: 168.95.2.6       External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l  IP: 192.168.2.6     Internal 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xternal IP: 168.95.2.7       External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l  IP: 192.168.2.7     Internal 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xternal IP: 168.95.2.8        External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l  IP: 192.168.2.8      Internal  Port: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139680" y="284040"/>
            <a:ext cx="105156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I dial-in to CA540/CA545 to access my company’s TCP/IP or IPX/SP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etwork and access the internet through Internet Access Port of CA540/CA545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666880" y="1143000"/>
            <a:ext cx="3581640" cy="1066680"/>
          </a:xfrm>
          <a:prstGeom prst="cloudCallout">
            <a:avLst>
              <a:gd name="adj1" fmla="val -48847"/>
              <a:gd name="adj2" fmla="val 633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2.16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448080" y="23842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erver IP: 172.16.1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etmask: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281400" y="2971800"/>
            <a:ext cx="26668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095880" y="2349360"/>
            <a:ext cx="3200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or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unction: Internet Access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Assigned Port IP:168.95.1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19920" y="4648320"/>
            <a:ext cx="3124080" cy="1523880"/>
          </a:xfrm>
          <a:prstGeom prst="cloudCallout">
            <a:avLst>
              <a:gd name="adj1" fmla="val -21648"/>
              <a:gd name="adj2" fmla="val 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05520" y="373392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00600" y="342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1981080"/>
            <a:ext cx="3429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:Remo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:TCP/IP and IPX/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:P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’s William’s IP:172.16.1.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62120" y="5105520"/>
            <a:ext cx="22860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 95(Willi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75248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524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282840" y="343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371600" y="4572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ssgned IP:172.16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76320" y="236520"/>
            <a:ext cx="90676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I dial-in to CA540/CA545 to  access my company’s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etwork and access another department’s TCP/IP network through another rou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570040" y="914400"/>
            <a:ext cx="5715000" cy="1219320"/>
          </a:xfrm>
          <a:prstGeom prst="cloudCallout">
            <a:avLst>
              <a:gd name="adj1" fmla="val -35583"/>
              <a:gd name="adj2" fmla="val 83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2.16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646600" y="206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0056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838600" y="2666880"/>
            <a:ext cx="20574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085760" y="2133720"/>
            <a:ext cx="27432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erver IP:172.16.1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9080" y="2741760"/>
            <a:ext cx="419112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:Remo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:TCP/IP and IPX/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:P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’s William’s IP:172.16.1.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162080" y="5638680"/>
            <a:ext cx="2362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95 (Willi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30508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30508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3600360" y="3428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958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781440" y="3552840"/>
            <a:ext cx="243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:               172.16.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etmask:   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teway:    172.16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835280" y="5105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ed IP:172.16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5628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781680" y="2798640"/>
            <a:ext cx="152424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5628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57760" y="4460760"/>
            <a:ext cx="3284640" cy="838440"/>
          </a:xfrm>
          <a:prstGeom prst="cloudCallout">
            <a:avLst>
              <a:gd name="adj1" fmla="val -30231"/>
              <a:gd name="adj2" fmla="val 8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2.16.2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94692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72.16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24600" y="3498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72.16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304920" y="228600"/>
            <a:ext cx="84582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900" spc="-1" strike="noStrike">
                <a:solidFill>
                  <a:srgbClr val="000000"/>
                </a:solidFill>
                <a:latin typeface="Times New Roman"/>
                <a:ea typeface=""/>
              </a:rPr>
              <a:t>Can I dial-in to CA540/CA545 to access my company’s TCP/IP network and sur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900" spc="-1" strike="noStrike">
                <a:solidFill>
                  <a:srgbClr val="000000"/>
                </a:solidFill>
                <a:latin typeface="Times New Roman"/>
                <a:ea typeface=""/>
              </a:rPr>
              <a:t>the internet through another router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900" spc="-1" strike="noStrike">
                <a:solidFill>
                  <a:srgbClr val="000000"/>
                </a:solidFill>
                <a:latin typeface="Times New Roman"/>
                <a:ea typeface=""/>
              </a:rPr>
              <a:t>Ans.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685960" y="743040"/>
            <a:ext cx="5791320" cy="1066680"/>
          </a:xfrm>
          <a:prstGeom prst="cloudCallout">
            <a:avLst>
              <a:gd name="adj1" fmla="val -37583"/>
              <a:gd name="adj2" fmla="val 699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2.16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2324160"/>
            <a:ext cx="2057400" cy="457200"/>
          </a:xfrm>
          <a:prstGeom prst="flowChartAlternate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1752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1600" y="1866960"/>
            <a:ext cx="220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Server IP:172.16.1.2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14480" y="2155680"/>
            <a:ext cx="29718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unction:Remote Ac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tocol:TCP/IP and IPX/SP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uthentication:P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ser’s William’s IP:172.16.1.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39000" y="1886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696080" y="1676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972480" y="2629080"/>
            <a:ext cx="1523880" cy="457200"/>
          </a:xfrm>
          <a:prstGeom prst="flowChartAlternate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696080" y="3124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553080" y="4572000"/>
            <a:ext cx="221004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105680" y="3352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68.16.2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124760" y="2057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72.16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67200" y="2914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5146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5146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47920" y="5410080"/>
            <a:ext cx="2209680" cy="609840"/>
          </a:xfrm>
          <a:prstGeom prst="flowChart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95 (Willi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543480" y="3333600"/>
            <a:ext cx="2057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:               0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etmask:    0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teway:    172.16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905120" y="49449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IP:172.16.1.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47520" y="165240"/>
            <a:ext cx="8077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700" spc="-1" strike="noStrike">
                <a:solidFill>
                  <a:srgbClr val="000000"/>
                </a:solidFill>
                <a:latin typeface="Times New Roman"/>
              </a:rPr>
              <a:t>Can CA300s in 4 branch offices dial-in to CA540/CA545 to form an TCP/IP intranet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700" spc="-1" strike="noStrike">
                <a:solidFill>
                  <a:srgbClr val="000000"/>
                </a:solidFill>
                <a:latin typeface="Times New Roman"/>
              </a:rPr>
              <a:t>Ans.Y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625840" y="609480"/>
            <a:ext cx="4419360" cy="762120"/>
          </a:xfrm>
          <a:prstGeom prst="cloudCallout">
            <a:avLst>
              <a:gd name="adj1" fmla="val -35953"/>
              <a:gd name="adj2" fmla="val 966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.168.1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2360" y="137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24240" y="1828800"/>
            <a:ext cx="289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881440" y="4038480"/>
            <a:ext cx="1447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153040" y="4038480"/>
            <a:ext cx="14619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603520" y="3760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IP:192.168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908600" y="3746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IP:192.168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02160" y="4514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70040" y="5445000"/>
            <a:ext cx="2133720" cy="906480"/>
          </a:xfrm>
          <a:prstGeom prst="cloudCallout">
            <a:avLst>
              <a:gd name="adj1" fmla="val -83703"/>
              <a:gd name="adj2" fmla="val 953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92.168.3.X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1040" y="5459400"/>
            <a:ext cx="2057400" cy="838080"/>
          </a:xfrm>
          <a:prstGeom prst="cloudCallout">
            <a:avLst>
              <a:gd name="adj1" fmla="val -36805"/>
              <a:gd name="adj2" fmla="val 700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92.168.2.X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932360" y="5410080"/>
            <a:ext cx="1981080" cy="990720"/>
          </a:xfrm>
          <a:prstGeom prst="cloudCallout">
            <a:avLst>
              <a:gd name="adj1" fmla="val -43750"/>
              <a:gd name="adj2" fmla="val 66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192.168.4.X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10280" y="5397480"/>
            <a:ext cx="2057400" cy="969840"/>
          </a:xfrm>
          <a:prstGeom prst="cloudCallout">
            <a:avLst>
              <a:gd name="adj1" fmla="val -36805"/>
              <a:gd name="adj2" fmla="val 673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192.168.5.X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880240" y="45576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3587760" y="2327400"/>
            <a:ext cx="99072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021280" y="234792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604280" y="4052880"/>
            <a:ext cx="13716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64960" y="4079880"/>
            <a:ext cx="144792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40984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0984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17236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920" y="3805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IP:192.168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86760" y="37814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ssigend IP:192.168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6219360" y="20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98184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98184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85960" y="990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lu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90360" y="2505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 Server IP Mapping Ena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10440" y="914400"/>
            <a:ext cx="281952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CA545001.c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192.168.1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1 IP:192.168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2 IP:192.168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3 IP:192.168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4 IP:192.168.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015320" y="27860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 Function:Remot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8596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4819680"/>
            <a:ext cx="26668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Server IP:        192.168.2.2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Netmask:         255.255.25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Port Function:Internet Access 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523960" y="4800600"/>
            <a:ext cx="24386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Server IP:       192.168.3.2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Netmask:        255.255.25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Port Function:Internet Access 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20116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791240" y="4791240"/>
            <a:ext cx="25146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Server IP:    192.168.4.2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Netmask:     255.255.25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Port Function:Internet Access 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953400" y="4781520"/>
            <a:ext cx="28954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Server IP:     192.168.5.2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Netmask:      255.255.25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Port Function:Internet Access 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562120" y="2171880"/>
            <a:ext cx="60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r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800520" y="2343240"/>
            <a:ext cx="68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r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72120" y="234324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r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257880" y="2133720"/>
            <a:ext cx="68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rt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201600"/>
            <a:ext cx="100584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an CA300s in 4 branch offices dial-in to CA540/CA545 to form an TCP/IP intran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ns.Yes.   Solu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620800" y="533520"/>
            <a:ext cx="3810240" cy="1143000"/>
          </a:xfrm>
          <a:prstGeom prst="cloudCallout">
            <a:avLst>
              <a:gd name="adj1" fmla="val -4400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2.168.2.X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259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989440" y="2057400"/>
            <a:ext cx="327636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25280" y="5477040"/>
            <a:ext cx="1905120" cy="761760"/>
          </a:xfrm>
          <a:prstGeom prst="cloudCallout">
            <a:avLst>
              <a:gd name="adj1" fmla="val -43000"/>
              <a:gd name="adj2" fmla="val 73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72.16.3.X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52600" y="5457960"/>
            <a:ext cx="1849680" cy="776160"/>
          </a:xfrm>
          <a:prstGeom prst="cloudCallout">
            <a:avLst>
              <a:gd name="adj1" fmla="val -42018"/>
              <a:gd name="adj2" fmla="val 716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72.16.4.X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525920" y="5486400"/>
            <a:ext cx="2057400" cy="762120"/>
          </a:xfrm>
          <a:prstGeom prst="cloudCallout">
            <a:avLst>
              <a:gd name="adj1" fmla="val -44754"/>
              <a:gd name="adj2" fmla="val 103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72.16.5.X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964200" y="5486400"/>
            <a:ext cx="1828800" cy="819000"/>
          </a:xfrm>
          <a:prstGeom prst="cloudCallout">
            <a:avLst>
              <a:gd name="adj1" fmla="val -31685"/>
              <a:gd name="adj2" fmla="val 74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72.16.6.X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02060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330660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551664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787860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28680" y="3276720"/>
            <a:ext cx="1454040" cy="358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93800" y="3276720"/>
            <a:ext cx="13716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857840" y="3290760"/>
            <a:ext cx="13716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083360" y="3305160"/>
            <a:ext cx="144792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300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523960" y="3027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IP:172.16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61000" y="3033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IP:172.16.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3230640" y="24382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49600" y="2438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16360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16360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17827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278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73560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735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05600" y="30272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IP:172.16.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7920" y="30337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IP:172.16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11920" y="609480"/>
            <a:ext cx="1981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  192.168.2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  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1 IP:  192.168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2 IP:  192.168.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3 IP:  192.168.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ort4 IP:  192.168.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24520" y="1959120"/>
            <a:ext cx="2057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 Access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for each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0240" y="914400"/>
            <a:ext cx="2286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172.16.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192.168.2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WAN Por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30440" y="1054080"/>
            <a:ext cx="22096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172.16.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192.168.2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WAN Por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0240" y="2082960"/>
            <a:ext cx="15238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172.16.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192.168.2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WAN Por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630440" y="2060640"/>
            <a:ext cx="15238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172.16.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192.168.2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WAN Port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58840" y="3828960"/>
            <a:ext cx="19047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erver IP:   172.16.3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Function:Internet Access 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58840" y="4495680"/>
            <a:ext cx="1981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                   192.168.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  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        172.16.3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       WAN Por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401920" y="3828960"/>
            <a:ext cx="19051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erver IP:172.16.4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Function:Internet Access 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392200" y="4486320"/>
            <a:ext cx="2133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                   192.168.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   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        172.16.4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         WAN Por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678200" y="3809880"/>
            <a:ext cx="1981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erver IP:        172.16.5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   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Function:Internet Access 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678200" y="4486320"/>
            <a:ext cx="16002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              192.168.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   172.16.4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   WAN Por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040520" y="3809880"/>
            <a:ext cx="19810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erver IP:172.16.6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Function:Internet Access 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040520" y="4572000"/>
            <a:ext cx="1828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P:              192.168.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etmask:    255.255.2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Gateway:    172.16.4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Interface:    WAN Por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81120" y="1636560"/>
            <a:ext cx="8012160" cy="3506760"/>
            <a:chOff x="681120" y="1636560"/>
            <a:chExt cx="8012160" cy="3506760"/>
          </a:xfrm>
        </p:grpSpPr>
        <p:sp>
          <p:nvSpPr>
            <p:cNvPr id="64" name=""/>
            <p:cNvSpPr/>
            <p:nvPr/>
          </p:nvSpPr>
          <p:spPr>
            <a:xfrm>
              <a:off x="2851200" y="1693800"/>
              <a:ext cx="463680" cy="465120"/>
            </a:xfrm>
            <a:custGeom>
              <a:avLst/>
              <a:gdLst/>
              <a:ahLst/>
              <a:rect l="l" t="t" r="r" b="b"/>
              <a:pathLst>
                <a:path w="292" h="293">
                  <a:moveTo>
                    <a:pt x="0" y="0"/>
                  </a:moveTo>
                  <a:lnTo>
                    <a:pt x="87" y="69"/>
                  </a:lnTo>
                  <a:lnTo>
                    <a:pt x="169" y="147"/>
                  </a:lnTo>
                  <a:lnTo>
                    <a:pt x="291" y="292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85120" y="5002200"/>
              <a:ext cx="793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81520" y="1724040"/>
              <a:ext cx="487440" cy="434880"/>
            </a:xfrm>
            <a:custGeom>
              <a:avLst/>
              <a:gdLst/>
              <a:ahLst/>
              <a:rect l="l" t="t" r="r" b="b"/>
              <a:pathLst>
                <a:path w="307" h="274">
                  <a:moveTo>
                    <a:pt x="0" y="0"/>
                  </a:moveTo>
                  <a:lnTo>
                    <a:pt x="87" y="59"/>
                  </a:lnTo>
                  <a:lnTo>
                    <a:pt x="165" y="128"/>
                  </a:lnTo>
                  <a:lnTo>
                    <a:pt x="306" y="27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3360" y="1809720"/>
              <a:ext cx="403200" cy="3430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0" y="0"/>
                  </a:moveTo>
                  <a:lnTo>
                    <a:pt x="87" y="59"/>
                  </a:lnTo>
                  <a:lnTo>
                    <a:pt x="165" y="128"/>
                  </a:lnTo>
                  <a:lnTo>
                    <a:pt x="253" y="21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93000" y="1852560"/>
              <a:ext cx="758880" cy="476280"/>
            </a:xfrm>
            <a:custGeom>
              <a:avLst/>
              <a:gdLst/>
              <a:ahLst/>
              <a:rect l="l" t="t" r="r" b="b"/>
              <a:pathLst>
                <a:path w="478" h="300">
                  <a:moveTo>
                    <a:pt x="0" y="0"/>
                  </a:moveTo>
                  <a:lnTo>
                    <a:pt x="156" y="84"/>
                  </a:lnTo>
                  <a:lnTo>
                    <a:pt x="317" y="186"/>
                  </a:lnTo>
                  <a:lnTo>
                    <a:pt x="477" y="29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35840" y="2114640"/>
              <a:ext cx="3346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35840" y="2284560"/>
              <a:ext cx="36003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67360" y="2500200"/>
              <a:ext cx="38210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2480" y="3178080"/>
              <a:ext cx="372960" cy="1965240"/>
            </a:xfrm>
            <a:custGeom>
              <a:avLst/>
              <a:gdLst/>
              <a:ahLst/>
              <a:rect l="l" t="t" r="r" b="b"/>
              <a:pathLst>
                <a:path w="235" h="1238">
                  <a:moveTo>
                    <a:pt x="234" y="0"/>
                  </a:moveTo>
                  <a:lnTo>
                    <a:pt x="234" y="122"/>
                  </a:lnTo>
                  <a:lnTo>
                    <a:pt x="224" y="258"/>
                  </a:lnTo>
                  <a:lnTo>
                    <a:pt x="200" y="392"/>
                  </a:lnTo>
                  <a:lnTo>
                    <a:pt x="176" y="546"/>
                  </a:lnTo>
                  <a:lnTo>
                    <a:pt x="152" y="673"/>
                  </a:lnTo>
                  <a:lnTo>
                    <a:pt x="126" y="820"/>
                  </a:lnTo>
                  <a:lnTo>
                    <a:pt x="102" y="943"/>
                  </a:lnTo>
                  <a:lnTo>
                    <a:pt x="68" y="1054"/>
                  </a:lnTo>
                  <a:lnTo>
                    <a:pt x="39" y="1138"/>
                  </a:lnTo>
                  <a:lnTo>
                    <a:pt x="0" y="1237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29120" y="2727360"/>
              <a:ext cx="423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9680" y="2943360"/>
              <a:ext cx="45784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2920" y="3586320"/>
              <a:ext cx="799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28960" y="1690560"/>
              <a:ext cx="1042920" cy="3414960"/>
            </a:xfrm>
            <a:custGeom>
              <a:avLst/>
              <a:gdLst/>
              <a:ahLst/>
              <a:rect l="l" t="t" r="r" b="b"/>
              <a:pathLst>
                <a:path w="657" h="2151">
                  <a:moveTo>
                    <a:pt x="656" y="0"/>
                  </a:moveTo>
                  <a:lnTo>
                    <a:pt x="593" y="35"/>
                  </a:lnTo>
                  <a:lnTo>
                    <a:pt x="467" y="132"/>
                  </a:lnTo>
                  <a:lnTo>
                    <a:pt x="350" y="254"/>
                  </a:lnTo>
                  <a:lnTo>
                    <a:pt x="267" y="375"/>
                  </a:lnTo>
                  <a:lnTo>
                    <a:pt x="189" y="518"/>
                  </a:lnTo>
                  <a:lnTo>
                    <a:pt x="111" y="660"/>
                  </a:lnTo>
                  <a:lnTo>
                    <a:pt x="59" y="790"/>
                  </a:lnTo>
                  <a:lnTo>
                    <a:pt x="9" y="937"/>
                  </a:lnTo>
                  <a:lnTo>
                    <a:pt x="0" y="1059"/>
                  </a:lnTo>
                  <a:lnTo>
                    <a:pt x="0" y="1195"/>
                  </a:lnTo>
                  <a:lnTo>
                    <a:pt x="0" y="1327"/>
                  </a:lnTo>
                  <a:lnTo>
                    <a:pt x="5" y="1477"/>
                  </a:lnTo>
                  <a:lnTo>
                    <a:pt x="0" y="1618"/>
                  </a:lnTo>
                  <a:lnTo>
                    <a:pt x="0" y="1763"/>
                  </a:lnTo>
                  <a:lnTo>
                    <a:pt x="5" y="2074"/>
                  </a:lnTo>
                  <a:lnTo>
                    <a:pt x="9" y="215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1684440"/>
              <a:ext cx="1058760" cy="3452760"/>
            </a:xfrm>
            <a:custGeom>
              <a:avLst/>
              <a:gdLst/>
              <a:ahLst/>
              <a:rect l="l" t="t" r="r" b="b"/>
              <a:pathLst>
                <a:path w="667" h="2175">
                  <a:moveTo>
                    <a:pt x="666" y="0"/>
                  </a:moveTo>
                  <a:lnTo>
                    <a:pt x="597" y="49"/>
                  </a:lnTo>
                  <a:lnTo>
                    <a:pt x="520" y="136"/>
                  </a:lnTo>
                  <a:lnTo>
                    <a:pt x="427" y="253"/>
                  </a:lnTo>
                  <a:lnTo>
                    <a:pt x="349" y="379"/>
                  </a:lnTo>
                  <a:lnTo>
                    <a:pt x="286" y="507"/>
                  </a:lnTo>
                  <a:lnTo>
                    <a:pt x="217" y="645"/>
                  </a:lnTo>
                  <a:lnTo>
                    <a:pt x="165" y="794"/>
                  </a:lnTo>
                  <a:lnTo>
                    <a:pt x="130" y="926"/>
                  </a:lnTo>
                  <a:lnTo>
                    <a:pt x="121" y="1063"/>
                  </a:lnTo>
                  <a:lnTo>
                    <a:pt x="111" y="1189"/>
                  </a:lnTo>
                  <a:lnTo>
                    <a:pt x="102" y="1325"/>
                  </a:lnTo>
                  <a:lnTo>
                    <a:pt x="102" y="1461"/>
                  </a:lnTo>
                  <a:lnTo>
                    <a:pt x="91" y="1602"/>
                  </a:lnTo>
                  <a:lnTo>
                    <a:pt x="72" y="1767"/>
                  </a:lnTo>
                  <a:lnTo>
                    <a:pt x="63" y="1878"/>
                  </a:lnTo>
                  <a:lnTo>
                    <a:pt x="48" y="1997"/>
                  </a:lnTo>
                  <a:lnTo>
                    <a:pt x="0" y="2174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8800" y="1670040"/>
              <a:ext cx="1106640" cy="3444840"/>
            </a:xfrm>
            <a:custGeom>
              <a:avLst/>
              <a:gdLst/>
              <a:ahLst/>
              <a:rect l="l" t="t" r="r" b="b"/>
              <a:pathLst>
                <a:path w="697" h="2170">
                  <a:moveTo>
                    <a:pt x="696" y="0"/>
                  </a:moveTo>
                  <a:lnTo>
                    <a:pt x="637" y="52"/>
                  </a:lnTo>
                  <a:lnTo>
                    <a:pt x="583" y="126"/>
                  </a:lnTo>
                  <a:lnTo>
                    <a:pt x="501" y="247"/>
                  </a:lnTo>
                  <a:lnTo>
                    <a:pt x="412" y="394"/>
                  </a:lnTo>
                  <a:lnTo>
                    <a:pt x="369" y="520"/>
                  </a:lnTo>
                  <a:lnTo>
                    <a:pt x="321" y="663"/>
                  </a:lnTo>
                  <a:lnTo>
                    <a:pt x="282" y="784"/>
                  </a:lnTo>
                  <a:lnTo>
                    <a:pt x="258" y="940"/>
                  </a:lnTo>
                  <a:lnTo>
                    <a:pt x="247" y="1072"/>
                  </a:lnTo>
                  <a:lnTo>
                    <a:pt x="232" y="1208"/>
                  </a:lnTo>
                  <a:lnTo>
                    <a:pt x="213" y="1345"/>
                  </a:lnTo>
                  <a:lnTo>
                    <a:pt x="189" y="1494"/>
                  </a:lnTo>
                  <a:lnTo>
                    <a:pt x="169" y="1626"/>
                  </a:lnTo>
                  <a:lnTo>
                    <a:pt x="145" y="1766"/>
                  </a:lnTo>
                  <a:lnTo>
                    <a:pt x="121" y="1893"/>
                  </a:lnTo>
                  <a:lnTo>
                    <a:pt x="97" y="1997"/>
                  </a:lnTo>
                  <a:lnTo>
                    <a:pt x="52" y="2091"/>
                  </a:lnTo>
                  <a:lnTo>
                    <a:pt x="0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3200" y="1670040"/>
              <a:ext cx="1150920" cy="3459240"/>
            </a:xfrm>
            <a:custGeom>
              <a:avLst/>
              <a:gdLst/>
              <a:ahLst/>
              <a:rect l="l" t="t" r="r" b="b"/>
              <a:pathLst>
                <a:path w="725" h="2179">
                  <a:moveTo>
                    <a:pt x="724" y="0"/>
                  </a:moveTo>
                  <a:lnTo>
                    <a:pt x="672" y="72"/>
                  </a:lnTo>
                  <a:lnTo>
                    <a:pt x="622" y="150"/>
                  </a:lnTo>
                  <a:lnTo>
                    <a:pt x="559" y="258"/>
                  </a:lnTo>
                  <a:lnTo>
                    <a:pt x="501" y="388"/>
                  </a:lnTo>
                  <a:lnTo>
                    <a:pt x="472" y="516"/>
                  </a:lnTo>
                  <a:lnTo>
                    <a:pt x="433" y="663"/>
                  </a:lnTo>
                  <a:lnTo>
                    <a:pt x="394" y="803"/>
                  </a:lnTo>
                  <a:lnTo>
                    <a:pt x="379" y="950"/>
                  </a:lnTo>
                  <a:lnTo>
                    <a:pt x="375" y="1067"/>
                  </a:lnTo>
                  <a:lnTo>
                    <a:pt x="360" y="1204"/>
                  </a:lnTo>
                  <a:lnTo>
                    <a:pt x="346" y="1345"/>
                  </a:lnTo>
                  <a:lnTo>
                    <a:pt x="316" y="1481"/>
                  </a:lnTo>
                  <a:lnTo>
                    <a:pt x="273" y="1626"/>
                  </a:lnTo>
                  <a:lnTo>
                    <a:pt x="243" y="1761"/>
                  </a:lnTo>
                  <a:lnTo>
                    <a:pt x="195" y="1887"/>
                  </a:lnTo>
                  <a:lnTo>
                    <a:pt x="147" y="1997"/>
                  </a:lnTo>
                  <a:lnTo>
                    <a:pt x="78" y="2096"/>
                  </a:lnTo>
                  <a:lnTo>
                    <a:pt x="0" y="2178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65400" y="1662120"/>
              <a:ext cx="1150920" cy="3462480"/>
            </a:xfrm>
            <a:custGeom>
              <a:avLst/>
              <a:gdLst/>
              <a:ahLst/>
              <a:rect l="l" t="t" r="r" b="b"/>
              <a:pathLst>
                <a:path w="725" h="2181">
                  <a:moveTo>
                    <a:pt x="724" y="0"/>
                  </a:moveTo>
                  <a:lnTo>
                    <a:pt x="681" y="69"/>
                  </a:lnTo>
                  <a:lnTo>
                    <a:pt x="637" y="167"/>
                  </a:lnTo>
                  <a:lnTo>
                    <a:pt x="598" y="278"/>
                  </a:lnTo>
                  <a:lnTo>
                    <a:pt x="574" y="395"/>
                  </a:lnTo>
                  <a:lnTo>
                    <a:pt x="544" y="518"/>
                  </a:lnTo>
                  <a:lnTo>
                    <a:pt x="525" y="669"/>
                  </a:lnTo>
                  <a:lnTo>
                    <a:pt x="496" y="810"/>
                  </a:lnTo>
                  <a:lnTo>
                    <a:pt x="490" y="946"/>
                  </a:lnTo>
                  <a:lnTo>
                    <a:pt x="481" y="1078"/>
                  </a:lnTo>
                  <a:lnTo>
                    <a:pt x="462" y="1204"/>
                  </a:lnTo>
                  <a:lnTo>
                    <a:pt x="427" y="1347"/>
                  </a:lnTo>
                  <a:lnTo>
                    <a:pt x="399" y="1472"/>
                  </a:lnTo>
                  <a:lnTo>
                    <a:pt x="349" y="1633"/>
                  </a:lnTo>
                  <a:lnTo>
                    <a:pt x="301" y="1777"/>
                  </a:lnTo>
                  <a:lnTo>
                    <a:pt x="234" y="1900"/>
                  </a:lnTo>
                  <a:lnTo>
                    <a:pt x="175" y="1999"/>
                  </a:lnTo>
                  <a:lnTo>
                    <a:pt x="82" y="2102"/>
                  </a:lnTo>
                  <a:lnTo>
                    <a:pt x="0" y="218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66920" y="1670040"/>
              <a:ext cx="1090800" cy="3444840"/>
            </a:xfrm>
            <a:custGeom>
              <a:avLst/>
              <a:gdLst/>
              <a:ahLst/>
              <a:rect l="l" t="t" r="r" b="b"/>
              <a:pathLst>
                <a:path w="687" h="2170">
                  <a:moveTo>
                    <a:pt x="686" y="0"/>
                  </a:moveTo>
                  <a:lnTo>
                    <a:pt x="672" y="63"/>
                  </a:lnTo>
                  <a:lnTo>
                    <a:pt x="653" y="160"/>
                  </a:lnTo>
                  <a:lnTo>
                    <a:pt x="623" y="282"/>
                  </a:lnTo>
                  <a:lnTo>
                    <a:pt x="603" y="388"/>
                  </a:lnTo>
                  <a:lnTo>
                    <a:pt x="584" y="496"/>
                  </a:lnTo>
                  <a:lnTo>
                    <a:pt x="575" y="667"/>
                  </a:lnTo>
                  <a:lnTo>
                    <a:pt x="564" y="799"/>
                  </a:lnTo>
                  <a:lnTo>
                    <a:pt x="560" y="931"/>
                  </a:lnTo>
                  <a:lnTo>
                    <a:pt x="545" y="1072"/>
                  </a:lnTo>
                  <a:lnTo>
                    <a:pt x="525" y="1198"/>
                  </a:lnTo>
                  <a:lnTo>
                    <a:pt x="506" y="1345"/>
                  </a:lnTo>
                  <a:lnTo>
                    <a:pt x="458" y="1494"/>
                  </a:lnTo>
                  <a:lnTo>
                    <a:pt x="399" y="1637"/>
                  </a:lnTo>
                  <a:lnTo>
                    <a:pt x="326" y="1785"/>
                  </a:lnTo>
                  <a:lnTo>
                    <a:pt x="258" y="1898"/>
                  </a:lnTo>
                  <a:lnTo>
                    <a:pt x="171" y="1997"/>
                  </a:lnTo>
                  <a:lnTo>
                    <a:pt x="102" y="2072"/>
                  </a:lnTo>
                  <a:lnTo>
                    <a:pt x="0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495880" y="1666440"/>
              <a:ext cx="0" cy="19256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5240" y="3159000"/>
              <a:ext cx="7940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920" y="3368520"/>
              <a:ext cx="80103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9000" y="3801960"/>
              <a:ext cx="17269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35480" y="3801960"/>
              <a:ext cx="16923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4880" y="2284560"/>
              <a:ext cx="2163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82880" y="2500200"/>
              <a:ext cx="2479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840" y="2727360"/>
              <a:ext cx="27558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3000" y="2943360"/>
              <a:ext cx="2989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3040" y="4025880"/>
              <a:ext cx="1613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7160" y="4265640"/>
              <a:ext cx="1474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4960" y="4483080"/>
              <a:ext cx="13129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1560" y="4025880"/>
              <a:ext cx="1608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9600" y="4265640"/>
              <a:ext cx="143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24480" y="4483080"/>
              <a:ext cx="1279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0000" y="1905120"/>
              <a:ext cx="170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2114640"/>
              <a:ext cx="22003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33920" y="1762200"/>
              <a:ext cx="12049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4920" y="1962000"/>
              <a:ext cx="627120" cy="373320"/>
            </a:xfrm>
            <a:custGeom>
              <a:avLst/>
              <a:gdLst/>
              <a:ahLst/>
              <a:rect l="l" t="t" r="r" b="b"/>
              <a:pathLst>
                <a:path w="395" h="235">
                  <a:moveTo>
                    <a:pt x="0" y="0"/>
                  </a:moveTo>
                  <a:lnTo>
                    <a:pt x="180" y="102"/>
                  </a:lnTo>
                  <a:lnTo>
                    <a:pt x="394" y="234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5360" y="1905120"/>
              <a:ext cx="2617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37360" y="1727280"/>
              <a:ext cx="438120" cy="434880"/>
            </a:xfrm>
            <a:custGeom>
              <a:avLst/>
              <a:gdLst/>
              <a:ahLst/>
              <a:rect l="l" t="t" r="r" b="b"/>
              <a:pathLst>
                <a:path w="276" h="274">
                  <a:moveTo>
                    <a:pt x="275" y="0"/>
                  </a:moveTo>
                  <a:lnTo>
                    <a:pt x="154" y="103"/>
                  </a:lnTo>
                  <a:lnTo>
                    <a:pt x="67" y="195"/>
                  </a:lnTo>
                  <a:lnTo>
                    <a:pt x="0" y="27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72440" y="1724040"/>
              <a:ext cx="1546200" cy="3376440"/>
            </a:xfrm>
            <a:custGeom>
              <a:avLst/>
              <a:gdLst/>
              <a:ahLst/>
              <a:rect l="l" t="t" r="r" b="b"/>
              <a:pathLst>
                <a:path w="974" h="2127">
                  <a:moveTo>
                    <a:pt x="0" y="0"/>
                  </a:moveTo>
                  <a:lnTo>
                    <a:pt x="156" y="93"/>
                  </a:lnTo>
                  <a:lnTo>
                    <a:pt x="253" y="167"/>
                  </a:lnTo>
                  <a:lnTo>
                    <a:pt x="331" y="234"/>
                  </a:lnTo>
                  <a:lnTo>
                    <a:pt x="448" y="327"/>
                  </a:lnTo>
                  <a:lnTo>
                    <a:pt x="619" y="483"/>
                  </a:lnTo>
                  <a:lnTo>
                    <a:pt x="774" y="630"/>
                  </a:lnTo>
                  <a:lnTo>
                    <a:pt x="891" y="771"/>
                  </a:lnTo>
                  <a:lnTo>
                    <a:pt x="960" y="903"/>
                  </a:lnTo>
                  <a:lnTo>
                    <a:pt x="969" y="1020"/>
                  </a:lnTo>
                  <a:lnTo>
                    <a:pt x="973" y="1165"/>
                  </a:lnTo>
                  <a:lnTo>
                    <a:pt x="973" y="1302"/>
                  </a:lnTo>
                  <a:lnTo>
                    <a:pt x="964" y="1453"/>
                  </a:lnTo>
                  <a:lnTo>
                    <a:pt x="949" y="1589"/>
                  </a:lnTo>
                  <a:lnTo>
                    <a:pt x="940" y="1738"/>
                  </a:lnTo>
                  <a:lnTo>
                    <a:pt x="925" y="1847"/>
                  </a:lnTo>
                  <a:lnTo>
                    <a:pt x="910" y="2003"/>
                  </a:lnTo>
                  <a:lnTo>
                    <a:pt x="876" y="2126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760" y="1755720"/>
              <a:ext cx="1616040" cy="3338640"/>
            </a:xfrm>
            <a:custGeom>
              <a:avLst/>
              <a:gdLst/>
              <a:ahLst/>
              <a:rect l="l" t="t" r="r" b="b"/>
              <a:pathLst>
                <a:path w="1018" h="2103">
                  <a:moveTo>
                    <a:pt x="0" y="0"/>
                  </a:moveTo>
                  <a:lnTo>
                    <a:pt x="147" y="84"/>
                  </a:lnTo>
                  <a:lnTo>
                    <a:pt x="244" y="162"/>
                  </a:lnTo>
                  <a:lnTo>
                    <a:pt x="331" y="229"/>
                  </a:lnTo>
                  <a:lnTo>
                    <a:pt x="453" y="327"/>
                  </a:lnTo>
                  <a:lnTo>
                    <a:pt x="618" y="459"/>
                  </a:lnTo>
                  <a:lnTo>
                    <a:pt x="784" y="601"/>
                  </a:lnTo>
                  <a:lnTo>
                    <a:pt x="925" y="746"/>
                  </a:lnTo>
                  <a:lnTo>
                    <a:pt x="997" y="893"/>
                  </a:lnTo>
                  <a:lnTo>
                    <a:pt x="1012" y="1028"/>
                  </a:lnTo>
                  <a:lnTo>
                    <a:pt x="1017" y="1156"/>
                  </a:lnTo>
                  <a:lnTo>
                    <a:pt x="1012" y="1297"/>
                  </a:lnTo>
                  <a:lnTo>
                    <a:pt x="984" y="1433"/>
                  </a:lnTo>
                  <a:lnTo>
                    <a:pt x="964" y="1565"/>
                  </a:lnTo>
                  <a:lnTo>
                    <a:pt x="934" y="1709"/>
                  </a:lnTo>
                  <a:lnTo>
                    <a:pt x="910" y="1842"/>
                  </a:lnTo>
                  <a:lnTo>
                    <a:pt x="876" y="1949"/>
                  </a:lnTo>
                  <a:lnTo>
                    <a:pt x="813" y="2102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21640" y="1800360"/>
              <a:ext cx="1654200" cy="3257280"/>
            </a:xfrm>
            <a:custGeom>
              <a:avLst/>
              <a:gdLst/>
              <a:ahLst/>
              <a:rect l="l" t="t" r="r" b="b"/>
              <a:pathLst>
                <a:path w="1042" h="2052">
                  <a:moveTo>
                    <a:pt x="0" y="0"/>
                  </a:moveTo>
                  <a:lnTo>
                    <a:pt x="131" y="83"/>
                  </a:lnTo>
                  <a:lnTo>
                    <a:pt x="287" y="189"/>
                  </a:lnTo>
                  <a:lnTo>
                    <a:pt x="428" y="293"/>
                  </a:lnTo>
                  <a:lnTo>
                    <a:pt x="608" y="434"/>
                  </a:lnTo>
                  <a:lnTo>
                    <a:pt x="783" y="581"/>
                  </a:lnTo>
                  <a:lnTo>
                    <a:pt x="924" y="712"/>
                  </a:lnTo>
                  <a:lnTo>
                    <a:pt x="1016" y="858"/>
                  </a:lnTo>
                  <a:lnTo>
                    <a:pt x="1026" y="985"/>
                  </a:lnTo>
                  <a:lnTo>
                    <a:pt x="1041" y="1126"/>
                  </a:lnTo>
                  <a:lnTo>
                    <a:pt x="1022" y="1258"/>
                  </a:lnTo>
                  <a:lnTo>
                    <a:pt x="983" y="1399"/>
                  </a:lnTo>
                  <a:lnTo>
                    <a:pt x="948" y="1544"/>
                  </a:lnTo>
                  <a:lnTo>
                    <a:pt x="909" y="1687"/>
                  </a:lnTo>
                  <a:lnTo>
                    <a:pt x="870" y="1820"/>
                  </a:lnTo>
                  <a:lnTo>
                    <a:pt x="812" y="1930"/>
                  </a:lnTo>
                  <a:lnTo>
                    <a:pt x="740" y="2051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93000" y="1665360"/>
              <a:ext cx="187200" cy="3444840"/>
            </a:xfrm>
            <a:custGeom>
              <a:avLst/>
              <a:gdLst/>
              <a:ahLst/>
              <a:rect l="l" t="t" r="r" b="b"/>
              <a:pathLst>
                <a:path w="118" h="2170">
                  <a:moveTo>
                    <a:pt x="98" y="0"/>
                  </a:moveTo>
                  <a:lnTo>
                    <a:pt x="104" y="64"/>
                  </a:lnTo>
                  <a:lnTo>
                    <a:pt x="108" y="166"/>
                  </a:lnTo>
                  <a:lnTo>
                    <a:pt x="108" y="288"/>
                  </a:lnTo>
                  <a:lnTo>
                    <a:pt x="113" y="405"/>
                  </a:lnTo>
                  <a:lnTo>
                    <a:pt x="117" y="526"/>
                  </a:lnTo>
                  <a:lnTo>
                    <a:pt x="117" y="655"/>
                  </a:lnTo>
                  <a:lnTo>
                    <a:pt x="117" y="809"/>
                  </a:lnTo>
                  <a:lnTo>
                    <a:pt x="117" y="961"/>
                  </a:lnTo>
                  <a:lnTo>
                    <a:pt x="113" y="1069"/>
                  </a:lnTo>
                  <a:lnTo>
                    <a:pt x="108" y="1210"/>
                  </a:lnTo>
                  <a:lnTo>
                    <a:pt x="89" y="1340"/>
                  </a:lnTo>
                  <a:lnTo>
                    <a:pt x="84" y="1487"/>
                  </a:lnTo>
                  <a:lnTo>
                    <a:pt x="69" y="1637"/>
                  </a:lnTo>
                  <a:lnTo>
                    <a:pt x="54" y="1772"/>
                  </a:lnTo>
                  <a:lnTo>
                    <a:pt x="50" y="1901"/>
                  </a:lnTo>
                  <a:lnTo>
                    <a:pt x="30" y="2046"/>
                  </a:lnTo>
                  <a:lnTo>
                    <a:pt x="0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64280" y="1650960"/>
              <a:ext cx="357120" cy="3452760"/>
            </a:xfrm>
            <a:custGeom>
              <a:avLst/>
              <a:gdLst/>
              <a:ahLst/>
              <a:rect l="l" t="t" r="r" b="b"/>
              <a:pathLst>
                <a:path w="225" h="2175">
                  <a:moveTo>
                    <a:pt x="78" y="0"/>
                  </a:moveTo>
                  <a:lnTo>
                    <a:pt x="98" y="58"/>
                  </a:lnTo>
                  <a:lnTo>
                    <a:pt x="122" y="160"/>
                  </a:lnTo>
                  <a:lnTo>
                    <a:pt x="150" y="282"/>
                  </a:lnTo>
                  <a:lnTo>
                    <a:pt x="165" y="390"/>
                  </a:lnTo>
                  <a:lnTo>
                    <a:pt x="185" y="520"/>
                  </a:lnTo>
                  <a:lnTo>
                    <a:pt x="204" y="658"/>
                  </a:lnTo>
                  <a:lnTo>
                    <a:pt x="219" y="814"/>
                  </a:lnTo>
                  <a:lnTo>
                    <a:pt x="224" y="950"/>
                  </a:lnTo>
                  <a:lnTo>
                    <a:pt x="219" y="1091"/>
                  </a:lnTo>
                  <a:lnTo>
                    <a:pt x="200" y="1228"/>
                  </a:lnTo>
                  <a:lnTo>
                    <a:pt x="185" y="1364"/>
                  </a:lnTo>
                  <a:lnTo>
                    <a:pt x="165" y="1500"/>
                  </a:lnTo>
                  <a:lnTo>
                    <a:pt x="135" y="1646"/>
                  </a:lnTo>
                  <a:lnTo>
                    <a:pt x="107" y="1785"/>
                  </a:lnTo>
                  <a:lnTo>
                    <a:pt x="78" y="1914"/>
                  </a:lnTo>
                  <a:lnTo>
                    <a:pt x="44" y="2051"/>
                  </a:lnTo>
                  <a:lnTo>
                    <a:pt x="0" y="2174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10360" y="1646280"/>
              <a:ext cx="496800" cy="3459240"/>
            </a:xfrm>
            <a:custGeom>
              <a:avLst/>
              <a:gdLst/>
              <a:ahLst/>
              <a:rect l="l" t="t" r="r" b="b"/>
              <a:pathLst>
                <a:path w="313" h="2179">
                  <a:moveTo>
                    <a:pt x="78" y="0"/>
                  </a:moveTo>
                  <a:lnTo>
                    <a:pt x="112" y="73"/>
                  </a:lnTo>
                  <a:lnTo>
                    <a:pt x="156" y="160"/>
                  </a:lnTo>
                  <a:lnTo>
                    <a:pt x="204" y="282"/>
                  </a:lnTo>
                  <a:lnTo>
                    <a:pt x="243" y="409"/>
                  </a:lnTo>
                  <a:lnTo>
                    <a:pt x="267" y="535"/>
                  </a:lnTo>
                  <a:lnTo>
                    <a:pt x="286" y="663"/>
                  </a:lnTo>
                  <a:lnTo>
                    <a:pt x="306" y="824"/>
                  </a:lnTo>
                  <a:lnTo>
                    <a:pt x="312" y="959"/>
                  </a:lnTo>
                  <a:lnTo>
                    <a:pt x="312" y="1102"/>
                  </a:lnTo>
                  <a:lnTo>
                    <a:pt x="301" y="1228"/>
                  </a:lnTo>
                  <a:lnTo>
                    <a:pt x="282" y="1360"/>
                  </a:lnTo>
                  <a:lnTo>
                    <a:pt x="253" y="1496"/>
                  </a:lnTo>
                  <a:lnTo>
                    <a:pt x="214" y="1646"/>
                  </a:lnTo>
                  <a:lnTo>
                    <a:pt x="171" y="1791"/>
                  </a:lnTo>
                  <a:lnTo>
                    <a:pt x="132" y="1914"/>
                  </a:lnTo>
                  <a:lnTo>
                    <a:pt x="78" y="2046"/>
                  </a:lnTo>
                  <a:lnTo>
                    <a:pt x="0" y="2178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9800" y="1636560"/>
              <a:ext cx="617760" cy="3429000"/>
            </a:xfrm>
            <a:custGeom>
              <a:avLst/>
              <a:gdLst/>
              <a:ahLst/>
              <a:rect l="l" t="t" r="r" b="b"/>
              <a:pathLst>
                <a:path w="389" h="2160">
                  <a:moveTo>
                    <a:pt x="28" y="0"/>
                  </a:moveTo>
                  <a:lnTo>
                    <a:pt x="87" y="72"/>
                  </a:lnTo>
                  <a:lnTo>
                    <a:pt x="154" y="180"/>
                  </a:lnTo>
                  <a:lnTo>
                    <a:pt x="204" y="262"/>
                  </a:lnTo>
                  <a:lnTo>
                    <a:pt x="252" y="369"/>
                  </a:lnTo>
                  <a:lnTo>
                    <a:pt x="306" y="505"/>
                  </a:lnTo>
                  <a:lnTo>
                    <a:pt x="340" y="663"/>
                  </a:lnTo>
                  <a:lnTo>
                    <a:pt x="369" y="833"/>
                  </a:lnTo>
                  <a:lnTo>
                    <a:pt x="384" y="964"/>
                  </a:lnTo>
                  <a:lnTo>
                    <a:pt x="388" y="1096"/>
                  </a:lnTo>
                  <a:lnTo>
                    <a:pt x="364" y="1241"/>
                  </a:lnTo>
                  <a:lnTo>
                    <a:pt x="345" y="1369"/>
                  </a:lnTo>
                  <a:lnTo>
                    <a:pt x="306" y="1509"/>
                  </a:lnTo>
                  <a:lnTo>
                    <a:pt x="252" y="1646"/>
                  </a:lnTo>
                  <a:lnTo>
                    <a:pt x="198" y="1794"/>
                  </a:lnTo>
                  <a:lnTo>
                    <a:pt x="141" y="1919"/>
                  </a:lnTo>
                  <a:lnTo>
                    <a:pt x="72" y="2036"/>
                  </a:lnTo>
                  <a:lnTo>
                    <a:pt x="0" y="215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96120" y="1638360"/>
              <a:ext cx="750960" cy="3398760"/>
            </a:xfrm>
            <a:custGeom>
              <a:avLst/>
              <a:gdLst/>
              <a:ahLst/>
              <a:rect l="l" t="t" r="r" b="b"/>
              <a:pathLst>
                <a:path w="473" h="2141">
                  <a:moveTo>
                    <a:pt x="9" y="0"/>
                  </a:moveTo>
                  <a:lnTo>
                    <a:pt x="78" y="72"/>
                  </a:lnTo>
                  <a:lnTo>
                    <a:pt x="156" y="170"/>
                  </a:lnTo>
                  <a:lnTo>
                    <a:pt x="219" y="278"/>
                  </a:lnTo>
                  <a:lnTo>
                    <a:pt x="277" y="375"/>
                  </a:lnTo>
                  <a:lnTo>
                    <a:pt x="345" y="512"/>
                  </a:lnTo>
                  <a:lnTo>
                    <a:pt x="399" y="659"/>
                  </a:lnTo>
                  <a:lnTo>
                    <a:pt x="453" y="834"/>
                  </a:lnTo>
                  <a:lnTo>
                    <a:pt x="466" y="964"/>
                  </a:lnTo>
                  <a:lnTo>
                    <a:pt x="472" y="1092"/>
                  </a:lnTo>
                  <a:lnTo>
                    <a:pt x="453" y="1228"/>
                  </a:lnTo>
                  <a:lnTo>
                    <a:pt x="418" y="1365"/>
                  </a:lnTo>
                  <a:lnTo>
                    <a:pt x="364" y="1520"/>
                  </a:lnTo>
                  <a:lnTo>
                    <a:pt x="292" y="1667"/>
                  </a:lnTo>
                  <a:lnTo>
                    <a:pt x="228" y="1801"/>
                  </a:lnTo>
                  <a:lnTo>
                    <a:pt x="150" y="1934"/>
                  </a:lnTo>
                  <a:lnTo>
                    <a:pt x="73" y="2051"/>
                  </a:lnTo>
                  <a:lnTo>
                    <a:pt x="0" y="214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4520" y="1638360"/>
              <a:ext cx="896760" cy="2068560"/>
            </a:xfrm>
            <a:custGeom>
              <a:avLst/>
              <a:gdLst/>
              <a:ahLst/>
              <a:rect l="l" t="t" r="r" b="b"/>
              <a:pathLst>
                <a:path w="565" h="1303">
                  <a:moveTo>
                    <a:pt x="0" y="0"/>
                  </a:moveTo>
                  <a:lnTo>
                    <a:pt x="107" y="98"/>
                  </a:lnTo>
                  <a:lnTo>
                    <a:pt x="195" y="194"/>
                  </a:lnTo>
                  <a:lnTo>
                    <a:pt x="282" y="287"/>
                  </a:lnTo>
                  <a:lnTo>
                    <a:pt x="371" y="399"/>
                  </a:lnTo>
                  <a:lnTo>
                    <a:pt x="438" y="525"/>
                  </a:lnTo>
                  <a:lnTo>
                    <a:pt x="497" y="659"/>
                  </a:lnTo>
                  <a:lnTo>
                    <a:pt x="545" y="834"/>
                  </a:lnTo>
                  <a:lnTo>
                    <a:pt x="564" y="970"/>
                  </a:lnTo>
                  <a:lnTo>
                    <a:pt x="560" y="1101"/>
                  </a:lnTo>
                  <a:lnTo>
                    <a:pt x="536" y="1302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43720" y="1641600"/>
              <a:ext cx="1849320" cy="3429000"/>
            </a:xfrm>
            <a:custGeom>
              <a:avLst/>
              <a:gdLst/>
              <a:ahLst/>
              <a:rect l="l" t="t" r="r" b="b"/>
              <a:pathLst>
                <a:path w="1165" h="2160">
                  <a:moveTo>
                    <a:pt x="0" y="0"/>
                  </a:moveTo>
                  <a:lnTo>
                    <a:pt x="106" y="72"/>
                  </a:lnTo>
                  <a:lnTo>
                    <a:pt x="199" y="150"/>
                  </a:lnTo>
                  <a:lnTo>
                    <a:pt x="330" y="286"/>
                  </a:lnTo>
                  <a:lnTo>
                    <a:pt x="423" y="408"/>
                  </a:lnTo>
                  <a:lnTo>
                    <a:pt x="510" y="540"/>
                  </a:lnTo>
                  <a:lnTo>
                    <a:pt x="573" y="682"/>
                  </a:lnTo>
                  <a:lnTo>
                    <a:pt x="622" y="823"/>
                  </a:lnTo>
                  <a:lnTo>
                    <a:pt x="651" y="965"/>
                  </a:lnTo>
                  <a:lnTo>
                    <a:pt x="655" y="1087"/>
                  </a:lnTo>
                  <a:lnTo>
                    <a:pt x="667" y="1223"/>
                  </a:lnTo>
                  <a:lnTo>
                    <a:pt x="696" y="1360"/>
                  </a:lnTo>
                  <a:lnTo>
                    <a:pt x="745" y="1505"/>
                  </a:lnTo>
                  <a:lnTo>
                    <a:pt x="817" y="1650"/>
                  </a:lnTo>
                  <a:lnTo>
                    <a:pt x="882" y="1785"/>
                  </a:lnTo>
                  <a:lnTo>
                    <a:pt x="958" y="1904"/>
                  </a:lnTo>
                  <a:lnTo>
                    <a:pt x="1056" y="2040"/>
                  </a:lnTo>
                  <a:lnTo>
                    <a:pt x="1164" y="215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4960" y="1646280"/>
              <a:ext cx="1849320" cy="3438360"/>
            </a:xfrm>
            <a:custGeom>
              <a:avLst/>
              <a:gdLst/>
              <a:ahLst/>
              <a:rect l="l" t="t" r="r" b="b"/>
              <a:pathLst>
                <a:path w="1165" h="2166">
                  <a:moveTo>
                    <a:pt x="0" y="0"/>
                  </a:moveTo>
                  <a:lnTo>
                    <a:pt x="152" y="93"/>
                  </a:lnTo>
                  <a:lnTo>
                    <a:pt x="263" y="189"/>
                  </a:lnTo>
                  <a:lnTo>
                    <a:pt x="395" y="321"/>
                  </a:lnTo>
                  <a:lnTo>
                    <a:pt x="486" y="433"/>
                  </a:lnTo>
                  <a:lnTo>
                    <a:pt x="579" y="571"/>
                  </a:lnTo>
                  <a:lnTo>
                    <a:pt x="644" y="708"/>
                  </a:lnTo>
                  <a:lnTo>
                    <a:pt x="693" y="848"/>
                  </a:lnTo>
                  <a:lnTo>
                    <a:pt x="722" y="989"/>
                  </a:lnTo>
                  <a:lnTo>
                    <a:pt x="726" y="1111"/>
                  </a:lnTo>
                  <a:lnTo>
                    <a:pt x="737" y="1247"/>
                  </a:lnTo>
                  <a:lnTo>
                    <a:pt x="765" y="1384"/>
                  </a:lnTo>
                  <a:lnTo>
                    <a:pt x="815" y="1529"/>
                  </a:lnTo>
                  <a:lnTo>
                    <a:pt x="858" y="1652"/>
                  </a:lnTo>
                  <a:lnTo>
                    <a:pt x="917" y="1785"/>
                  </a:lnTo>
                  <a:lnTo>
                    <a:pt x="969" y="1910"/>
                  </a:lnTo>
                  <a:lnTo>
                    <a:pt x="1043" y="2021"/>
                  </a:lnTo>
                  <a:lnTo>
                    <a:pt x="1164" y="216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8560" y="1700280"/>
              <a:ext cx="1452600" cy="3422520"/>
            </a:xfrm>
            <a:custGeom>
              <a:avLst/>
              <a:gdLst/>
              <a:ahLst/>
              <a:rect l="l" t="t" r="r" b="b"/>
              <a:pathLst>
                <a:path w="915" h="2156">
                  <a:moveTo>
                    <a:pt x="914" y="0"/>
                  </a:moveTo>
                  <a:lnTo>
                    <a:pt x="812" y="107"/>
                  </a:lnTo>
                  <a:lnTo>
                    <a:pt x="700" y="248"/>
                  </a:lnTo>
                  <a:lnTo>
                    <a:pt x="618" y="369"/>
                  </a:lnTo>
                  <a:lnTo>
                    <a:pt x="535" y="512"/>
                  </a:lnTo>
                  <a:lnTo>
                    <a:pt x="472" y="639"/>
                  </a:lnTo>
                  <a:lnTo>
                    <a:pt x="399" y="784"/>
                  </a:lnTo>
                  <a:lnTo>
                    <a:pt x="355" y="925"/>
                  </a:lnTo>
                  <a:lnTo>
                    <a:pt x="340" y="1048"/>
                  </a:lnTo>
                  <a:lnTo>
                    <a:pt x="316" y="1189"/>
                  </a:lnTo>
                  <a:lnTo>
                    <a:pt x="297" y="1330"/>
                  </a:lnTo>
                  <a:lnTo>
                    <a:pt x="258" y="1475"/>
                  </a:lnTo>
                  <a:lnTo>
                    <a:pt x="225" y="1612"/>
                  </a:lnTo>
                  <a:lnTo>
                    <a:pt x="186" y="1754"/>
                  </a:lnTo>
                  <a:lnTo>
                    <a:pt x="151" y="1879"/>
                  </a:lnTo>
                  <a:lnTo>
                    <a:pt x="103" y="1978"/>
                  </a:lnTo>
                  <a:lnTo>
                    <a:pt x="54" y="2060"/>
                  </a:lnTo>
                  <a:lnTo>
                    <a:pt x="0" y="215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0960" y="1655640"/>
              <a:ext cx="833400" cy="1990800"/>
            </a:xfrm>
            <a:custGeom>
              <a:avLst/>
              <a:gdLst/>
              <a:ahLst/>
              <a:rect l="l" t="t" r="r" b="b"/>
              <a:pathLst>
                <a:path w="525" h="1254">
                  <a:moveTo>
                    <a:pt x="524" y="0"/>
                  </a:moveTo>
                  <a:lnTo>
                    <a:pt x="389" y="160"/>
                  </a:lnTo>
                  <a:lnTo>
                    <a:pt x="301" y="282"/>
                  </a:lnTo>
                  <a:lnTo>
                    <a:pt x="243" y="394"/>
                  </a:lnTo>
                  <a:lnTo>
                    <a:pt x="171" y="531"/>
                  </a:lnTo>
                  <a:lnTo>
                    <a:pt x="106" y="678"/>
                  </a:lnTo>
                  <a:lnTo>
                    <a:pt x="54" y="814"/>
                  </a:lnTo>
                  <a:lnTo>
                    <a:pt x="15" y="956"/>
                  </a:lnTo>
                  <a:lnTo>
                    <a:pt x="4" y="1063"/>
                  </a:lnTo>
                  <a:lnTo>
                    <a:pt x="0" y="125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9560" y="1650960"/>
              <a:ext cx="681120" cy="3444840"/>
            </a:xfrm>
            <a:custGeom>
              <a:avLst/>
              <a:gdLst/>
              <a:ahLst/>
              <a:rect l="l" t="t" r="r" b="b"/>
              <a:pathLst>
                <a:path w="429" h="2170">
                  <a:moveTo>
                    <a:pt x="428" y="0"/>
                  </a:moveTo>
                  <a:lnTo>
                    <a:pt x="383" y="58"/>
                  </a:lnTo>
                  <a:lnTo>
                    <a:pt x="311" y="160"/>
                  </a:lnTo>
                  <a:lnTo>
                    <a:pt x="238" y="277"/>
                  </a:lnTo>
                  <a:lnTo>
                    <a:pt x="175" y="403"/>
                  </a:lnTo>
                  <a:lnTo>
                    <a:pt x="121" y="541"/>
                  </a:lnTo>
                  <a:lnTo>
                    <a:pt x="73" y="684"/>
                  </a:lnTo>
                  <a:lnTo>
                    <a:pt x="30" y="814"/>
                  </a:lnTo>
                  <a:lnTo>
                    <a:pt x="10" y="941"/>
                  </a:lnTo>
                  <a:lnTo>
                    <a:pt x="0" y="1082"/>
                  </a:lnTo>
                  <a:lnTo>
                    <a:pt x="6" y="1219"/>
                  </a:lnTo>
                  <a:lnTo>
                    <a:pt x="19" y="1349"/>
                  </a:lnTo>
                  <a:lnTo>
                    <a:pt x="54" y="1505"/>
                  </a:lnTo>
                  <a:lnTo>
                    <a:pt x="88" y="1641"/>
                  </a:lnTo>
                  <a:lnTo>
                    <a:pt x="121" y="1796"/>
                  </a:lnTo>
                  <a:lnTo>
                    <a:pt x="175" y="1919"/>
                  </a:lnTo>
                  <a:lnTo>
                    <a:pt x="214" y="2016"/>
                  </a:lnTo>
                  <a:lnTo>
                    <a:pt x="292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7000" y="1650960"/>
              <a:ext cx="543240" cy="3444840"/>
            </a:xfrm>
            <a:custGeom>
              <a:avLst/>
              <a:gdLst/>
              <a:ahLst/>
              <a:rect l="l" t="t" r="r" b="b"/>
              <a:pathLst>
                <a:path w="342" h="2170">
                  <a:moveTo>
                    <a:pt x="341" y="0"/>
                  </a:moveTo>
                  <a:lnTo>
                    <a:pt x="302" y="58"/>
                  </a:lnTo>
                  <a:lnTo>
                    <a:pt x="243" y="160"/>
                  </a:lnTo>
                  <a:lnTo>
                    <a:pt x="171" y="292"/>
                  </a:lnTo>
                  <a:lnTo>
                    <a:pt x="132" y="409"/>
                  </a:lnTo>
                  <a:lnTo>
                    <a:pt x="93" y="547"/>
                  </a:lnTo>
                  <a:lnTo>
                    <a:pt x="54" y="669"/>
                  </a:lnTo>
                  <a:lnTo>
                    <a:pt x="30" y="800"/>
                  </a:lnTo>
                  <a:lnTo>
                    <a:pt x="11" y="935"/>
                  </a:lnTo>
                  <a:lnTo>
                    <a:pt x="0" y="1082"/>
                  </a:lnTo>
                  <a:lnTo>
                    <a:pt x="0" y="1208"/>
                  </a:lnTo>
                  <a:lnTo>
                    <a:pt x="15" y="1355"/>
                  </a:lnTo>
                  <a:lnTo>
                    <a:pt x="39" y="1505"/>
                  </a:lnTo>
                  <a:lnTo>
                    <a:pt x="63" y="1641"/>
                  </a:lnTo>
                  <a:lnTo>
                    <a:pt x="78" y="1785"/>
                  </a:lnTo>
                  <a:lnTo>
                    <a:pt x="113" y="1905"/>
                  </a:lnTo>
                  <a:lnTo>
                    <a:pt x="146" y="2016"/>
                  </a:lnTo>
                  <a:lnTo>
                    <a:pt x="191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0920" y="1660680"/>
              <a:ext cx="357120" cy="3438360"/>
            </a:xfrm>
            <a:custGeom>
              <a:avLst/>
              <a:gdLst/>
              <a:ahLst/>
              <a:rect l="l" t="t" r="r" b="b"/>
              <a:pathLst>
                <a:path w="225" h="2166">
                  <a:moveTo>
                    <a:pt x="224" y="0"/>
                  </a:moveTo>
                  <a:lnTo>
                    <a:pt x="191" y="58"/>
                  </a:lnTo>
                  <a:lnTo>
                    <a:pt x="152" y="166"/>
                  </a:lnTo>
                  <a:lnTo>
                    <a:pt x="113" y="283"/>
                  </a:lnTo>
                  <a:lnTo>
                    <a:pt x="89" y="394"/>
                  </a:lnTo>
                  <a:lnTo>
                    <a:pt x="63" y="543"/>
                  </a:lnTo>
                  <a:lnTo>
                    <a:pt x="44" y="688"/>
                  </a:lnTo>
                  <a:lnTo>
                    <a:pt x="30" y="796"/>
                  </a:lnTo>
                  <a:lnTo>
                    <a:pt x="15" y="932"/>
                  </a:lnTo>
                  <a:lnTo>
                    <a:pt x="0" y="1078"/>
                  </a:lnTo>
                  <a:lnTo>
                    <a:pt x="0" y="1219"/>
                  </a:lnTo>
                  <a:lnTo>
                    <a:pt x="0" y="1346"/>
                  </a:lnTo>
                  <a:lnTo>
                    <a:pt x="11" y="1481"/>
                  </a:lnTo>
                  <a:lnTo>
                    <a:pt x="20" y="1632"/>
                  </a:lnTo>
                  <a:lnTo>
                    <a:pt x="35" y="1767"/>
                  </a:lnTo>
                  <a:lnTo>
                    <a:pt x="59" y="1910"/>
                  </a:lnTo>
                  <a:lnTo>
                    <a:pt x="69" y="2012"/>
                  </a:lnTo>
                  <a:lnTo>
                    <a:pt x="83" y="216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24600" y="1657440"/>
              <a:ext cx="211320" cy="3462120"/>
            </a:xfrm>
            <a:custGeom>
              <a:avLst/>
              <a:gdLst/>
              <a:ahLst/>
              <a:rect l="l" t="t" r="r" b="b"/>
              <a:pathLst>
                <a:path w="133" h="2181">
                  <a:moveTo>
                    <a:pt x="132" y="0"/>
                  </a:moveTo>
                  <a:lnTo>
                    <a:pt x="108" y="69"/>
                  </a:lnTo>
                  <a:lnTo>
                    <a:pt x="78" y="171"/>
                  </a:lnTo>
                  <a:lnTo>
                    <a:pt x="58" y="288"/>
                  </a:lnTo>
                  <a:lnTo>
                    <a:pt x="49" y="395"/>
                  </a:lnTo>
                  <a:lnTo>
                    <a:pt x="49" y="527"/>
                  </a:lnTo>
                  <a:lnTo>
                    <a:pt x="39" y="660"/>
                  </a:lnTo>
                  <a:lnTo>
                    <a:pt x="39" y="796"/>
                  </a:lnTo>
                  <a:lnTo>
                    <a:pt x="34" y="922"/>
                  </a:lnTo>
                  <a:lnTo>
                    <a:pt x="30" y="1063"/>
                  </a:lnTo>
                  <a:lnTo>
                    <a:pt x="25" y="1215"/>
                  </a:lnTo>
                  <a:lnTo>
                    <a:pt x="15" y="1351"/>
                  </a:lnTo>
                  <a:lnTo>
                    <a:pt x="15" y="1492"/>
                  </a:lnTo>
                  <a:lnTo>
                    <a:pt x="15" y="1637"/>
                  </a:lnTo>
                  <a:lnTo>
                    <a:pt x="10" y="1777"/>
                  </a:lnTo>
                  <a:lnTo>
                    <a:pt x="15" y="1901"/>
                  </a:lnTo>
                  <a:lnTo>
                    <a:pt x="10" y="2023"/>
                  </a:lnTo>
                  <a:lnTo>
                    <a:pt x="0" y="218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69120" y="4684680"/>
              <a:ext cx="13413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83240" y="4854600"/>
              <a:ext cx="1071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7840" y="1662120"/>
              <a:ext cx="665280" cy="3424320"/>
            </a:xfrm>
            <a:custGeom>
              <a:avLst/>
              <a:gdLst/>
              <a:ahLst/>
              <a:rect l="l" t="t" r="r" b="b"/>
              <a:pathLst>
                <a:path w="419" h="2157">
                  <a:moveTo>
                    <a:pt x="0" y="0"/>
                  </a:moveTo>
                  <a:lnTo>
                    <a:pt x="15" y="54"/>
                  </a:lnTo>
                  <a:lnTo>
                    <a:pt x="34" y="167"/>
                  </a:lnTo>
                  <a:lnTo>
                    <a:pt x="49" y="284"/>
                  </a:lnTo>
                  <a:lnTo>
                    <a:pt x="78" y="440"/>
                  </a:lnTo>
                  <a:lnTo>
                    <a:pt x="93" y="665"/>
                  </a:lnTo>
                  <a:lnTo>
                    <a:pt x="103" y="801"/>
                  </a:lnTo>
                  <a:lnTo>
                    <a:pt x="109" y="933"/>
                  </a:lnTo>
                  <a:lnTo>
                    <a:pt x="114" y="1063"/>
                  </a:lnTo>
                  <a:lnTo>
                    <a:pt x="123" y="1204"/>
                  </a:lnTo>
                  <a:lnTo>
                    <a:pt x="139" y="1342"/>
                  </a:lnTo>
                  <a:lnTo>
                    <a:pt x="163" y="1484"/>
                  </a:lnTo>
                  <a:lnTo>
                    <a:pt x="202" y="1634"/>
                  </a:lnTo>
                  <a:lnTo>
                    <a:pt x="237" y="1783"/>
                  </a:lnTo>
                  <a:lnTo>
                    <a:pt x="276" y="1900"/>
                  </a:lnTo>
                  <a:lnTo>
                    <a:pt x="331" y="2011"/>
                  </a:lnTo>
                  <a:lnTo>
                    <a:pt x="418" y="2156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6640" y="1665360"/>
              <a:ext cx="736560" cy="3462120"/>
            </a:xfrm>
            <a:custGeom>
              <a:avLst/>
              <a:gdLst/>
              <a:ahLst/>
              <a:rect l="l" t="t" r="r" b="b"/>
              <a:pathLst>
                <a:path w="464" h="2181">
                  <a:moveTo>
                    <a:pt x="0" y="0"/>
                  </a:moveTo>
                  <a:lnTo>
                    <a:pt x="49" y="78"/>
                  </a:lnTo>
                  <a:lnTo>
                    <a:pt x="90" y="151"/>
                  </a:lnTo>
                  <a:lnTo>
                    <a:pt x="129" y="268"/>
                  </a:lnTo>
                  <a:lnTo>
                    <a:pt x="192" y="526"/>
                  </a:lnTo>
                  <a:lnTo>
                    <a:pt x="205" y="655"/>
                  </a:lnTo>
                  <a:lnTo>
                    <a:pt x="220" y="796"/>
                  </a:lnTo>
                  <a:lnTo>
                    <a:pt x="235" y="941"/>
                  </a:lnTo>
                  <a:lnTo>
                    <a:pt x="244" y="1078"/>
                  </a:lnTo>
                  <a:lnTo>
                    <a:pt x="244" y="1199"/>
                  </a:lnTo>
                  <a:lnTo>
                    <a:pt x="259" y="1343"/>
                  </a:lnTo>
                  <a:lnTo>
                    <a:pt x="274" y="1493"/>
                  </a:lnTo>
                  <a:lnTo>
                    <a:pt x="298" y="1634"/>
                  </a:lnTo>
                  <a:lnTo>
                    <a:pt x="318" y="1763"/>
                  </a:lnTo>
                  <a:lnTo>
                    <a:pt x="346" y="1904"/>
                  </a:lnTo>
                  <a:lnTo>
                    <a:pt x="385" y="2006"/>
                  </a:lnTo>
                  <a:lnTo>
                    <a:pt x="463" y="218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17920" y="1674720"/>
              <a:ext cx="730440" cy="3444840"/>
            </a:xfrm>
            <a:custGeom>
              <a:avLst/>
              <a:gdLst/>
              <a:ahLst/>
              <a:rect l="l" t="t" r="r" b="b"/>
              <a:pathLst>
                <a:path w="460" h="2170">
                  <a:moveTo>
                    <a:pt x="0" y="0"/>
                  </a:moveTo>
                  <a:lnTo>
                    <a:pt x="60" y="87"/>
                  </a:lnTo>
                  <a:lnTo>
                    <a:pt x="118" y="180"/>
                  </a:lnTo>
                  <a:lnTo>
                    <a:pt x="168" y="286"/>
                  </a:lnTo>
                  <a:lnTo>
                    <a:pt x="211" y="384"/>
                  </a:lnTo>
                  <a:lnTo>
                    <a:pt x="246" y="505"/>
                  </a:lnTo>
                  <a:lnTo>
                    <a:pt x="285" y="678"/>
                  </a:lnTo>
                  <a:lnTo>
                    <a:pt x="309" y="814"/>
                  </a:lnTo>
                  <a:lnTo>
                    <a:pt x="328" y="916"/>
                  </a:lnTo>
                  <a:lnTo>
                    <a:pt x="348" y="1072"/>
                  </a:lnTo>
                  <a:lnTo>
                    <a:pt x="348" y="1199"/>
                  </a:lnTo>
                  <a:lnTo>
                    <a:pt x="342" y="1355"/>
                  </a:lnTo>
                  <a:lnTo>
                    <a:pt x="352" y="1487"/>
                  </a:lnTo>
                  <a:lnTo>
                    <a:pt x="352" y="1623"/>
                  </a:lnTo>
                  <a:lnTo>
                    <a:pt x="361" y="1761"/>
                  </a:lnTo>
                  <a:lnTo>
                    <a:pt x="376" y="1887"/>
                  </a:lnTo>
                  <a:lnTo>
                    <a:pt x="400" y="2000"/>
                  </a:lnTo>
                  <a:lnTo>
                    <a:pt x="426" y="2090"/>
                  </a:lnTo>
                  <a:lnTo>
                    <a:pt x="459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75160" y="1679400"/>
              <a:ext cx="712800" cy="3445200"/>
            </a:xfrm>
            <a:custGeom>
              <a:avLst/>
              <a:gdLst/>
              <a:ahLst/>
              <a:rect l="l" t="t" r="r" b="b"/>
              <a:pathLst>
                <a:path w="449" h="2170">
                  <a:moveTo>
                    <a:pt x="0" y="0"/>
                  </a:moveTo>
                  <a:lnTo>
                    <a:pt x="69" y="67"/>
                  </a:lnTo>
                  <a:lnTo>
                    <a:pt x="127" y="141"/>
                  </a:lnTo>
                  <a:lnTo>
                    <a:pt x="204" y="258"/>
                  </a:lnTo>
                  <a:lnTo>
                    <a:pt x="258" y="379"/>
                  </a:lnTo>
                  <a:lnTo>
                    <a:pt x="316" y="516"/>
                  </a:lnTo>
                  <a:lnTo>
                    <a:pt x="364" y="654"/>
                  </a:lnTo>
                  <a:lnTo>
                    <a:pt x="399" y="799"/>
                  </a:lnTo>
                  <a:lnTo>
                    <a:pt x="423" y="931"/>
                  </a:lnTo>
                  <a:lnTo>
                    <a:pt x="433" y="1063"/>
                  </a:lnTo>
                  <a:lnTo>
                    <a:pt x="433" y="1189"/>
                  </a:lnTo>
                  <a:lnTo>
                    <a:pt x="433" y="1346"/>
                  </a:lnTo>
                  <a:lnTo>
                    <a:pt x="433" y="1478"/>
                  </a:lnTo>
                  <a:lnTo>
                    <a:pt x="429" y="1623"/>
                  </a:lnTo>
                  <a:lnTo>
                    <a:pt x="423" y="1766"/>
                  </a:lnTo>
                  <a:lnTo>
                    <a:pt x="429" y="1878"/>
                  </a:lnTo>
                  <a:lnTo>
                    <a:pt x="429" y="1991"/>
                  </a:lnTo>
                  <a:lnTo>
                    <a:pt x="433" y="2079"/>
                  </a:lnTo>
                  <a:lnTo>
                    <a:pt x="448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7320" y="1689120"/>
              <a:ext cx="825480" cy="3444840"/>
            </a:xfrm>
            <a:custGeom>
              <a:avLst/>
              <a:gdLst/>
              <a:ahLst/>
              <a:rect l="l" t="t" r="r" b="b"/>
              <a:pathLst>
                <a:path w="520" h="2170">
                  <a:moveTo>
                    <a:pt x="0" y="0"/>
                  </a:moveTo>
                  <a:lnTo>
                    <a:pt x="72" y="63"/>
                  </a:lnTo>
                  <a:lnTo>
                    <a:pt x="125" y="127"/>
                  </a:lnTo>
                  <a:lnTo>
                    <a:pt x="231" y="268"/>
                  </a:lnTo>
                  <a:lnTo>
                    <a:pt x="294" y="366"/>
                  </a:lnTo>
                  <a:lnTo>
                    <a:pt x="365" y="507"/>
                  </a:lnTo>
                  <a:lnTo>
                    <a:pt x="428" y="654"/>
                  </a:lnTo>
                  <a:lnTo>
                    <a:pt x="482" y="800"/>
                  </a:lnTo>
                  <a:lnTo>
                    <a:pt x="512" y="937"/>
                  </a:lnTo>
                  <a:lnTo>
                    <a:pt x="519" y="1054"/>
                  </a:lnTo>
                  <a:lnTo>
                    <a:pt x="519" y="1190"/>
                  </a:lnTo>
                  <a:lnTo>
                    <a:pt x="516" y="1318"/>
                  </a:lnTo>
                  <a:lnTo>
                    <a:pt x="497" y="1473"/>
                  </a:lnTo>
                  <a:lnTo>
                    <a:pt x="482" y="1599"/>
                  </a:lnTo>
                  <a:lnTo>
                    <a:pt x="467" y="1752"/>
                  </a:lnTo>
                  <a:lnTo>
                    <a:pt x="453" y="1884"/>
                  </a:lnTo>
                  <a:lnTo>
                    <a:pt x="443" y="1986"/>
                  </a:lnTo>
                  <a:lnTo>
                    <a:pt x="428" y="2085"/>
                  </a:lnTo>
                  <a:lnTo>
                    <a:pt x="414" y="2169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81120" y="1641600"/>
              <a:ext cx="8012160" cy="3501720"/>
              <a:chOff x="681120" y="1641600"/>
              <a:chExt cx="8012160" cy="3501720"/>
            </a:xfrm>
          </p:grpSpPr>
          <p:sp>
            <p:nvSpPr>
              <p:cNvPr id="128" name=""/>
              <p:cNvSpPr/>
              <p:nvPr/>
            </p:nvSpPr>
            <p:spPr>
              <a:xfrm>
                <a:off x="681120" y="1641600"/>
                <a:ext cx="8012160" cy="3501720"/>
              </a:xfrm>
              <a:custGeom>
                <a:avLst/>
                <a:gdLst/>
                <a:ahLst/>
                <a:rect l="l" t="t" r="r" b="b"/>
                <a:pathLst>
                  <a:path w="5047" h="2206">
                    <a:moveTo>
                      <a:pt x="1908" y="325"/>
                    </a:moveTo>
                    <a:lnTo>
                      <a:pt x="1815" y="234"/>
                    </a:lnTo>
                    <a:lnTo>
                      <a:pt x="1718" y="160"/>
                    </a:lnTo>
                    <a:lnTo>
                      <a:pt x="1592" y="97"/>
                    </a:lnTo>
                    <a:lnTo>
                      <a:pt x="1455" y="52"/>
                    </a:lnTo>
                    <a:lnTo>
                      <a:pt x="1329" y="28"/>
                    </a:lnTo>
                    <a:lnTo>
                      <a:pt x="1191" y="13"/>
                    </a:lnTo>
                    <a:lnTo>
                      <a:pt x="1074" y="13"/>
                    </a:lnTo>
                    <a:lnTo>
                      <a:pt x="948" y="24"/>
                    </a:lnTo>
                    <a:lnTo>
                      <a:pt x="797" y="67"/>
                    </a:lnTo>
                    <a:lnTo>
                      <a:pt x="675" y="141"/>
                    </a:lnTo>
                    <a:lnTo>
                      <a:pt x="569" y="219"/>
                    </a:lnTo>
                    <a:lnTo>
                      <a:pt x="476" y="297"/>
                    </a:lnTo>
                    <a:lnTo>
                      <a:pt x="378" y="388"/>
                    </a:lnTo>
                    <a:lnTo>
                      <a:pt x="287" y="492"/>
                    </a:lnTo>
                    <a:lnTo>
                      <a:pt x="212" y="591"/>
                    </a:lnTo>
                    <a:lnTo>
                      <a:pt x="143" y="684"/>
                    </a:lnTo>
                    <a:lnTo>
                      <a:pt x="86" y="772"/>
                    </a:lnTo>
                    <a:lnTo>
                      <a:pt x="44" y="853"/>
                    </a:lnTo>
                    <a:lnTo>
                      <a:pt x="14" y="940"/>
                    </a:lnTo>
                    <a:lnTo>
                      <a:pt x="0" y="1057"/>
                    </a:lnTo>
                    <a:lnTo>
                      <a:pt x="0" y="1177"/>
                    </a:lnTo>
                    <a:lnTo>
                      <a:pt x="8" y="1292"/>
                    </a:lnTo>
                    <a:lnTo>
                      <a:pt x="23" y="1399"/>
                    </a:lnTo>
                    <a:lnTo>
                      <a:pt x="38" y="1518"/>
                    </a:lnTo>
                    <a:lnTo>
                      <a:pt x="57" y="1662"/>
                    </a:lnTo>
                    <a:lnTo>
                      <a:pt x="84" y="1805"/>
                    </a:lnTo>
                    <a:lnTo>
                      <a:pt x="116" y="1932"/>
                    </a:lnTo>
                    <a:lnTo>
                      <a:pt x="150" y="2022"/>
                    </a:lnTo>
                    <a:lnTo>
                      <a:pt x="192" y="2091"/>
                    </a:lnTo>
                    <a:lnTo>
                      <a:pt x="242" y="2154"/>
                    </a:lnTo>
                    <a:lnTo>
                      <a:pt x="296" y="2195"/>
                    </a:lnTo>
                    <a:lnTo>
                      <a:pt x="344" y="2198"/>
                    </a:lnTo>
                    <a:lnTo>
                      <a:pt x="437" y="2183"/>
                    </a:lnTo>
                    <a:lnTo>
                      <a:pt x="537" y="2148"/>
                    </a:lnTo>
                    <a:lnTo>
                      <a:pt x="630" y="2105"/>
                    </a:lnTo>
                    <a:lnTo>
                      <a:pt x="698" y="2052"/>
                    </a:lnTo>
                    <a:lnTo>
                      <a:pt x="782" y="1973"/>
                    </a:lnTo>
                    <a:lnTo>
                      <a:pt x="857" y="1877"/>
                    </a:lnTo>
                    <a:lnTo>
                      <a:pt x="929" y="1748"/>
                    </a:lnTo>
                    <a:lnTo>
                      <a:pt x="1002" y="1611"/>
                    </a:lnTo>
                    <a:lnTo>
                      <a:pt x="1062" y="1488"/>
                    </a:lnTo>
                    <a:lnTo>
                      <a:pt x="1104" y="1382"/>
                    </a:lnTo>
                    <a:lnTo>
                      <a:pt x="1131" y="1297"/>
                    </a:lnTo>
                    <a:lnTo>
                      <a:pt x="1143" y="1223"/>
                    </a:lnTo>
                    <a:lnTo>
                      <a:pt x="1167" y="1411"/>
                    </a:lnTo>
                    <a:lnTo>
                      <a:pt x="1230" y="1622"/>
                    </a:lnTo>
                    <a:lnTo>
                      <a:pt x="1310" y="1857"/>
                    </a:lnTo>
                    <a:lnTo>
                      <a:pt x="1368" y="1967"/>
                    </a:lnTo>
                    <a:lnTo>
                      <a:pt x="1431" y="2061"/>
                    </a:lnTo>
                    <a:lnTo>
                      <a:pt x="1529" y="2150"/>
                    </a:lnTo>
                    <a:lnTo>
                      <a:pt x="1640" y="2198"/>
                    </a:lnTo>
                    <a:lnTo>
                      <a:pt x="1733" y="2205"/>
                    </a:lnTo>
                    <a:lnTo>
                      <a:pt x="1826" y="2189"/>
                    </a:lnTo>
                    <a:lnTo>
                      <a:pt x="1898" y="2139"/>
                    </a:lnTo>
                    <a:lnTo>
                      <a:pt x="1980" y="2042"/>
                    </a:lnTo>
                    <a:lnTo>
                      <a:pt x="2049" y="1905"/>
                    </a:lnTo>
                    <a:lnTo>
                      <a:pt x="2136" y="1686"/>
                    </a:lnTo>
                    <a:lnTo>
                      <a:pt x="2214" y="1471"/>
                    </a:lnTo>
                    <a:lnTo>
                      <a:pt x="2258" y="1256"/>
                    </a:lnTo>
                    <a:lnTo>
                      <a:pt x="2282" y="1454"/>
                    </a:lnTo>
                    <a:lnTo>
                      <a:pt x="2340" y="1646"/>
                    </a:lnTo>
                    <a:lnTo>
                      <a:pt x="2394" y="1794"/>
                    </a:lnTo>
                    <a:lnTo>
                      <a:pt x="2453" y="1923"/>
                    </a:lnTo>
                    <a:lnTo>
                      <a:pt x="2526" y="2033"/>
                    </a:lnTo>
                    <a:lnTo>
                      <a:pt x="2589" y="2118"/>
                    </a:lnTo>
                    <a:lnTo>
                      <a:pt x="2680" y="2174"/>
                    </a:lnTo>
                    <a:lnTo>
                      <a:pt x="2802" y="2193"/>
                    </a:lnTo>
                    <a:lnTo>
                      <a:pt x="2925" y="2183"/>
                    </a:lnTo>
                    <a:lnTo>
                      <a:pt x="3031" y="2148"/>
                    </a:lnTo>
                    <a:lnTo>
                      <a:pt x="3123" y="2091"/>
                    </a:lnTo>
                    <a:lnTo>
                      <a:pt x="3216" y="2007"/>
                    </a:lnTo>
                    <a:lnTo>
                      <a:pt x="3309" y="1889"/>
                    </a:lnTo>
                    <a:lnTo>
                      <a:pt x="3396" y="1764"/>
                    </a:lnTo>
                    <a:lnTo>
                      <a:pt x="3469" y="1644"/>
                    </a:lnTo>
                    <a:lnTo>
                      <a:pt x="3532" y="1533"/>
                    </a:lnTo>
                    <a:lnTo>
                      <a:pt x="3576" y="1427"/>
                    </a:lnTo>
                    <a:lnTo>
                      <a:pt x="3615" y="1291"/>
                    </a:lnTo>
                    <a:lnTo>
                      <a:pt x="3678" y="1432"/>
                    </a:lnTo>
                    <a:lnTo>
                      <a:pt x="3741" y="1577"/>
                    </a:lnTo>
                    <a:lnTo>
                      <a:pt x="3820" y="1716"/>
                    </a:lnTo>
                    <a:lnTo>
                      <a:pt x="3879" y="1821"/>
                    </a:lnTo>
                    <a:lnTo>
                      <a:pt x="3967" y="1935"/>
                    </a:lnTo>
                    <a:lnTo>
                      <a:pt x="4074" y="2040"/>
                    </a:lnTo>
                    <a:lnTo>
                      <a:pt x="4191" y="2124"/>
                    </a:lnTo>
                    <a:lnTo>
                      <a:pt x="4327" y="2172"/>
                    </a:lnTo>
                    <a:lnTo>
                      <a:pt x="4477" y="2198"/>
                    </a:lnTo>
                    <a:lnTo>
                      <a:pt x="4590" y="2163"/>
                    </a:lnTo>
                    <a:lnTo>
                      <a:pt x="4681" y="2100"/>
                    </a:lnTo>
                    <a:lnTo>
                      <a:pt x="4771" y="1977"/>
                    </a:lnTo>
                    <a:lnTo>
                      <a:pt x="4852" y="1847"/>
                    </a:lnTo>
                    <a:lnTo>
                      <a:pt x="4911" y="1701"/>
                    </a:lnTo>
                    <a:lnTo>
                      <a:pt x="4969" y="1529"/>
                    </a:lnTo>
                    <a:lnTo>
                      <a:pt x="5014" y="1376"/>
                    </a:lnTo>
                    <a:lnTo>
                      <a:pt x="5037" y="1243"/>
                    </a:lnTo>
                    <a:lnTo>
                      <a:pt x="5046" y="1087"/>
                    </a:lnTo>
                    <a:lnTo>
                      <a:pt x="5026" y="970"/>
                    </a:lnTo>
                    <a:lnTo>
                      <a:pt x="4924" y="818"/>
                    </a:lnTo>
                    <a:lnTo>
                      <a:pt x="4779" y="678"/>
                    </a:lnTo>
                    <a:lnTo>
                      <a:pt x="4590" y="535"/>
                    </a:lnTo>
                    <a:lnTo>
                      <a:pt x="4453" y="442"/>
                    </a:lnTo>
                    <a:lnTo>
                      <a:pt x="4599" y="442"/>
                    </a:lnTo>
                    <a:lnTo>
                      <a:pt x="4507" y="355"/>
                    </a:lnTo>
                    <a:lnTo>
                      <a:pt x="4360" y="271"/>
                    </a:lnTo>
                    <a:lnTo>
                      <a:pt x="4173" y="195"/>
                    </a:lnTo>
                    <a:lnTo>
                      <a:pt x="3981" y="130"/>
                    </a:lnTo>
                    <a:lnTo>
                      <a:pt x="3798" y="82"/>
                    </a:lnTo>
                    <a:lnTo>
                      <a:pt x="3606" y="43"/>
                    </a:lnTo>
                    <a:lnTo>
                      <a:pt x="3417" y="13"/>
                    </a:lnTo>
                    <a:lnTo>
                      <a:pt x="3181" y="0"/>
                    </a:lnTo>
                    <a:lnTo>
                      <a:pt x="2973" y="0"/>
                    </a:lnTo>
                    <a:lnTo>
                      <a:pt x="2782" y="9"/>
                    </a:lnTo>
                    <a:lnTo>
                      <a:pt x="2652" y="43"/>
                    </a:lnTo>
                    <a:lnTo>
                      <a:pt x="2535" y="97"/>
                    </a:lnTo>
                    <a:lnTo>
                      <a:pt x="2433" y="169"/>
                    </a:lnTo>
                    <a:lnTo>
                      <a:pt x="2331" y="258"/>
                    </a:lnTo>
                    <a:lnTo>
                      <a:pt x="2273" y="336"/>
                    </a:lnTo>
                    <a:lnTo>
                      <a:pt x="2360" y="336"/>
                    </a:lnTo>
                    <a:lnTo>
                      <a:pt x="2297" y="399"/>
                    </a:lnTo>
                    <a:lnTo>
                      <a:pt x="2234" y="481"/>
                    </a:lnTo>
                    <a:lnTo>
                      <a:pt x="2166" y="580"/>
                    </a:lnTo>
                    <a:lnTo>
                      <a:pt x="2097" y="687"/>
                    </a:lnTo>
                    <a:lnTo>
                      <a:pt x="2039" y="814"/>
                    </a:lnTo>
                    <a:lnTo>
                      <a:pt x="1991" y="979"/>
                    </a:lnTo>
                    <a:lnTo>
                      <a:pt x="1941" y="809"/>
                    </a:lnTo>
                    <a:lnTo>
                      <a:pt x="1889" y="687"/>
                    </a:lnTo>
                    <a:lnTo>
                      <a:pt x="1820" y="552"/>
                    </a:lnTo>
                    <a:lnTo>
                      <a:pt x="1752" y="438"/>
                    </a:lnTo>
                    <a:lnTo>
                      <a:pt x="1659" y="325"/>
                    </a:lnTo>
                    <a:lnTo>
                      <a:pt x="1908" y="325"/>
                    </a:lnTo>
                  </a:path>
                </a:pathLst>
              </a:custGeom>
              <a:noFill/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20960" y="5002200"/>
                <a:ext cx="62532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852840" y="4684680"/>
                <a:ext cx="3074760" cy="169920"/>
                <a:chOff x="852840" y="4684680"/>
                <a:chExt cx="3074760" cy="1699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852840" y="4684680"/>
                  <a:ext cx="114768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20880" y="4854600"/>
                  <a:ext cx="91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06920" y="4684680"/>
                  <a:ext cx="112068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924280" y="4854600"/>
                  <a:ext cx="92412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3048120" y="5002200"/>
              <a:ext cx="676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0280" y="3805200"/>
              <a:ext cx="20732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30800" y="4027320"/>
              <a:ext cx="19670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6480" y="4270320"/>
              <a:ext cx="1766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1880" y="4489560"/>
              <a:ext cx="1542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912960" y="1647720"/>
              <a:ext cx="7740720" cy="3484800"/>
              <a:chOff x="912960" y="1647720"/>
              <a:chExt cx="7740720" cy="3484800"/>
            </a:xfrm>
          </p:grpSpPr>
          <p:sp>
            <p:nvSpPr>
              <p:cNvPr id="141" name=""/>
              <p:cNvSpPr/>
              <p:nvPr/>
            </p:nvSpPr>
            <p:spPr>
              <a:xfrm>
                <a:off x="912960" y="1681200"/>
                <a:ext cx="1236600" cy="3398760"/>
              </a:xfrm>
              <a:custGeom>
                <a:avLst/>
                <a:gdLst/>
                <a:ahLst/>
                <a:rect l="l" t="t" r="r" b="b"/>
                <a:pathLst>
                  <a:path w="779" h="2141">
                    <a:moveTo>
                      <a:pt x="778" y="0"/>
                    </a:moveTo>
                    <a:lnTo>
                      <a:pt x="681" y="54"/>
                    </a:lnTo>
                    <a:lnTo>
                      <a:pt x="540" y="146"/>
                    </a:lnTo>
                    <a:lnTo>
                      <a:pt x="423" y="249"/>
                    </a:lnTo>
                    <a:lnTo>
                      <a:pt x="325" y="366"/>
                    </a:lnTo>
                    <a:lnTo>
                      <a:pt x="232" y="501"/>
                    </a:lnTo>
                    <a:lnTo>
                      <a:pt x="136" y="650"/>
                    </a:lnTo>
                    <a:lnTo>
                      <a:pt x="72" y="781"/>
                    </a:lnTo>
                    <a:lnTo>
                      <a:pt x="15" y="922"/>
                    </a:lnTo>
                    <a:lnTo>
                      <a:pt x="0" y="1048"/>
                    </a:lnTo>
                    <a:lnTo>
                      <a:pt x="0" y="1189"/>
                    </a:lnTo>
                    <a:lnTo>
                      <a:pt x="4" y="1321"/>
                    </a:lnTo>
                    <a:lnTo>
                      <a:pt x="15" y="1472"/>
                    </a:lnTo>
                    <a:lnTo>
                      <a:pt x="28" y="1627"/>
                    </a:lnTo>
                    <a:lnTo>
                      <a:pt x="43" y="1766"/>
                    </a:lnTo>
                    <a:lnTo>
                      <a:pt x="52" y="1886"/>
                    </a:lnTo>
                    <a:lnTo>
                      <a:pt x="72" y="1988"/>
                    </a:lnTo>
                    <a:lnTo>
                      <a:pt x="121" y="2140"/>
                    </a:lnTo>
                  </a:path>
                </a:pathLst>
              </a:custGeom>
              <a:noFill/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9080" y="1670040"/>
                <a:ext cx="1673280" cy="3444840"/>
              </a:xfrm>
              <a:custGeom>
                <a:avLst/>
                <a:gdLst/>
                <a:ahLst/>
                <a:rect l="l" t="t" r="r" b="b"/>
                <a:pathLst>
                  <a:path w="1054" h="2170">
                    <a:moveTo>
                      <a:pt x="0" y="0"/>
                    </a:moveTo>
                    <a:lnTo>
                      <a:pt x="171" y="91"/>
                    </a:lnTo>
                    <a:lnTo>
                      <a:pt x="288" y="180"/>
                    </a:lnTo>
                    <a:lnTo>
                      <a:pt x="396" y="267"/>
                    </a:lnTo>
                    <a:lnTo>
                      <a:pt x="489" y="379"/>
                    </a:lnTo>
                    <a:lnTo>
                      <a:pt x="604" y="505"/>
                    </a:lnTo>
                    <a:lnTo>
                      <a:pt x="736" y="663"/>
                    </a:lnTo>
                    <a:lnTo>
                      <a:pt x="838" y="809"/>
                    </a:lnTo>
                    <a:lnTo>
                      <a:pt x="892" y="940"/>
                    </a:lnTo>
                    <a:lnTo>
                      <a:pt x="906" y="1067"/>
                    </a:lnTo>
                    <a:lnTo>
                      <a:pt x="901" y="1204"/>
                    </a:lnTo>
                    <a:lnTo>
                      <a:pt x="912" y="1354"/>
                    </a:lnTo>
                    <a:lnTo>
                      <a:pt x="925" y="1494"/>
                    </a:lnTo>
                    <a:lnTo>
                      <a:pt x="936" y="1622"/>
                    </a:lnTo>
                    <a:lnTo>
                      <a:pt x="955" y="1776"/>
                    </a:lnTo>
                    <a:lnTo>
                      <a:pt x="970" y="1908"/>
                    </a:lnTo>
                    <a:lnTo>
                      <a:pt x="1003" y="2049"/>
                    </a:lnTo>
                    <a:lnTo>
                      <a:pt x="1053" y="2169"/>
                    </a:lnTo>
                  </a:path>
                </a:pathLst>
              </a:custGeom>
              <a:noFill/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8920" y="1762200"/>
                <a:ext cx="173700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882040" y="1647720"/>
                <a:ext cx="2771640" cy="3484800"/>
                <a:chOff x="5882040" y="1647720"/>
                <a:chExt cx="2771640" cy="34848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882040" y="1647720"/>
                  <a:ext cx="1873080" cy="3484800"/>
                </a:xfrm>
                <a:custGeom>
                  <a:avLst/>
                  <a:gdLst/>
                  <a:ahLst/>
                  <a:rect l="l" t="t" r="r" b="b"/>
                  <a:pathLst>
                    <a:path w="1180" h="2195">
                      <a:moveTo>
                        <a:pt x="0" y="0"/>
                      </a:moveTo>
                      <a:lnTo>
                        <a:pt x="145" y="93"/>
                      </a:lnTo>
                      <a:lnTo>
                        <a:pt x="277" y="195"/>
                      </a:lnTo>
                      <a:lnTo>
                        <a:pt x="379" y="282"/>
                      </a:lnTo>
                      <a:lnTo>
                        <a:pt x="486" y="404"/>
                      </a:lnTo>
                      <a:lnTo>
                        <a:pt x="585" y="536"/>
                      </a:lnTo>
                      <a:lnTo>
                        <a:pt x="673" y="669"/>
                      </a:lnTo>
                      <a:lnTo>
                        <a:pt x="736" y="814"/>
                      </a:lnTo>
                      <a:lnTo>
                        <a:pt x="775" y="951"/>
                      </a:lnTo>
                      <a:lnTo>
                        <a:pt x="789" y="1078"/>
                      </a:lnTo>
                      <a:lnTo>
                        <a:pt x="795" y="1219"/>
                      </a:lnTo>
                      <a:lnTo>
                        <a:pt x="819" y="1360"/>
                      </a:lnTo>
                      <a:lnTo>
                        <a:pt x="843" y="1496"/>
                      </a:lnTo>
                      <a:lnTo>
                        <a:pt x="877" y="1633"/>
                      </a:lnTo>
                      <a:lnTo>
                        <a:pt x="921" y="1792"/>
                      </a:lnTo>
                      <a:lnTo>
                        <a:pt x="975" y="1910"/>
                      </a:lnTo>
                      <a:lnTo>
                        <a:pt x="1062" y="2047"/>
                      </a:lnTo>
                      <a:lnTo>
                        <a:pt x="1179" y="2194"/>
                      </a:lnTo>
                    </a:path>
                  </a:pathLst>
                </a:custGeom>
                <a:noFill/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12000" y="1670040"/>
                  <a:ext cx="1787760" cy="3459240"/>
                </a:xfrm>
                <a:custGeom>
                  <a:avLst/>
                  <a:gdLst/>
                  <a:ahLst/>
                  <a:rect l="l" t="t" r="r" b="b"/>
                  <a:pathLst>
                    <a:path w="1126" h="2179">
                      <a:moveTo>
                        <a:pt x="0" y="0"/>
                      </a:moveTo>
                      <a:lnTo>
                        <a:pt x="171" y="102"/>
                      </a:lnTo>
                      <a:lnTo>
                        <a:pt x="302" y="193"/>
                      </a:lnTo>
                      <a:lnTo>
                        <a:pt x="399" y="282"/>
                      </a:lnTo>
                      <a:lnTo>
                        <a:pt x="489" y="384"/>
                      </a:lnTo>
                      <a:lnTo>
                        <a:pt x="585" y="505"/>
                      </a:lnTo>
                      <a:lnTo>
                        <a:pt x="702" y="663"/>
                      </a:lnTo>
                      <a:lnTo>
                        <a:pt x="785" y="803"/>
                      </a:lnTo>
                      <a:lnTo>
                        <a:pt x="839" y="950"/>
                      </a:lnTo>
                      <a:lnTo>
                        <a:pt x="843" y="1081"/>
                      </a:lnTo>
                      <a:lnTo>
                        <a:pt x="849" y="1204"/>
                      </a:lnTo>
                      <a:lnTo>
                        <a:pt x="863" y="1325"/>
                      </a:lnTo>
                      <a:lnTo>
                        <a:pt x="878" y="1466"/>
                      </a:lnTo>
                      <a:lnTo>
                        <a:pt x="906" y="1626"/>
                      </a:lnTo>
                      <a:lnTo>
                        <a:pt x="936" y="1766"/>
                      </a:lnTo>
                      <a:lnTo>
                        <a:pt x="965" y="1884"/>
                      </a:lnTo>
                      <a:lnTo>
                        <a:pt x="1014" y="2006"/>
                      </a:lnTo>
                      <a:lnTo>
                        <a:pt x="1125" y="2178"/>
                      </a:lnTo>
                    </a:path>
                  </a:pathLst>
                </a:custGeom>
                <a:noFill/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88480" y="1689120"/>
                  <a:ext cx="1539720" cy="3430440"/>
                </a:xfrm>
                <a:custGeom>
                  <a:avLst/>
                  <a:gdLst/>
                  <a:ahLst/>
                  <a:rect l="l" t="t" r="r" b="b"/>
                  <a:pathLst>
                    <a:path w="970" h="2161">
                      <a:moveTo>
                        <a:pt x="0" y="0"/>
                      </a:moveTo>
                      <a:lnTo>
                        <a:pt x="137" y="73"/>
                      </a:lnTo>
                      <a:lnTo>
                        <a:pt x="239" y="141"/>
                      </a:lnTo>
                      <a:lnTo>
                        <a:pt x="347" y="234"/>
                      </a:lnTo>
                      <a:lnTo>
                        <a:pt x="473" y="351"/>
                      </a:lnTo>
                      <a:lnTo>
                        <a:pt x="620" y="502"/>
                      </a:lnTo>
                      <a:lnTo>
                        <a:pt x="761" y="645"/>
                      </a:lnTo>
                      <a:lnTo>
                        <a:pt x="867" y="785"/>
                      </a:lnTo>
                      <a:lnTo>
                        <a:pt x="936" y="931"/>
                      </a:lnTo>
                      <a:lnTo>
                        <a:pt x="945" y="1058"/>
                      </a:lnTo>
                      <a:lnTo>
                        <a:pt x="956" y="1195"/>
                      </a:lnTo>
                      <a:lnTo>
                        <a:pt x="956" y="1325"/>
                      </a:lnTo>
                      <a:lnTo>
                        <a:pt x="956" y="1476"/>
                      </a:lnTo>
                      <a:lnTo>
                        <a:pt x="956" y="1617"/>
                      </a:lnTo>
                      <a:lnTo>
                        <a:pt x="950" y="1761"/>
                      </a:lnTo>
                      <a:lnTo>
                        <a:pt x="950" y="1886"/>
                      </a:lnTo>
                      <a:lnTo>
                        <a:pt x="965" y="2036"/>
                      </a:lnTo>
                      <a:lnTo>
                        <a:pt x="969" y="2160"/>
                      </a:lnTo>
                    </a:path>
                  </a:pathLst>
                </a:custGeom>
                <a:noFill/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90080" y="3801960"/>
                  <a:ext cx="216360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569280" y="4025880"/>
                  <a:ext cx="200808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693120" y="4265640"/>
                  <a:ext cx="1790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16960" y="4483080"/>
                  <a:ext cx="159048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69240" y="4689360"/>
                  <a:ext cx="134316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128000" y="4859280"/>
                  <a:ext cx="107316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31400" y="5006880"/>
                  <a:ext cx="73800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1066680" y="1752480"/>
            <a:ext cx="7388280" cy="3386160"/>
            <a:chOff x="1066680" y="1752480"/>
            <a:chExt cx="7388280" cy="3386160"/>
          </a:xfrm>
        </p:grpSpPr>
        <p:sp>
          <p:nvSpPr>
            <p:cNvPr id="156" name=""/>
            <p:cNvSpPr/>
            <p:nvPr/>
          </p:nvSpPr>
          <p:spPr>
            <a:xfrm>
              <a:off x="5059080" y="2552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23" y="21"/>
                  </a:lnTo>
                  <a:lnTo>
                    <a:pt x="15" y="23"/>
                  </a:lnTo>
                  <a:lnTo>
                    <a:pt x="0" y="5"/>
                  </a:lnTo>
                  <a:lnTo>
                    <a:pt x="9" y="0"/>
                  </a:lnTo>
                  <a:lnTo>
                    <a:pt x="23" y="2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86868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0505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92480" y="24908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0"/>
                  </a:moveTo>
                  <a:lnTo>
                    <a:pt x="0" y="6"/>
                  </a:lnTo>
                  <a:lnTo>
                    <a:pt x="3" y="33"/>
                  </a:lnTo>
                  <a:lnTo>
                    <a:pt x="17" y="30"/>
                  </a:lnTo>
                  <a:lnTo>
                    <a:pt x="20" y="0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86868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0505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066680" y="1752480"/>
              <a:ext cx="7388280" cy="3386160"/>
              <a:chOff x="1066680" y="1752480"/>
              <a:chExt cx="7388280" cy="33861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348080" y="1757520"/>
                <a:ext cx="4106880" cy="3369960"/>
                <a:chOff x="4348080" y="1757520"/>
                <a:chExt cx="4106880" cy="336996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7172280" y="3438360"/>
                  <a:ext cx="1282680" cy="1689120"/>
                  <a:chOff x="7172280" y="3438360"/>
                  <a:chExt cx="1282680" cy="16891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7172280" y="4807080"/>
                    <a:ext cx="91260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202">
                        <a:moveTo>
                          <a:pt x="54" y="7"/>
                        </a:moveTo>
                        <a:lnTo>
                          <a:pt x="112" y="7"/>
                        </a:lnTo>
                        <a:lnTo>
                          <a:pt x="132" y="9"/>
                        </a:lnTo>
                        <a:lnTo>
                          <a:pt x="154" y="12"/>
                        </a:lnTo>
                        <a:lnTo>
                          <a:pt x="163" y="16"/>
                        </a:lnTo>
                        <a:lnTo>
                          <a:pt x="172" y="10"/>
                        </a:lnTo>
                        <a:lnTo>
                          <a:pt x="184" y="6"/>
                        </a:lnTo>
                        <a:lnTo>
                          <a:pt x="193" y="3"/>
                        </a:lnTo>
                        <a:lnTo>
                          <a:pt x="207" y="1"/>
                        </a:lnTo>
                        <a:lnTo>
                          <a:pt x="214" y="1"/>
                        </a:lnTo>
                        <a:lnTo>
                          <a:pt x="220" y="1"/>
                        </a:lnTo>
                        <a:lnTo>
                          <a:pt x="228" y="0"/>
                        </a:lnTo>
                        <a:lnTo>
                          <a:pt x="241" y="10"/>
                        </a:lnTo>
                        <a:lnTo>
                          <a:pt x="246" y="10"/>
                        </a:lnTo>
                        <a:lnTo>
                          <a:pt x="250" y="16"/>
                        </a:lnTo>
                        <a:lnTo>
                          <a:pt x="253" y="18"/>
                        </a:lnTo>
                        <a:lnTo>
                          <a:pt x="265" y="16"/>
                        </a:lnTo>
                        <a:lnTo>
                          <a:pt x="274" y="16"/>
                        </a:lnTo>
                        <a:lnTo>
                          <a:pt x="285" y="16"/>
                        </a:lnTo>
                        <a:lnTo>
                          <a:pt x="291" y="16"/>
                        </a:lnTo>
                        <a:lnTo>
                          <a:pt x="300" y="16"/>
                        </a:lnTo>
                        <a:lnTo>
                          <a:pt x="306" y="10"/>
                        </a:lnTo>
                        <a:lnTo>
                          <a:pt x="312" y="7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31" y="4"/>
                        </a:lnTo>
                        <a:lnTo>
                          <a:pt x="343" y="7"/>
                        </a:lnTo>
                        <a:lnTo>
                          <a:pt x="354" y="9"/>
                        </a:lnTo>
                        <a:lnTo>
                          <a:pt x="366" y="10"/>
                        </a:lnTo>
                        <a:lnTo>
                          <a:pt x="387" y="13"/>
                        </a:lnTo>
                        <a:lnTo>
                          <a:pt x="412" y="21"/>
                        </a:lnTo>
                        <a:lnTo>
                          <a:pt x="421" y="22"/>
                        </a:lnTo>
                        <a:lnTo>
                          <a:pt x="433" y="25"/>
                        </a:lnTo>
                        <a:lnTo>
                          <a:pt x="445" y="27"/>
                        </a:lnTo>
                        <a:lnTo>
                          <a:pt x="454" y="31"/>
                        </a:lnTo>
                        <a:lnTo>
                          <a:pt x="460" y="33"/>
                        </a:lnTo>
                        <a:lnTo>
                          <a:pt x="474" y="30"/>
                        </a:lnTo>
                        <a:lnTo>
                          <a:pt x="480" y="25"/>
                        </a:lnTo>
                        <a:lnTo>
                          <a:pt x="490" y="25"/>
                        </a:lnTo>
                        <a:lnTo>
                          <a:pt x="502" y="30"/>
                        </a:lnTo>
                        <a:lnTo>
                          <a:pt x="507" y="31"/>
                        </a:lnTo>
                        <a:lnTo>
                          <a:pt x="519" y="33"/>
                        </a:lnTo>
                        <a:lnTo>
                          <a:pt x="523" y="36"/>
                        </a:lnTo>
                        <a:lnTo>
                          <a:pt x="531" y="39"/>
                        </a:lnTo>
                        <a:lnTo>
                          <a:pt x="541" y="45"/>
                        </a:lnTo>
                        <a:lnTo>
                          <a:pt x="549" y="46"/>
                        </a:lnTo>
                        <a:lnTo>
                          <a:pt x="555" y="51"/>
                        </a:lnTo>
                        <a:lnTo>
                          <a:pt x="562" y="55"/>
                        </a:lnTo>
                        <a:lnTo>
                          <a:pt x="567" y="58"/>
                        </a:lnTo>
                        <a:lnTo>
                          <a:pt x="571" y="64"/>
                        </a:lnTo>
                        <a:lnTo>
                          <a:pt x="571" y="69"/>
                        </a:lnTo>
                        <a:lnTo>
                          <a:pt x="574" y="73"/>
                        </a:lnTo>
                        <a:lnTo>
                          <a:pt x="567" y="79"/>
                        </a:lnTo>
                        <a:lnTo>
                          <a:pt x="556" y="82"/>
                        </a:lnTo>
                        <a:lnTo>
                          <a:pt x="546" y="91"/>
                        </a:lnTo>
                        <a:lnTo>
                          <a:pt x="532" y="93"/>
                        </a:lnTo>
                        <a:lnTo>
                          <a:pt x="523" y="100"/>
                        </a:lnTo>
                        <a:lnTo>
                          <a:pt x="519" y="106"/>
                        </a:lnTo>
                        <a:lnTo>
                          <a:pt x="514" y="111"/>
                        </a:lnTo>
                        <a:lnTo>
                          <a:pt x="523" y="115"/>
                        </a:lnTo>
                        <a:lnTo>
                          <a:pt x="523" y="120"/>
                        </a:lnTo>
                        <a:lnTo>
                          <a:pt x="513" y="126"/>
                        </a:lnTo>
                        <a:lnTo>
                          <a:pt x="505" y="132"/>
                        </a:lnTo>
                        <a:lnTo>
                          <a:pt x="499" y="138"/>
                        </a:lnTo>
                        <a:lnTo>
                          <a:pt x="493" y="139"/>
                        </a:lnTo>
                        <a:lnTo>
                          <a:pt x="489" y="139"/>
                        </a:lnTo>
                        <a:lnTo>
                          <a:pt x="477" y="142"/>
                        </a:lnTo>
                        <a:lnTo>
                          <a:pt x="472" y="151"/>
                        </a:lnTo>
                        <a:lnTo>
                          <a:pt x="465" y="157"/>
                        </a:lnTo>
                        <a:lnTo>
                          <a:pt x="504" y="163"/>
                        </a:lnTo>
                        <a:lnTo>
                          <a:pt x="499" y="169"/>
                        </a:lnTo>
                        <a:lnTo>
                          <a:pt x="481" y="174"/>
                        </a:lnTo>
                        <a:lnTo>
                          <a:pt x="456" y="171"/>
                        </a:lnTo>
                        <a:lnTo>
                          <a:pt x="435" y="174"/>
                        </a:lnTo>
                        <a:lnTo>
                          <a:pt x="415" y="180"/>
                        </a:lnTo>
                        <a:lnTo>
                          <a:pt x="406" y="187"/>
                        </a:lnTo>
                        <a:lnTo>
                          <a:pt x="403" y="199"/>
                        </a:lnTo>
                        <a:lnTo>
                          <a:pt x="384" y="201"/>
                        </a:lnTo>
                        <a:lnTo>
                          <a:pt x="364" y="198"/>
                        </a:lnTo>
                        <a:lnTo>
                          <a:pt x="334" y="195"/>
                        </a:lnTo>
                        <a:lnTo>
                          <a:pt x="321" y="190"/>
                        </a:lnTo>
                        <a:lnTo>
                          <a:pt x="298" y="186"/>
                        </a:lnTo>
                        <a:lnTo>
                          <a:pt x="282" y="183"/>
                        </a:lnTo>
                        <a:lnTo>
                          <a:pt x="264" y="180"/>
                        </a:lnTo>
                        <a:lnTo>
                          <a:pt x="241" y="177"/>
                        </a:lnTo>
                        <a:lnTo>
                          <a:pt x="226" y="169"/>
                        </a:lnTo>
                        <a:lnTo>
                          <a:pt x="213" y="166"/>
                        </a:lnTo>
                        <a:lnTo>
                          <a:pt x="208" y="165"/>
                        </a:lnTo>
                        <a:lnTo>
                          <a:pt x="184" y="159"/>
                        </a:lnTo>
                        <a:lnTo>
                          <a:pt x="160" y="148"/>
                        </a:lnTo>
                        <a:lnTo>
                          <a:pt x="139" y="141"/>
                        </a:lnTo>
                        <a:lnTo>
                          <a:pt x="129" y="135"/>
                        </a:lnTo>
                        <a:lnTo>
                          <a:pt x="114" y="129"/>
                        </a:lnTo>
                        <a:lnTo>
                          <a:pt x="102" y="123"/>
                        </a:lnTo>
                        <a:lnTo>
                          <a:pt x="88" y="117"/>
                        </a:lnTo>
                        <a:lnTo>
                          <a:pt x="76" y="109"/>
                        </a:lnTo>
                        <a:lnTo>
                          <a:pt x="66" y="100"/>
                        </a:lnTo>
                        <a:lnTo>
                          <a:pt x="54" y="91"/>
                        </a:lnTo>
                        <a:lnTo>
                          <a:pt x="42" y="84"/>
                        </a:lnTo>
                        <a:lnTo>
                          <a:pt x="27" y="72"/>
                        </a:lnTo>
                        <a:lnTo>
                          <a:pt x="15" y="64"/>
                        </a:lnTo>
                        <a:lnTo>
                          <a:pt x="4" y="57"/>
                        </a:lnTo>
                        <a:lnTo>
                          <a:pt x="0" y="49"/>
                        </a:lnTo>
                        <a:lnTo>
                          <a:pt x="16" y="45"/>
                        </a:lnTo>
                        <a:lnTo>
                          <a:pt x="7" y="28"/>
                        </a:lnTo>
                        <a:lnTo>
                          <a:pt x="30" y="22"/>
                        </a:lnTo>
                        <a:lnTo>
                          <a:pt x="21" y="16"/>
                        </a:lnTo>
                        <a:lnTo>
                          <a:pt x="45" y="13"/>
                        </a:lnTo>
                        <a:lnTo>
                          <a:pt x="54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50160" y="4113360"/>
                    <a:ext cx="604800" cy="290520"/>
                    <a:chOff x="7850160" y="4113360"/>
                    <a:chExt cx="604800" cy="29052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8358120" y="4113360"/>
                      <a:ext cx="9684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12">
                          <a:moveTo>
                            <a:pt x="19" y="2"/>
                          </a:moveTo>
                          <a:lnTo>
                            <a:pt x="25" y="0"/>
                          </a:lnTo>
                          <a:lnTo>
                            <a:pt x="36" y="12"/>
                          </a:lnTo>
                          <a:lnTo>
                            <a:pt x="34" y="47"/>
                          </a:lnTo>
                          <a:lnTo>
                            <a:pt x="42" y="47"/>
                          </a:lnTo>
                          <a:lnTo>
                            <a:pt x="43" y="51"/>
                          </a:lnTo>
                          <a:lnTo>
                            <a:pt x="46" y="59"/>
                          </a:lnTo>
                          <a:lnTo>
                            <a:pt x="48" y="63"/>
                          </a:lnTo>
                          <a:lnTo>
                            <a:pt x="54" y="62"/>
                          </a:lnTo>
                          <a:lnTo>
                            <a:pt x="58" y="54"/>
                          </a:lnTo>
                          <a:lnTo>
                            <a:pt x="60" y="59"/>
                          </a:lnTo>
                          <a:lnTo>
                            <a:pt x="57" y="65"/>
                          </a:lnTo>
                          <a:lnTo>
                            <a:pt x="54" y="69"/>
                          </a:lnTo>
                          <a:lnTo>
                            <a:pt x="52" y="78"/>
                          </a:lnTo>
                          <a:lnTo>
                            <a:pt x="45" y="83"/>
                          </a:lnTo>
                          <a:lnTo>
                            <a:pt x="40" y="84"/>
                          </a:lnTo>
                          <a:lnTo>
                            <a:pt x="34" y="89"/>
                          </a:lnTo>
                          <a:lnTo>
                            <a:pt x="33" y="93"/>
                          </a:lnTo>
                          <a:lnTo>
                            <a:pt x="34" y="98"/>
                          </a:lnTo>
                          <a:lnTo>
                            <a:pt x="36" y="105"/>
                          </a:lnTo>
                          <a:lnTo>
                            <a:pt x="28" y="108"/>
                          </a:lnTo>
                          <a:lnTo>
                            <a:pt x="24" y="110"/>
                          </a:lnTo>
                          <a:lnTo>
                            <a:pt x="19" y="111"/>
                          </a:lnTo>
                          <a:lnTo>
                            <a:pt x="16" y="110"/>
                          </a:lnTo>
                          <a:lnTo>
                            <a:pt x="9" y="108"/>
                          </a:lnTo>
                          <a:lnTo>
                            <a:pt x="6" y="105"/>
                          </a:lnTo>
                          <a:lnTo>
                            <a:pt x="9" y="99"/>
                          </a:lnTo>
                          <a:lnTo>
                            <a:pt x="15" y="98"/>
                          </a:lnTo>
                          <a:lnTo>
                            <a:pt x="19" y="90"/>
                          </a:lnTo>
                          <a:lnTo>
                            <a:pt x="19" y="87"/>
                          </a:lnTo>
                          <a:lnTo>
                            <a:pt x="15" y="84"/>
                          </a:lnTo>
                          <a:lnTo>
                            <a:pt x="9" y="80"/>
                          </a:lnTo>
                          <a:lnTo>
                            <a:pt x="4" y="80"/>
                          </a:lnTo>
                          <a:lnTo>
                            <a:pt x="1" y="78"/>
                          </a:lnTo>
                          <a:lnTo>
                            <a:pt x="0" y="74"/>
                          </a:lnTo>
                          <a:lnTo>
                            <a:pt x="1" y="71"/>
                          </a:lnTo>
                          <a:lnTo>
                            <a:pt x="4" y="71"/>
                          </a:lnTo>
                          <a:lnTo>
                            <a:pt x="9" y="69"/>
                          </a:lnTo>
                          <a:lnTo>
                            <a:pt x="15" y="65"/>
                          </a:lnTo>
                          <a:lnTo>
                            <a:pt x="18" y="63"/>
                          </a:lnTo>
                          <a:lnTo>
                            <a:pt x="21" y="47"/>
                          </a:lnTo>
                          <a:lnTo>
                            <a:pt x="18" y="42"/>
                          </a:lnTo>
                          <a:lnTo>
                            <a:pt x="13" y="39"/>
                          </a:lnTo>
                          <a:lnTo>
                            <a:pt x="12" y="30"/>
                          </a:lnTo>
                          <a:lnTo>
                            <a:pt x="13" y="21"/>
                          </a:lnTo>
                          <a:lnTo>
                            <a:pt x="15" y="15"/>
                          </a:lnTo>
                          <a:lnTo>
                            <a:pt x="19" y="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173800" y="4251240"/>
                      <a:ext cx="17784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96">
                          <a:moveTo>
                            <a:pt x="78" y="0"/>
                          </a:moveTo>
                          <a:lnTo>
                            <a:pt x="92" y="0"/>
                          </a:lnTo>
                          <a:lnTo>
                            <a:pt x="111" y="27"/>
                          </a:lnTo>
                          <a:lnTo>
                            <a:pt x="90" y="48"/>
                          </a:lnTo>
                          <a:lnTo>
                            <a:pt x="90" y="57"/>
                          </a:lnTo>
                          <a:lnTo>
                            <a:pt x="86" y="60"/>
                          </a:lnTo>
                          <a:lnTo>
                            <a:pt x="74" y="60"/>
                          </a:lnTo>
                          <a:lnTo>
                            <a:pt x="59" y="72"/>
                          </a:lnTo>
                          <a:lnTo>
                            <a:pt x="45" y="84"/>
                          </a:lnTo>
                          <a:lnTo>
                            <a:pt x="36" y="95"/>
                          </a:lnTo>
                          <a:lnTo>
                            <a:pt x="36" y="86"/>
                          </a:lnTo>
                          <a:lnTo>
                            <a:pt x="20" y="87"/>
                          </a:lnTo>
                          <a:lnTo>
                            <a:pt x="12" y="87"/>
                          </a:lnTo>
                          <a:lnTo>
                            <a:pt x="0" y="87"/>
                          </a:lnTo>
                          <a:lnTo>
                            <a:pt x="17" y="72"/>
                          </a:lnTo>
                          <a:lnTo>
                            <a:pt x="23" y="65"/>
                          </a:lnTo>
                          <a:lnTo>
                            <a:pt x="29" y="65"/>
                          </a:lnTo>
                          <a:lnTo>
                            <a:pt x="41" y="53"/>
                          </a:lnTo>
                          <a:lnTo>
                            <a:pt x="45" y="53"/>
                          </a:lnTo>
                          <a:lnTo>
                            <a:pt x="45" y="51"/>
                          </a:lnTo>
                          <a:lnTo>
                            <a:pt x="51" y="47"/>
                          </a:lnTo>
                          <a:lnTo>
                            <a:pt x="59" y="47"/>
                          </a:lnTo>
                          <a:lnTo>
                            <a:pt x="56" y="33"/>
                          </a:lnTo>
                          <a:lnTo>
                            <a:pt x="57" y="33"/>
                          </a:lnTo>
                          <a:lnTo>
                            <a:pt x="65" y="26"/>
                          </a:lnTo>
                          <a:lnTo>
                            <a:pt x="68" y="32"/>
                          </a:lnTo>
                          <a:lnTo>
                            <a:pt x="80" y="21"/>
                          </a:lnTo>
                          <a:lnTo>
                            <a:pt x="78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850160" y="4260960"/>
                      <a:ext cx="680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52">
                          <a:moveTo>
                            <a:pt x="0" y="0"/>
                          </a:moveTo>
                          <a:lnTo>
                            <a:pt x="9" y="0"/>
                          </a:lnTo>
                          <a:lnTo>
                            <a:pt x="20" y="6"/>
                          </a:lnTo>
                          <a:lnTo>
                            <a:pt x="42" y="6"/>
                          </a:lnTo>
                          <a:lnTo>
                            <a:pt x="39" y="17"/>
                          </a:lnTo>
                          <a:lnTo>
                            <a:pt x="42" y="26"/>
                          </a:lnTo>
                          <a:lnTo>
                            <a:pt x="35" y="26"/>
                          </a:lnTo>
                          <a:lnTo>
                            <a:pt x="33" y="27"/>
                          </a:lnTo>
                          <a:lnTo>
                            <a:pt x="29" y="29"/>
                          </a:lnTo>
                          <a:lnTo>
                            <a:pt x="33" y="51"/>
                          </a:lnTo>
                          <a:lnTo>
                            <a:pt x="20" y="50"/>
                          </a:lnTo>
                          <a:lnTo>
                            <a:pt x="8" y="42"/>
                          </a:lnTo>
                          <a:lnTo>
                            <a:pt x="8" y="27"/>
                          </a:lnTo>
                          <a:lnTo>
                            <a:pt x="8" y="21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7972200" y="343836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2" y="19"/>
                        </a:moveTo>
                        <a:lnTo>
                          <a:pt x="0" y="42"/>
                        </a:lnTo>
                        <a:lnTo>
                          <a:pt x="4" y="51"/>
                        </a:lnTo>
                        <a:lnTo>
                          <a:pt x="24" y="52"/>
                        </a:lnTo>
                        <a:lnTo>
                          <a:pt x="40" y="52"/>
                        </a:lnTo>
                        <a:lnTo>
                          <a:pt x="46" y="43"/>
                        </a:lnTo>
                        <a:lnTo>
                          <a:pt x="51" y="34"/>
                        </a:lnTo>
                        <a:lnTo>
                          <a:pt x="69" y="34"/>
                        </a:lnTo>
                        <a:lnTo>
                          <a:pt x="66" y="21"/>
                        </a:lnTo>
                        <a:lnTo>
                          <a:pt x="66" y="7"/>
                        </a:lnTo>
                        <a:lnTo>
                          <a:pt x="48" y="0"/>
                        </a:lnTo>
                        <a:lnTo>
                          <a:pt x="45" y="15"/>
                        </a:lnTo>
                        <a:lnTo>
                          <a:pt x="57" y="24"/>
                        </a:lnTo>
                        <a:lnTo>
                          <a:pt x="39" y="24"/>
                        </a:lnTo>
                        <a:lnTo>
                          <a:pt x="33" y="30"/>
                        </a:lnTo>
                        <a:lnTo>
                          <a:pt x="12" y="1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778440" y="2174760"/>
                  <a:ext cx="1276560" cy="2052720"/>
                  <a:chOff x="6778440" y="2174760"/>
                  <a:chExt cx="1276560" cy="2052720"/>
                </a:xfrm>
              </p:grpSpPr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983280" y="2384280"/>
                    <a:ext cx="285840" cy="617760"/>
                    <a:chOff x="6983280" y="2384280"/>
                    <a:chExt cx="285840" cy="61776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983280" y="2938320"/>
                      <a:ext cx="6840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0">
                          <a:moveTo>
                            <a:pt x="0" y="30"/>
                          </a:moveTo>
                          <a:lnTo>
                            <a:pt x="8" y="37"/>
                          </a:lnTo>
                          <a:lnTo>
                            <a:pt x="17" y="36"/>
                          </a:lnTo>
                          <a:lnTo>
                            <a:pt x="30" y="39"/>
                          </a:lnTo>
                          <a:lnTo>
                            <a:pt x="41" y="39"/>
                          </a:lnTo>
                          <a:lnTo>
                            <a:pt x="42" y="25"/>
                          </a:lnTo>
                          <a:lnTo>
                            <a:pt x="39" y="16"/>
                          </a:lnTo>
                          <a:lnTo>
                            <a:pt x="32" y="6"/>
                          </a:lnTo>
                          <a:lnTo>
                            <a:pt x="24" y="6"/>
                          </a:lnTo>
                          <a:lnTo>
                            <a:pt x="21" y="0"/>
                          </a:lnTo>
                          <a:lnTo>
                            <a:pt x="11" y="0"/>
                          </a:lnTo>
                          <a:lnTo>
                            <a:pt x="11" y="12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164360" y="2828880"/>
                      <a:ext cx="66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50">
                          <a:moveTo>
                            <a:pt x="9" y="0"/>
                          </a:moveTo>
                          <a:lnTo>
                            <a:pt x="27" y="1"/>
                          </a:lnTo>
                          <a:lnTo>
                            <a:pt x="33" y="15"/>
                          </a:lnTo>
                          <a:lnTo>
                            <a:pt x="41" y="22"/>
                          </a:lnTo>
                          <a:lnTo>
                            <a:pt x="35" y="28"/>
                          </a:lnTo>
                          <a:lnTo>
                            <a:pt x="41" y="36"/>
                          </a:lnTo>
                          <a:lnTo>
                            <a:pt x="38" y="45"/>
                          </a:lnTo>
                          <a:lnTo>
                            <a:pt x="32" y="49"/>
                          </a:lnTo>
                          <a:lnTo>
                            <a:pt x="20" y="48"/>
                          </a:lnTo>
                          <a:lnTo>
                            <a:pt x="12" y="48"/>
                          </a:lnTo>
                          <a:lnTo>
                            <a:pt x="8" y="42"/>
                          </a:lnTo>
                          <a:lnTo>
                            <a:pt x="3" y="34"/>
                          </a:lnTo>
                          <a:lnTo>
                            <a:pt x="3" y="27"/>
                          </a:lnTo>
                          <a:lnTo>
                            <a:pt x="0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153200" y="2384280"/>
                      <a:ext cx="1159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47">
                          <a:moveTo>
                            <a:pt x="10" y="0"/>
                          </a:moveTo>
                          <a:lnTo>
                            <a:pt x="19" y="7"/>
                          </a:lnTo>
                          <a:lnTo>
                            <a:pt x="28" y="6"/>
                          </a:lnTo>
                          <a:lnTo>
                            <a:pt x="42" y="7"/>
                          </a:lnTo>
                          <a:lnTo>
                            <a:pt x="54" y="7"/>
                          </a:lnTo>
                          <a:lnTo>
                            <a:pt x="60" y="12"/>
                          </a:lnTo>
                          <a:lnTo>
                            <a:pt x="67" y="22"/>
                          </a:lnTo>
                          <a:lnTo>
                            <a:pt x="72" y="27"/>
                          </a:lnTo>
                          <a:lnTo>
                            <a:pt x="55" y="30"/>
                          </a:lnTo>
                          <a:lnTo>
                            <a:pt x="51" y="33"/>
                          </a:lnTo>
                          <a:lnTo>
                            <a:pt x="55" y="39"/>
                          </a:lnTo>
                          <a:lnTo>
                            <a:pt x="55" y="45"/>
                          </a:lnTo>
                          <a:lnTo>
                            <a:pt x="39" y="39"/>
                          </a:lnTo>
                          <a:lnTo>
                            <a:pt x="25" y="34"/>
                          </a:lnTo>
                          <a:lnTo>
                            <a:pt x="19" y="36"/>
                          </a:lnTo>
                          <a:lnTo>
                            <a:pt x="19" y="45"/>
                          </a:lnTo>
                          <a:lnTo>
                            <a:pt x="10" y="46"/>
                          </a:lnTo>
                          <a:lnTo>
                            <a:pt x="6" y="39"/>
                          </a:lnTo>
                          <a:lnTo>
                            <a:pt x="4" y="30"/>
                          </a:lnTo>
                          <a:lnTo>
                            <a:pt x="0" y="28"/>
                          </a:lnTo>
                          <a:lnTo>
                            <a:pt x="4" y="19"/>
                          </a:lnTo>
                          <a:lnTo>
                            <a:pt x="12" y="1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" name=""/>
                  <p:cNvSpPr/>
                  <p:nvPr/>
                </p:nvSpPr>
                <p:spPr>
                  <a:xfrm>
                    <a:off x="7250040" y="3630600"/>
                    <a:ext cx="80496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76">
                        <a:moveTo>
                          <a:pt x="363" y="0"/>
                        </a:moveTo>
                        <a:lnTo>
                          <a:pt x="390" y="0"/>
                        </a:lnTo>
                        <a:lnTo>
                          <a:pt x="390" y="30"/>
                        </a:lnTo>
                        <a:lnTo>
                          <a:pt x="401" y="39"/>
                        </a:lnTo>
                        <a:lnTo>
                          <a:pt x="404" y="44"/>
                        </a:lnTo>
                        <a:lnTo>
                          <a:pt x="410" y="44"/>
                        </a:lnTo>
                        <a:lnTo>
                          <a:pt x="413" y="50"/>
                        </a:lnTo>
                        <a:lnTo>
                          <a:pt x="416" y="80"/>
                        </a:lnTo>
                        <a:lnTo>
                          <a:pt x="431" y="99"/>
                        </a:lnTo>
                        <a:lnTo>
                          <a:pt x="453" y="128"/>
                        </a:lnTo>
                        <a:lnTo>
                          <a:pt x="453" y="132"/>
                        </a:lnTo>
                        <a:lnTo>
                          <a:pt x="477" y="156"/>
                        </a:lnTo>
                        <a:lnTo>
                          <a:pt x="477" y="161"/>
                        </a:lnTo>
                        <a:lnTo>
                          <a:pt x="501" y="180"/>
                        </a:lnTo>
                        <a:lnTo>
                          <a:pt x="506" y="215"/>
                        </a:lnTo>
                        <a:lnTo>
                          <a:pt x="501" y="246"/>
                        </a:lnTo>
                        <a:lnTo>
                          <a:pt x="494" y="261"/>
                        </a:lnTo>
                        <a:lnTo>
                          <a:pt x="485" y="268"/>
                        </a:lnTo>
                        <a:lnTo>
                          <a:pt x="482" y="283"/>
                        </a:lnTo>
                        <a:lnTo>
                          <a:pt x="473" y="297"/>
                        </a:lnTo>
                        <a:lnTo>
                          <a:pt x="465" y="303"/>
                        </a:lnTo>
                        <a:lnTo>
                          <a:pt x="467" y="307"/>
                        </a:lnTo>
                        <a:lnTo>
                          <a:pt x="458" y="316"/>
                        </a:lnTo>
                        <a:lnTo>
                          <a:pt x="453" y="336"/>
                        </a:lnTo>
                        <a:lnTo>
                          <a:pt x="452" y="346"/>
                        </a:lnTo>
                        <a:lnTo>
                          <a:pt x="443" y="351"/>
                        </a:lnTo>
                        <a:lnTo>
                          <a:pt x="441" y="355"/>
                        </a:lnTo>
                        <a:lnTo>
                          <a:pt x="435" y="364"/>
                        </a:lnTo>
                        <a:lnTo>
                          <a:pt x="425" y="366"/>
                        </a:lnTo>
                        <a:lnTo>
                          <a:pt x="417" y="369"/>
                        </a:lnTo>
                        <a:lnTo>
                          <a:pt x="407" y="375"/>
                        </a:lnTo>
                        <a:lnTo>
                          <a:pt x="393" y="363"/>
                        </a:lnTo>
                        <a:lnTo>
                          <a:pt x="378" y="364"/>
                        </a:lnTo>
                        <a:lnTo>
                          <a:pt x="374" y="364"/>
                        </a:lnTo>
                        <a:lnTo>
                          <a:pt x="353" y="367"/>
                        </a:lnTo>
                        <a:lnTo>
                          <a:pt x="339" y="355"/>
                        </a:lnTo>
                        <a:lnTo>
                          <a:pt x="330" y="343"/>
                        </a:lnTo>
                        <a:lnTo>
                          <a:pt x="324" y="345"/>
                        </a:lnTo>
                        <a:lnTo>
                          <a:pt x="318" y="334"/>
                        </a:lnTo>
                        <a:lnTo>
                          <a:pt x="315" y="325"/>
                        </a:lnTo>
                        <a:lnTo>
                          <a:pt x="312" y="322"/>
                        </a:lnTo>
                        <a:lnTo>
                          <a:pt x="312" y="307"/>
                        </a:lnTo>
                        <a:lnTo>
                          <a:pt x="314" y="298"/>
                        </a:lnTo>
                        <a:lnTo>
                          <a:pt x="311" y="292"/>
                        </a:lnTo>
                        <a:lnTo>
                          <a:pt x="299" y="295"/>
                        </a:lnTo>
                        <a:lnTo>
                          <a:pt x="293" y="297"/>
                        </a:lnTo>
                        <a:lnTo>
                          <a:pt x="282" y="297"/>
                        </a:lnTo>
                        <a:lnTo>
                          <a:pt x="278" y="297"/>
                        </a:lnTo>
                        <a:lnTo>
                          <a:pt x="273" y="297"/>
                        </a:lnTo>
                        <a:lnTo>
                          <a:pt x="266" y="288"/>
                        </a:lnTo>
                        <a:lnTo>
                          <a:pt x="258" y="276"/>
                        </a:lnTo>
                        <a:lnTo>
                          <a:pt x="257" y="277"/>
                        </a:lnTo>
                        <a:lnTo>
                          <a:pt x="243" y="277"/>
                        </a:lnTo>
                        <a:lnTo>
                          <a:pt x="242" y="273"/>
                        </a:lnTo>
                        <a:lnTo>
                          <a:pt x="234" y="277"/>
                        </a:lnTo>
                        <a:lnTo>
                          <a:pt x="227" y="276"/>
                        </a:lnTo>
                        <a:lnTo>
                          <a:pt x="215" y="276"/>
                        </a:lnTo>
                        <a:lnTo>
                          <a:pt x="207" y="273"/>
                        </a:lnTo>
                        <a:lnTo>
                          <a:pt x="204" y="277"/>
                        </a:lnTo>
                        <a:lnTo>
                          <a:pt x="192" y="279"/>
                        </a:lnTo>
                        <a:lnTo>
                          <a:pt x="189" y="276"/>
                        </a:lnTo>
                        <a:lnTo>
                          <a:pt x="182" y="283"/>
                        </a:lnTo>
                        <a:lnTo>
                          <a:pt x="173" y="291"/>
                        </a:lnTo>
                        <a:lnTo>
                          <a:pt x="167" y="291"/>
                        </a:lnTo>
                        <a:lnTo>
                          <a:pt x="158" y="300"/>
                        </a:lnTo>
                        <a:lnTo>
                          <a:pt x="144" y="300"/>
                        </a:lnTo>
                        <a:lnTo>
                          <a:pt x="134" y="303"/>
                        </a:lnTo>
                        <a:lnTo>
                          <a:pt x="122" y="307"/>
                        </a:lnTo>
                        <a:lnTo>
                          <a:pt x="116" y="313"/>
                        </a:lnTo>
                        <a:lnTo>
                          <a:pt x="111" y="312"/>
                        </a:lnTo>
                        <a:lnTo>
                          <a:pt x="107" y="318"/>
                        </a:lnTo>
                        <a:lnTo>
                          <a:pt x="101" y="319"/>
                        </a:lnTo>
                        <a:lnTo>
                          <a:pt x="93" y="327"/>
                        </a:lnTo>
                        <a:lnTo>
                          <a:pt x="69" y="327"/>
                        </a:lnTo>
                        <a:lnTo>
                          <a:pt x="59" y="316"/>
                        </a:lnTo>
                        <a:lnTo>
                          <a:pt x="57" y="312"/>
                        </a:lnTo>
                        <a:lnTo>
                          <a:pt x="54" y="316"/>
                        </a:lnTo>
                        <a:lnTo>
                          <a:pt x="50" y="309"/>
                        </a:lnTo>
                        <a:lnTo>
                          <a:pt x="51" y="289"/>
                        </a:lnTo>
                        <a:lnTo>
                          <a:pt x="54" y="277"/>
                        </a:lnTo>
                        <a:lnTo>
                          <a:pt x="50" y="268"/>
                        </a:lnTo>
                        <a:lnTo>
                          <a:pt x="45" y="259"/>
                        </a:lnTo>
                        <a:lnTo>
                          <a:pt x="44" y="249"/>
                        </a:lnTo>
                        <a:lnTo>
                          <a:pt x="36" y="244"/>
                        </a:lnTo>
                        <a:lnTo>
                          <a:pt x="35" y="243"/>
                        </a:lnTo>
                        <a:lnTo>
                          <a:pt x="33" y="238"/>
                        </a:lnTo>
                        <a:lnTo>
                          <a:pt x="23" y="225"/>
                        </a:lnTo>
                        <a:lnTo>
                          <a:pt x="9" y="192"/>
                        </a:lnTo>
                        <a:lnTo>
                          <a:pt x="5" y="170"/>
                        </a:lnTo>
                        <a:lnTo>
                          <a:pt x="5" y="156"/>
                        </a:lnTo>
                        <a:lnTo>
                          <a:pt x="0" y="152"/>
                        </a:lnTo>
                        <a:lnTo>
                          <a:pt x="2" y="140"/>
                        </a:lnTo>
                        <a:lnTo>
                          <a:pt x="6" y="134"/>
                        </a:lnTo>
                        <a:lnTo>
                          <a:pt x="23" y="117"/>
                        </a:lnTo>
                        <a:lnTo>
                          <a:pt x="39" y="119"/>
                        </a:lnTo>
                        <a:lnTo>
                          <a:pt x="42" y="122"/>
                        </a:lnTo>
                        <a:lnTo>
                          <a:pt x="63" y="122"/>
                        </a:lnTo>
                        <a:lnTo>
                          <a:pt x="65" y="117"/>
                        </a:lnTo>
                        <a:lnTo>
                          <a:pt x="69" y="119"/>
                        </a:lnTo>
                        <a:lnTo>
                          <a:pt x="75" y="114"/>
                        </a:lnTo>
                        <a:lnTo>
                          <a:pt x="80" y="116"/>
                        </a:lnTo>
                        <a:lnTo>
                          <a:pt x="84" y="113"/>
                        </a:lnTo>
                        <a:lnTo>
                          <a:pt x="83" y="108"/>
                        </a:lnTo>
                        <a:lnTo>
                          <a:pt x="87" y="98"/>
                        </a:lnTo>
                        <a:lnTo>
                          <a:pt x="93" y="93"/>
                        </a:lnTo>
                        <a:lnTo>
                          <a:pt x="90" y="90"/>
                        </a:lnTo>
                        <a:lnTo>
                          <a:pt x="93" y="87"/>
                        </a:lnTo>
                        <a:lnTo>
                          <a:pt x="90" y="83"/>
                        </a:lnTo>
                        <a:lnTo>
                          <a:pt x="99" y="75"/>
                        </a:lnTo>
                        <a:lnTo>
                          <a:pt x="113" y="74"/>
                        </a:lnTo>
                        <a:lnTo>
                          <a:pt x="126" y="56"/>
                        </a:lnTo>
                        <a:lnTo>
                          <a:pt x="143" y="41"/>
                        </a:lnTo>
                        <a:lnTo>
                          <a:pt x="150" y="39"/>
                        </a:lnTo>
                        <a:lnTo>
                          <a:pt x="155" y="35"/>
                        </a:lnTo>
                        <a:lnTo>
                          <a:pt x="162" y="35"/>
                        </a:lnTo>
                        <a:lnTo>
                          <a:pt x="176" y="48"/>
                        </a:lnTo>
                        <a:lnTo>
                          <a:pt x="180" y="50"/>
                        </a:lnTo>
                        <a:lnTo>
                          <a:pt x="185" y="44"/>
                        </a:lnTo>
                        <a:lnTo>
                          <a:pt x="194" y="35"/>
                        </a:lnTo>
                        <a:lnTo>
                          <a:pt x="200" y="33"/>
                        </a:lnTo>
                        <a:lnTo>
                          <a:pt x="206" y="21"/>
                        </a:lnTo>
                        <a:lnTo>
                          <a:pt x="212" y="20"/>
                        </a:lnTo>
                        <a:lnTo>
                          <a:pt x="219" y="15"/>
                        </a:lnTo>
                        <a:lnTo>
                          <a:pt x="227" y="11"/>
                        </a:lnTo>
                        <a:lnTo>
                          <a:pt x="234" y="11"/>
                        </a:lnTo>
                        <a:lnTo>
                          <a:pt x="240" y="5"/>
                        </a:lnTo>
                        <a:lnTo>
                          <a:pt x="249" y="5"/>
                        </a:lnTo>
                        <a:lnTo>
                          <a:pt x="260" y="5"/>
                        </a:lnTo>
                        <a:lnTo>
                          <a:pt x="273" y="8"/>
                        </a:lnTo>
                        <a:lnTo>
                          <a:pt x="282" y="14"/>
                        </a:lnTo>
                        <a:lnTo>
                          <a:pt x="284" y="18"/>
                        </a:lnTo>
                        <a:lnTo>
                          <a:pt x="285" y="21"/>
                        </a:lnTo>
                        <a:lnTo>
                          <a:pt x="287" y="29"/>
                        </a:lnTo>
                        <a:lnTo>
                          <a:pt x="285" y="32"/>
                        </a:lnTo>
                        <a:lnTo>
                          <a:pt x="285" y="39"/>
                        </a:lnTo>
                        <a:lnTo>
                          <a:pt x="284" y="44"/>
                        </a:lnTo>
                        <a:lnTo>
                          <a:pt x="306" y="60"/>
                        </a:lnTo>
                        <a:lnTo>
                          <a:pt x="314" y="69"/>
                        </a:lnTo>
                        <a:lnTo>
                          <a:pt x="323" y="72"/>
                        </a:lnTo>
                        <a:lnTo>
                          <a:pt x="332" y="77"/>
                        </a:lnTo>
                        <a:lnTo>
                          <a:pt x="338" y="78"/>
                        </a:lnTo>
                        <a:lnTo>
                          <a:pt x="347" y="74"/>
                        </a:lnTo>
                        <a:lnTo>
                          <a:pt x="354" y="60"/>
                        </a:lnTo>
                        <a:lnTo>
                          <a:pt x="357" y="50"/>
                        </a:lnTo>
                        <a:lnTo>
                          <a:pt x="360" y="29"/>
                        </a:lnTo>
                        <a:lnTo>
                          <a:pt x="363" y="20"/>
                        </a:lnTo>
                        <a:lnTo>
                          <a:pt x="36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062480" y="3505320"/>
                    <a:ext cx="444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52">
                        <a:moveTo>
                          <a:pt x="0" y="0"/>
                        </a:moveTo>
                        <a:lnTo>
                          <a:pt x="21" y="7"/>
                        </a:lnTo>
                        <a:lnTo>
                          <a:pt x="39" y="7"/>
                        </a:lnTo>
                        <a:lnTo>
                          <a:pt x="55" y="7"/>
                        </a:lnTo>
                        <a:lnTo>
                          <a:pt x="67" y="7"/>
                        </a:lnTo>
                        <a:lnTo>
                          <a:pt x="76" y="9"/>
                        </a:lnTo>
                        <a:lnTo>
                          <a:pt x="88" y="13"/>
                        </a:lnTo>
                        <a:lnTo>
                          <a:pt x="94" y="24"/>
                        </a:lnTo>
                        <a:lnTo>
                          <a:pt x="100" y="28"/>
                        </a:lnTo>
                        <a:lnTo>
                          <a:pt x="111" y="27"/>
                        </a:lnTo>
                        <a:lnTo>
                          <a:pt x="123" y="27"/>
                        </a:lnTo>
                        <a:lnTo>
                          <a:pt x="136" y="33"/>
                        </a:lnTo>
                        <a:lnTo>
                          <a:pt x="145" y="36"/>
                        </a:lnTo>
                        <a:lnTo>
                          <a:pt x="151" y="36"/>
                        </a:lnTo>
                        <a:lnTo>
                          <a:pt x="153" y="28"/>
                        </a:lnTo>
                        <a:lnTo>
                          <a:pt x="157" y="24"/>
                        </a:lnTo>
                        <a:lnTo>
                          <a:pt x="175" y="27"/>
                        </a:lnTo>
                        <a:lnTo>
                          <a:pt x="190" y="27"/>
                        </a:lnTo>
                        <a:lnTo>
                          <a:pt x="204" y="27"/>
                        </a:lnTo>
                        <a:lnTo>
                          <a:pt x="214" y="31"/>
                        </a:lnTo>
                        <a:lnTo>
                          <a:pt x="220" y="34"/>
                        </a:lnTo>
                        <a:lnTo>
                          <a:pt x="231" y="33"/>
                        </a:lnTo>
                        <a:lnTo>
                          <a:pt x="238" y="30"/>
                        </a:lnTo>
                        <a:lnTo>
                          <a:pt x="243" y="27"/>
                        </a:lnTo>
                        <a:lnTo>
                          <a:pt x="255" y="27"/>
                        </a:lnTo>
                        <a:lnTo>
                          <a:pt x="262" y="24"/>
                        </a:lnTo>
                        <a:lnTo>
                          <a:pt x="273" y="21"/>
                        </a:lnTo>
                        <a:lnTo>
                          <a:pt x="279" y="21"/>
                        </a:lnTo>
                        <a:lnTo>
                          <a:pt x="277" y="31"/>
                        </a:lnTo>
                        <a:lnTo>
                          <a:pt x="274" y="36"/>
                        </a:lnTo>
                        <a:lnTo>
                          <a:pt x="268" y="40"/>
                        </a:lnTo>
                        <a:lnTo>
                          <a:pt x="262" y="40"/>
                        </a:lnTo>
                        <a:lnTo>
                          <a:pt x="261" y="40"/>
                        </a:lnTo>
                        <a:lnTo>
                          <a:pt x="253" y="42"/>
                        </a:lnTo>
                        <a:lnTo>
                          <a:pt x="247" y="48"/>
                        </a:lnTo>
                        <a:lnTo>
                          <a:pt x="241" y="46"/>
                        </a:lnTo>
                        <a:lnTo>
                          <a:pt x="235" y="43"/>
                        </a:lnTo>
                        <a:lnTo>
                          <a:pt x="229" y="46"/>
                        </a:lnTo>
                        <a:lnTo>
                          <a:pt x="223" y="48"/>
                        </a:lnTo>
                        <a:lnTo>
                          <a:pt x="219" y="48"/>
                        </a:lnTo>
                        <a:lnTo>
                          <a:pt x="214" y="51"/>
                        </a:lnTo>
                        <a:lnTo>
                          <a:pt x="202" y="51"/>
                        </a:lnTo>
                        <a:lnTo>
                          <a:pt x="198" y="46"/>
                        </a:lnTo>
                        <a:lnTo>
                          <a:pt x="192" y="40"/>
                        </a:lnTo>
                        <a:lnTo>
                          <a:pt x="184" y="46"/>
                        </a:lnTo>
                        <a:lnTo>
                          <a:pt x="180" y="51"/>
                        </a:lnTo>
                        <a:lnTo>
                          <a:pt x="174" y="51"/>
                        </a:lnTo>
                        <a:lnTo>
                          <a:pt x="163" y="40"/>
                        </a:lnTo>
                        <a:lnTo>
                          <a:pt x="160" y="42"/>
                        </a:lnTo>
                        <a:lnTo>
                          <a:pt x="154" y="42"/>
                        </a:lnTo>
                        <a:lnTo>
                          <a:pt x="150" y="48"/>
                        </a:lnTo>
                        <a:lnTo>
                          <a:pt x="141" y="46"/>
                        </a:lnTo>
                        <a:lnTo>
                          <a:pt x="132" y="46"/>
                        </a:lnTo>
                        <a:lnTo>
                          <a:pt x="127" y="43"/>
                        </a:lnTo>
                        <a:lnTo>
                          <a:pt x="121" y="40"/>
                        </a:lnTo>
                        <a:lnTo>
                          <a:pt x="112" y="42"/>
                        </a:lnTo>
                        <a:lnTo>
                          <a:pt x="103" y="48"/>
                        </a:lnTo>
                        <a:lnTo>
                          <a:pt x="97" y="46"/>
                        </a:lnTo>
                        <a:lnTo>
                          <a:pt x="88" y="43"/>
                        </a:lnTo>
                        <a:lnTo>
                          <a:pt x="78" y="39"/>
                        </a:lnTo>
                        <a:lnTo>
                          <a:pt x="69" y="39"/>
                        </a:lnTo>
                        <a:lnTo>
                          <a:pt x="51" y="34"/>
                        </a:lnTo>
                        <a:lnTo>
                          <a:pt x="39" y="31"/>
                        </a:lnTo>
                        <a:lnTo>
                          <a:pt x="31" y="30"/>
                        </a:lnTo>
                        <a:lnTo>
                          <a:pt x="19" y="28"/>
                        </a:lnTo>
                        <a:lnTo>
                          <a:pt x="12" y="22"/>
                        </a:lnTo>
                        <a:lnTo>
                          <a:pt x="4" y="21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305480" y="334476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99">
                        <a:moveTo>
                          <a:pt x="31" y="0"/>
                        </a:moveTo>
                        <a:lnTo>
                          <a:pt x="61" y="2"/>
                        </a:lnTo>
                        <a:lnTo>
                          <a:pt x="90" y="2"/>
                        </a:lnTo>
                        <a:lnTo>
                          <a:pt x="105" y="0"/>
                        </a:lnTo>
                        <a:lnTo>
                          <a:pt x="126" y="9"/>
                        </a:lnTo>
                        <a:lnTo>
                          <a:pt x="112" y="12"/>
                        </a:lnTo>
                        <a:lnTo>
                          <a:pt x="105" y="17"/>
                        </a:lnTo>
                        <a:lnTo>
                          <a:pt x="100" y="20"/>
                        </a:lnTo>
                        <a:lnTo>
                          <a:pt x="97" y="23"/>
                        </a:lnTo>
                        <a:lnTo>
                          <a:pt x="97" y="26"/>
                        </a:lnTo>
                        <a:lnTo>
                          <a:pt x="97" y="30"/>
                        </a:lnTo>
                        <a:lnTo>
                          <a:pt x="88" y="33"/>
                        </a:lnTo>
                        <a:lnTo>
                          <a:pt x="81" y="33"/>
                        </a:lnTo>
                        <a:lnTo>
                          <a:pt x="78" y="35"/>
                        </a:lnTo>
                        <a:lnTo>
                          <a:pt x="70" y="35"/>
                        </a:lnTo>
                        <a:lnTo>
                          <a:pt x="67" y="30"/>
                        </a:lnTo>
                        <a:lnTo>
                          <a:pt x="61" y="24"/>
                        </a:lnTo>
                        <a:lnTo>
                          <a:pt x="55" y="20"/>
                        </a:lnTo>
                        <a:lnTo>
                          <a:pt x="43" y="20"/>
                        </a:lnTo>
                        <a:lnTo>
                          <a:pt x="40" y="20"/>
                        </a:lnTo>
                        <a:lnTo>
                          <a:pt x="37" y="27"/>
                        </a:lnTo>
                        <a:lnTo>
                          <a:pt x="39" y="35"/>
                        </a:lnTo>
                        <a:lnTo>
                          <a:pt x="39" y="39"/>
                        </a:lnTo>
                        <a:lnTo>
                          <a:pt x="40" y="44"/>
                        </a:lnTo>
                        <a:lnTo>
                          <a:pt x="46" y="42"/>
                        </a:lnTo>
                        <a:lnTo>
                          <a:pt x="55" y="38"/>
                        </a:lnTo>
                        <a:lnTo>
                          <a:pt x="61" y="38"/>
                        </a:lnTo>
                        <a:lnTo>
                          <a:pt x="66" y="41"/>
                        </a:lnTo>
                        <a:lnTo>
                          <a:pt x="66" y="44"/>
                        </a:lnTo>
                        <a:lnTo>
                          <a:pt x="63" y="50"/>
                        </a:lnTo>
                        <a:lnTo>
                          <a:pt x="61" y="53"/>
                        </a:lnTo>
                        <a:lnTo>
                          <a:pt x="61" y="56"/>
                        </a:lnTo>
                        <a:lnTo>
                          <a:pt x="60" y="60"/>
                        </a:lnTo>
                        <a:lnTo>
                          <a:pt x="63" y="65"/>
                        </a:lnTo>
                        <a:lnTo>
                          <a:pt x="69" y="71"/>
                        </a:lnTo>
                        <a:lnTo>
                          <a:pt x="70" y="69"/>
                        </a:lnTo>
                        <a:lnTo>
                          <a:pt x="70" y="75"/>
                        </a:lnTo>
                        <a:lnTo>
                          <a:pt x="67" y="80"/>
                        </a:lnTo>
                        <a:lnTo>
                          <a:pt x="64" y="84"/>
                        </a:lnTo>
                        <a:lnTo>
                          <a:pt x="63" y="92"/>
                        </a:lnTo>
                        <a:lnTo>
                          <a:pt x="57" y="95"/>
                        </a:lnTo>
                        <a:lnTo>
                          <a:pt x="52" y="95"/>
                        </a:lnTo>
                        <a:lnTo>
                          <a:pt x="48" y="95"/>
                        </a:lnTo>
                        <a:lnTo>
                          <a:pt x="48" y="89"/>
                        </a:lnTo>
                        <a:lnTo>
                          <a:pt x="46" y="78"/>
                        </a:lnTo>
                        <a:lnTo>
                          <a:pt x="42" y="75"/>
                        </a:lnTo>
                        <a:lnTo>
                          <a:pt x="40" y="71"/>
                        </a:lnTo>
                        <a:lnTo>
                          <a:pt x="42" y="62"/>
                        </a:lnTo>
                        <a:lnTo>
                          <a:pt x="37" y="59"/>
                        </a:lnTo>
                        <a:lnTo>
                          <a:pt x="27" y="62"/>
                        </a:lnTo>
                        <a:lnTo>
                          <a:pt x="22" y="59"/>
                        </a:lnTo>
                        <a:lnTo>
                          <a:pt x="18" y="63"/>
                        </a:lnTo>
                        <a:lnTo>
                          <a:pt x="22" y="66"/>
                        </a:lnTo>
                        <a:lnTo>
                          <a:pt x="30" y="69"/>
                        </a:lnTo>
                        <a:lnTo>
                          <a:pt x="31" y="72"/>
                        </a:lnTo>
                        <a:lnTo>
                          <a:pt x="36" y="78"/>
                        </a:lnTo>
                        <a:lnTo>
                          <a:pt x="36" y="83"/>
                        </a:lnTo>
                        <a:lnTo>
                          <a:pt x="31" y="90"/>
                        </a:lnTo>
                        <a:lnTo>
                          <a:pt x="25" y="96"/>
                        </a:lnTo>
                        <a:lnTo>
                          <a:pt x="22" y="98"/>
                        </a:lnTo>
                        <a:lnTo>
                          <a:pt x="22" y="93"/>
                        </a:lnTo>
                        <a:lnTo>
                          <a:pt x="22" y="89"/>
                        </a:lnTo>
                        <a:lnTo>
                          <a:pt x="24" y="83"/>
                        </a:lnTo>
                        <a:lnTo>
                          <a:pt x="16" y="78"/>
                        </a:lnTo>
                        <a:lnTo>
                          <a:pt x="9" y="74"/>
                        </a:lnTo>
                        <a:lnTo>
                          <a:pt x="7" y="69"/>
                        </a:lnTo>
                        <a:lnTo>
                          <a:pt x="0" y="66"/>
                        </a:lnTo>
                        <a:lnTo>
                          <a:pt x="1" y="59"/>
                        </a:lnTo>
                        <a:lnTo>
                          <a:pt x="7" y="54"/>
                        </a:lnTo>
                        <a:lnTo>
                          <a:pt x="12" y="47"/>
                        </a:lnTo>
                        <a:lnTo>
                          <a:pt x="16" y="39"/>
                        </a:lnTo>
                        <a:lnTo>
                          <a:pt x="18" y="32"/>
                        </a:lnTo>
                        <a:lnTo>
                          <a:pt x="16" y="24"/>
                        </a:lnTo>
                        <a:lnTo>
                          <a:pt x="19" y="21"/>
                        </a:lnTo>
                        <a:lnTo>
                          <a:pt x="22" y="18"/>
                        </a:lnTo>
                        <a:lnTo>
                          <a:pt x="18" y="12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092720" y="3276720"/>
                    <a:ext cx="2239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6">
                        <a:moveTo>
                          <a:pt x="0" y="45"/>
                        </a:moveTo>
                        <a:lnTo>
                          <a:pt x="29" y="24"/>
                        </a:lnTo>
                        <a:lnTo>
                          <a:pt x="44" y="15"/>
                        </a:lnTo>
                        <a:lnTo>
                          <a:pt x="51" y="7"/>
                        </a:lnTo>
                        <a:lnTo>
                          <a:pt x="74" y="0"/>
                        </a:lnTo>
                        <a:lnTo>
                          <a:pt x="86" y="16"/>
                        </a:lnTo>
                        <a:lnTo>
                          <a:pt x="98" y="9"/>
                        </a:lnTo>
                        <a:lnTo>
                          <a:pt x="102" y="4"/>
                        </a:lnTo>
                        <a:lnTo>
                          <a:pt x="113" y="0"/>
                        </a:lnTo>
                        <a:lnTo>
                          <a:pt x="119" y="0"/>
                        </a:lnTo>
                        <a:lnTo>
                          <a:pt x="120" y="6"/>
                        </a:lnTo>
                        <a:lnTo>
                          <a:pt x="120" y="10"/>
                        </a:lnTo>
                        <a:lnTo>
                          <a:pt x="114" y="18"/>
                        </a:lnTo>
                        <a:lnTo>
                          <a:pt x="114" y="22"/>
                        </a:lnTo>
                        <a:lnTo>
                          <a:pt x="131" y="42"/>
                        </a:lnTo>
                        <a:lnTo>
                          <a:pt x="134" y="54"/>
                        </a:lnTo>
                        <a:lnTo>
                          <a:pt x="138" y="54"/>
                        </a:lnTo>
                        <a:lnTo>
                          <a:pt x="140" y="60"/>
                        </a:lnTo>
                        <a:lnTo>
                          <a:pt x="134" y="66"/>
                        </a:lnTo>
                        <a:lnTo>
                          <a:pt x="129" y="63"/>
                        </a:lnTo>
                        <a:lnTo>
                          <a:pt x="119" y="67"/>
                        </a:lnTo>
                        <a:lnTo>
                          <a:pt x="120" y="79"/>
                        </a:lnTo>
                        <a:lnTo>
                          <a:pt x="108" y="87"/>
                        </a:lnTo>
                        <a:lnTo>
                          <a:pt x="108" y="106"/>
                        </a:lnTo>
                        <a:lnTo>
                          <a:pt x="108" y="120"/>
                        </a:lnTo>
                        <a:lnTo>
                          <a:pt x="102" y="126"/>
                        </a:lnTo>
                        <a:lnTo>
                          <a:pt x="98" y="135"/>
                        </a:lnTo>
                        <a:lnTo>
                          <a:pt x="92" y="133"/>
                        </a:lnTo>
                        <a:lnTo>
                          <a:pt x="83" y="129"/>
                        </a:lnTo>
                        <a:lnTo>
                          <a:pt x="75" y="124"/>
                        </a:lnTo>
                        <a:lnTo>
                          <a:pt x="69" y="117"/>
                        </a:lnTo>
                        <a:lnTo>
                          <a:pt x="48" y="118"/>
                        </a:lnTo>
                        <a:lnTo>
                          <a:pt x="30" y="114"/>
                        </a:lnTo>
                        <a:lnTo>
                          <a:pt x="18" y="102"/>
                        </a:lnTo>
                        <a:lnTo>
                          <a:pt x="11" y="93"/>
                        </a:lnTo>
                        <a:lnTo>
                          <a:pt x="5" y="85"/>
                        </a:lnTo>
                        <a:lnTo>
                          <a:pt x="5" y="70"/>
                        </a:lnTo>
                        <a:lnTo>
                          <a:pt x="0" y="4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564320" y="3397320"/>
                    <a:ext cx="4255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27">
                        <a:moveTo>
                          <a:pt x="0" y="0"/>
                        </a:moveTo>
                        <a:lnTo>
                          <a:pt x="24" y="2"/>
                        </a:lnTo>
                        <a:lnTo>
                          <a:pt x="44" y="3"/>
                        </a:lnTo>
                        <a:lnTo>
                          <a:pt x="53" y="21"/>
                        </a:lnTo>
                        <a:lnTo>
                          <a:pt x="54" y="27"/>
                        </a:lnTo>
                        <a:lnTo>
                          <a:pt x="57" y="30"/>
                        </a:lnTo>
                        <a:lnTo>
                          <a:pt x="63" y="26"/>
                        </a:lnTo>
                        <a:lnTo>
                          <a:pt x="74" y="26"/>
                        </a:lnTo>
                        <a:lnTo>
                          <a:pt x="80" y="30"/>
                        </a:lnTo>
                        <a:lnTo>
                          <a:pt x="83" y="29"/>
                        </a:lnTo>
                        <a:lnTo>
                          <a:pt x="92" y="21"/>
                        </a:lnTo>
                        <a:lnTo>
                          <a:pt x="93" y="21"/>
                        </a:lnTo>
                        <a:lnTo>
                          <a:pt x="101" y="17"/>
                        </a:lnTo>
                        <a:lnTo>
                          <a:pt x="108" y="17"/>
                        </a:lnTo>
                        <a:lnTo>
                          <a:pt x="132" y="26"/>
                        </a:lnTo>
                        <a:lnTo>
                          <a:pt x="143" y="26"/>
                        </a:lnTo>
                        <a:lnTo>
                          <a:pt x="153" y="33"/>
                        </a:lnTo>
                        <a:lnTo>
                          <a:pt x="164" y="36"/>
                        </a:lnTo>
                        <a:lnTo>
                          <a:pt x="173" y="42"/>
                        </a:lnTo>
                        <a:lnTo>
                          <a:pt x="180" y="44"/>
                        </a:lnTo>
                        <a:lnTo>
                          <a:pt x="200" y="50"/>
                        </a:lnTo>
                        <a:lnTo>
                          <a:pt x="209" y="60"/>
                        </a:lnTo>
                        <a:lnTo>
                          <a:pt x="213" y="66"/>
                        </a:lnTo>
                        <a:lnTo>
                          <a:pt x="212" y="69"/>
                        </a:lnTo>
                        <a:lnTo>
                          <a:pt x="219" y="75"/>
                        </a:lnTo>
                        <a:lnTo>
                          <a:pt x="225" y="77"/>
                        </a:lnTo>
                        <a:lnTo>
                          <a:pt x="228" y="78"/>
                        </a:lnTo>
                        <a:lnTo>
                          <a:pt x="236" y="80"/>
                        </a:lnTo>
                        <a:lnTo>
                          <a:pt x="248" y="89"/>
                        </a:lnTo>
                        <a:lnTo>
                          <a:pt x="248" y="95"/>
                        </a:lnTo>
                        <a:lnTo>
                          <a:pt x="255" y="101"/>
                        </a:lnTo>
                        <a:lnTo>
                          <a:pt x="257" y="104"/>
                        </a:lnTo>
                        <a:lnTo>
                          <a:pt x="267" y="116"/>
                        </a:lnTo>
                        <a:lnTo>
                          <a:pt x="258" y="126"/>
                        </a:lnTo>
                        <a:lnTo>
                          <a:pt x="255" y="126"/>
                        </a:lnTo>
                        <a:lnTo>
                          <a:pt x="246" y="126"/>
                        </a:lnTo>
                        <a:lnTo>
                          <a:pt x="243" y="122"/>
                        </a:lnTo>
                        <a:lnTo>
                          <a:pt x="239" y="122"/>
                        </a:lnTo>
                        <a:lnTo>
                          <a:pt x="234" y="123"/>
                        </a:lnTo>
                        <a:lnTo>
                          <a:pt x="212" y="99"/>
                        </a:lnTo>
                        <a:lnTo>
                          <a:pt x="198" y="101"/>
                        </a:lnTo>
                        <a:lnTo>
                          <a:pt x="185" y="99"/>
                        </a:lnTo>
                        <a:lnTo>
                          <a:pt x="180" y="102"/>
                        </a:lnTo>
                        <a:lnTo>
                          <a:pt x="176" y="107"/>
                        </a:lnTo>
                        <a:lnTo>
                          <a:pt x="174" y="104"/>
                        </a:lnTo>
                        <a:lnTo>
                          <a:pt x="168" y="111"/>
                        </a:lnTo>
                        <a:lnTo>
                          <a:pt x="159" y="122"/>
                        </a:lnTo>
                        <a:lnTo>
                          <a:pt x="152" y="117"/>
                        </a:lnTo>
                        <a:lnTo>
                          <a:pt x="143" y="114"/>
                        </a:lnTo>
                        <a:lnTo>
                          <a:pt x="137" y="114"/>
                        </a:lnTo>
                        <a:lnTo>
                          <a:pt x="128" y="111"/>
                        </a:lnTo>
                        <a:lnTo>
                          <a:pt x="123" y="114"/>
                        </a:lnTo>
                        <a:lnTo>
                          <a:pt x="117" y="99"/>
                        </a:lnTo>
                        <a:lnTo>
                          <a:pt x="107" y="86"/>
                        </a:lnTo>
                        <a:lnTo>
                          <a:pt x="96" y="69"/>
                        </a:lnTo>
                        <a:lnTo>
                          <a:pt x="87" y="60"/>
                        </a:lnTo>
                        <a:lnTo>
                          <a:pt x="80" y="51"/>
                        </a:lnTo>
                        <a:lnTo>
                          <a:pt x="63" y="51"/>
                        </a:lnTo>
                        <a:lnTo>
                          <a:pt x="48" y="56"/>
                        </a:lnTo>
                        <a:lnTo>
                          <a:pt x="41" y="50"/>
                        </a:lnTo>
                        <a:lnTo>
                          <a:pt x="26" y="45"/>
                        </a:lnTo>
                        <a:lnTo>
                          <a:pt x="18" y="41"/>
                        </a:lnTo>
                        <a:lnTo>
                          <a:pt x="18" y="23"/>
                        </a:lnTo>
                        <a:lnTo>
                          <a:pt x="20" y="14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778440" y="3254400"/>
                    <a:ext cx="25884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68">
                        <a:moveTo>
                          <a:pt x="0" y="5"/>
                        </a:moveTo>
                        <a:lnTo>
                          <a:pt x="17" y="0"/>
                        </a:lnTo>
                        <a:lnTo>
                          <a:pt x="36" y="8"/>
                        </a:lnTo>
                        <a:lnTo>
                          <a:pt x="39" y="15"/>
                        </a:lnTo>
                        <a:lnTo>
                          <a:pt x="39" y="18"/>
                        </a:lnTo>
                        <a:lnTo>
                          <a:pt x="44" y="20"/>
                        </a:lnTo>
                        <a:lnTo>
                          <a:pt x="44" y="23"/>
                        </a:lnTo>
                        <a:lnTo>
                          <a:pt x="50" y="24"/>
                        </a:lnTo>
                        <a:lnTo>
                          <a:pt x="50" y="30"/>
                        </a:lnTo>
                        <a:lnTo>
                          <a:pt x="69" y="48"/>
                        </a:lnTo>
                        <a:lnTo>
                          <a:pt x="72" y="48"/>
                        </a:lnTo>
                        <a:lnTo>
                          <a:pt x="75" y="53"/>
                        </a:lnTo>
                        <a:lnTo>
                          <a:pt x="78" y="57"/>
                        </a:lnTo>
                        <a:lnTo>
                          <a:pt x="81" y="57"/>
                        </a:lnTo>
                        <a:lnTo>
                          <a:pt x="95" y="63"/>
                        </a:lnTo>
                        <a:lnTo>
                          <a:pt x="120" y="66"/>
                        </a:lnTo>
                        <a:lnTo>
                          <a:pt x="122" y="87"/>
                        </a:lnTo>
                        <a:lnTo>
                          <a:pt x="128" y="90"/>
                        </a:lnTo>
                        <a:lnTo>
                          <a:pt x="126" y="98"/>
                        </a:lnTo>
                        <a:lnTo>
                          <a:pt x="141" y="108"/>
                        </a:lnTo>
                        <a:lnTo>
                          <a:pt x="155" y="113"/>
                        </a:lnTo>
                        <a:lnTo>
                          <a:pt x="155" y="147"/>
                        </a:lnTo>
                        <a:lnTo>
                          <a:pt x="162" y="161"/>
                        </a:lnTo>
                        <a:lnTo>
                          <a:pt x="158" y="165"/>
                        </a:lnTo>
                        <a:lnTo>
                          <a:pt x="149" y="167"/>
                        </a:lnTo>
                        <a:lnTo>
                          <a:pt x="147" y="155"/>
                        </a:lnTo>
                        <a:lnTo>
                          <a:pt x="132" y="167"/>
                        </a:lnTo>
                        <a:lnTo>
                          <a:pt x="122" y="149"/>
                        </a:lnTo>
                        <a:lnTo>
                          <a:pt x="116" y="137"/>
                        </a:lnTo>
                        <a:lnTo>
                          <a:pt x="98" y="120"/>
                        </a:lnTo>
                        <a:lnTo>
                          <a:pt x="93" y="120"/>
                        </a:lnTo>
                        <a:lnTo>
                          <a:pt x="77" y="111"/>
                        </a:lnTo>
                        <a:lnTo>
                          <a:pt x="74" y="102"/>
                        </a:lnTo>
                        <a:lnTo>
                          <a:pt x="74" y="96"/>
                        </a:lnTo>
                        <a:lnTo>
                          <a:pt x="60" y="72"/>
                        </a:lnTo>
                        <a:lnTo>
                          <a:pt x="54" y="57"/>
                        </a:lnTo>
                        <a:lnTo>
                          <a:pt x="38" y="44"/>
                        </a:lnTo>
                        <a:lnTo>
                          <a:pt x="15" y="23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235640" y="2968560"/>
                    <a:ext cx="24912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86">
                        <a:moveTo>
                          <a:pt x="11" y="0"/>
                        </a:moveTo>
                        <a:lnTo>
                          <a:pt x="24" y="0"/>
                        </a:lnTo>
                        <a:lnTo>
                          <a:pt x="39" y="20"/>
                        </a:lnTo>
                        <a:lnTo>
                          <a:pt x="36" y="38"/>
                        </a:lnTo>
                        <a:lnTo>
                          <a:pt x="45" y="44"/>
                        </a:lnTo>
                        <a:lnTo>
                          <a:pt x="50" y="56"/>
                        </a:lnTo>
                        <a:lnTo>
                          <a:pt x="60" y="62"/>
                        </a:lnTo>
                        <a:lnTo>
                          <a:pt x="72" y="63"/>
                        </a:lnTo>
                        <a:lnTo>
                          <a:pt x="90" y="72"/>
                        </a:lnTo>
                        <a:lnTo>
                          <a:pt x="102" y="84"/>
                        </a:lnTo>
                        <a:lnTo>
                          <a:pt x="105" y="84"/>
                        </a:lnTo>
                        <a:lnTo>
                          <a:pt x="120" y="93"/>
                        </a:lnTo>
                        <a:lnTo>
                          <a:pt x="120" y="116"/>
                        </a:lnTo>
                        <a:lnTo>
                          <a:pt x="125" y="126"/>
                        </a:lnTo>
                        <a:lnTo>
                          <a:pt x="129" y="132"/>
                        </a:lnTo>
                        <a:lnTo>
                          <a:pt x="135" y="138"/>
                        </a:lnTo>
                        <a:lnTo>
                          <a:pt x="141" y="146"/>
                        </a:lnTo>
                        <a:lnTo>
                          <a:pt x="144" y="155"/>
                        </a:lnTo>
                        <a:lnTo>
                          <a:pt x="156" y="162"/>
                        </a:lnTo>
                        <a:lnTo>
                          <a:pt x="155" y="171"/>
                        </a:lnTo>
                        <a:lnTo>
                          <a:pt x="143" y="173"/>
                        </a:lnTo>
                        <a:lnTo>
                          <a:pt x="138" y="165"/>
                        </a:lnTo>
                        <a:lnTo>
                          <a:pt x="129" y="165"/>
                        </a:lnTo>
                        <a:lnTo>
                          <a:pt x="129" y="185"/>
                        </a:lnTo>
                        <a:lnTo>
                          <a:pt x="122" y="185"/>
                        </a:lnTo>
                        <a:lnTo>
                          <a:pt x="113" y="176"/>
                        </a:lnTo>
                        <a:lnTo>
                          <a:pt x="107" y="171"/>
                        </a:lnTo>
                        <a:lnTo>
                          <a:pt x="107" y="161"/>
                        </a:lnTo>
                        <a:lnTo>
                          <a:pt x="93" y="161"/>
                        </a:lnTo>
                        <a:lnTo>
                          <a:pt x="89" y="171"/>
                        </a:lnTo>
                        <a:lnTo>
                          <a:pt x="84" y="161"/>
                        </a:lnTo>
                        <a:lnTo>
                          <a:pt x="83" y="150"/>
                        </a:lnTo>
                        <a:lnTo>
                          <a:pt x="99" y="146"/>
                        </a:lnTo>
                        <a:lnTo>
                          <a:pt x="108" y="149"/>
                        </a:lnTo>
                        <a:lnTo>
                          <a:pt x="110" y="131"/>
                        </a:lnTo>
                        <a:lnTo>
                          <a:pt x="101" y="125"/>
                        </a:lnTo>
                        <a:lnTo>
                          <a:pt x="95" y="110"/>
                        </a:lnTo>
                        <a:lnTo>
                          <a:pt x="90" y="92"/>
                        </a:lnTo>
                        <a:lnTo>
                          <a:pt x="74" y="86"/>
                        </a:lnTo>
                        <a:lnTo>
                          <a:pt x="66" y="77"/>
                        </a:lnTo>
                        <a:lnTo>
                          <a:pt x="53" y="72"/>
                        </a:lnTo>
                        <a:lnTo>
                          <a:pt x="60" y="90"/>
                        </a:lnTo>
                        <a:lnTo>
                          <a:pt x="45" y="98"/>
                        </a:lnTo>
                        <a:lnTo>
                          <a:pt x="36" y="78"/>
                        </a:lnTo>
                        <a:lnTo>
                          <a:pt x="29" y="74"/>
                        </a:lnTo>
                        <a:lnTo>
                          <a:pt x="29" y="63"/>
                        </a:lnTo>
                        <a:lnTo>
                          <a:pt x="18" y="51"/>
                        </a:lnTo>
                        <a:lnTo>
                          <a:pt x="6" y="44"/>
                        </a:lnTo>
                        <a:lnTo>
                          <a:pt x="0" y="36"/>
                        </a:lnTo>
                        <a:lnTo>
                          <a:pt x="3" y="30"/>
                        </a:lnTo>
                        <a:lnTo>
                          <a:pt x="12" y="33"/>
                        </a:lnTo>
                        <a:lnTo>
                          <a:pt x="15" y="26"/>
                        </a:lnTo>
                        <a:lnTo>
                          <a:pt x="12" y="15"/>
                        </a:lnTo>
                        <a:lnTo>
                          <a:pt x="1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178400" y="2471760"/>
                    <a:ext cx="18576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9">
                        <a:moveTo>
                          <a:pt x="24" y="0"/>
                        </a:moveTo>
                        <a:lnTo>
                          <a:pt x="47" y="11"/>
                        </a:lnTo>
                        <a:lnTo>
                          <a:pt x="60" y="23"/>
                        </a:lnTo>
                        <a:lnTo>
                          <a:pt x="69" y="36"/>
                        </a:lnTo>
                        <a:lnTo>
                          <a:pt x="77" y="36"/>
                        </a:lnTo>
                        <a:lnTo>
                          <a:pt x="75" y="45"/>
                        </a:lnTo>
                        <a:lnTo>
                          <a:pt x="84" y="51"/>
                        </a:lnTo>
                        <a:lnTo>
                          <a:pt x="90" y="60"/>
                        </a:lnTo>
                        <a:lnTo>
                          <a:pt x="105" y="78"/>
                        </a:lnTo>
                        <a:lnTo>
                          <a:pt x="116" y="99"/>
                        </a:lnTo>
                        <a:lnTo>
                          <a:pt x="96" y="98"/>
                        </a:lnTo>
                        <a:lnTo>
                          <a:pt x="81" y="95"/>
                        </a:lnTo>
                        <a:lnTo>
                          <a:pt x="92" y="110"/>
                        </a:lnTo>
                        <a:lnTo>
                          <a:pt x="92" y="119"/>
                        </a:lnTo>
                        <a:lnTo>
                          <a:pt x="92" y="128"/>
                        </a:lnTo>
                        <a:lnTo>
                          <a:pt x="86" y="123"/>
                        </a:lnTo>
                        <a:lnTo>
                          <a:pt x="78" y="116"/>
                        </a:lnTo>
                        <a:lnTo>
                          <a:pt x="65" y="107"/>
                        </a:lnTo>
                        <a:lnTo>
                          <a:pt x="57" y="102"/>
                        </a:lnTo>
                        <a:lnTo>
                          <a:pt x="45" y="107"/>
                        </a:lnTo>
                        <a:lnTo>
                          <a:pt x="38" y="110"/>
                        </a:lnTo>
                        <a:lnTo>
                          <a:pt x="42" y="117"/>
                        </a:lnTo>
                        <a:lnTo>
                          <a:pt x="54" y="123"/>
                        </a:lnTo>
                        <a:lnTo>
                          <a:pt x="66" y="129"/>
                        </a:lnTo>
                        <a:lnTo>
                          <a:pt x="71" y="140"/>
                        </a:lnTo>
                        <a:lnTo>
                          <a:pt x="69" y="153"/>
                        </a:lnTo>
                        <a:lnTo>
                          <a:pt x="69" y="158"/>
                        </a:lnTo>
                        <a:lnTo>
                          <a:pt x="65" y="158"/>
                        </a:lnTo>
                        <a:lnTo>
                          <a:pt x="57" y="153"/>
                        </a:lnTo>
                        <a:lnTo>
                          <a:pt x="54" y="152"/>
                        </a:lnTo>
                        <a:lnTo>
                          <a:pt x="50" y="149"/>
                        </a:lnTo>
                        <a:lnTo>
                          <a:pt x="45" y="156"/>
                        </a:lnTo>
                        <a:lnTo>
                          <a:pt x="38" y="158"/>
                        </a:lnTo>
                        <a:lnTo>
                          <a:pt x="32" y="152"/>
                        </a:lnTo>
                        <a:lnTo>
                          <a:pt x="32" y="138"/>
                        </a:lnTo>
                        <a:lnTo>
                          <a:pt x="30" y="131"/>
                        </a:lnTo>
                        <a:lnTo>
                          <a:pt x="23" y="126"/>
                        </a:lnTo>
                        <a:lnTo>
                          <a:pt x="15" y="134"/>
                        </a:lnTo>
                        <a:lnTo>
                          <a:pt x="3" y="134"/>
                        </a:lnTo>
                        <a:lnTo>
                          <a:pt x="0" y="128"/>
                        </a:lnTo>
                        <a:lnTo>
                          <a:pt x="3" y="113"/>
                        </a:lnTo>
                        <a:lnTo>
                          <a:pt x="12" y="104"/>
                        </a:lnTo>
                        <a:lnTo>
                          <a:pt x="11" y="80"/>
                        </a:lnTo>
                        <a:lnTo>
                          <a:pt x="11" y="74"/>
                        </a:lnTo>
                        <a:lnTo>
                          <a:pt x="20" y="72"/>
                        </a:lnTo>
                        <a:lnTo>
                          <a:pt x="27" y="78"/>
                        </a:lnTo>
                        <a:lnTo>
                          <a:pt x="41" y="81"/>
                        </a:lnTo>
                        <a:lnTo>
                          <a:pt x="41" y="71"/>
                        </a:lnTo>
                        <a:lnTo>
                          <a:pt x="35" y="65"/>
                        </a:lnTo>
                        <a:lnTo>
                          <a:pt x="32" y="60"/>
                        </a:lnTo>
                        <a:lnTo>
                          <a:pt x="36" y="60"/>
                        </a:lnTo>
                        <a:lnTo>
                          <a:pt x="39" y="60"/>
                        </a:lnTo>
                        <a:lnTo>
                          <a:pt x="42" y="60"/>
                        </a:lnTo>
                        <a:lnTo>
                          <a:pt x="45" y="60"/>
                        </a:lnTo>
                        <a:lnTo>
                          <a:pt x="50" y="56"/>
                        </a:lnTo>
                        <a:lnTo>
                          <a:pt x="48" y="51"/>
                        </a:lnTo>
                        <a:lnTo>
                          <a:pt x="44" y="41"/>
                        </a:lnTo>
                        <a:lnTo>
                          <a:pt x="35" y="30"/>
                        </a:lnTo>
                        <a:lnTo>
                          <a:pt x="23" y="24"/>
                        </a:lnTo>
                        <a:lnTo>
                          <a:pt x="18" y="15"/>
                        </a:lnTo>
                        <a:lnTo>
                          <a:pt x="2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968880" y="2174760"/>
                    <a:ext cx="20160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28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" y="9"/>
                        </a:lnTo>
                        <a:lnTo>
                          <a:pt x="33" y="22"/>
                        </a:lnTo>
                        <a:lnTo>
                          <a:pt x="41" y="37"/>
                        </a:lnTo>
                        <a:lnTo>
                          <a:pt x="53" y="39"/>
                        </a:lnTo>
                        <a:lnTo>
                          <a:pt x="62" y="42"/>
                        </a:lnTo>
                        <a:lnTo>
                          <a:pt x="69" y="48"/>
                        </a:lnTo>
                        <a:lnTo>
                          <a:pt x="78" y="48"/>
                        </a:lnTo>
                        <a:lnTo>
                          <a:pt x="89" y="57"/>
                        </a:lnTo>
                        <a:lnTo>
                          <a:pt x="98" y="64"/>
                        </a:lnTo>
                        <a:lnTo>
                          <a:pt x="108" y="69"/>
                        </a:lnTo>
                        <a:lnTo>
                          <a:pt x="107" y="73"/>
                        </a:lnTo>
                        <a:lnTo>
                          <a:pt x="101" y="76"/>
                        </a:lnTo>
                        <a:lnTo>
                          <a:pt x="95" y="76"/>
                        </a:lnTo>
                        <a:lnTo>
                          <a:pt x="92" y="81"/>
                        </a:lnTo>
                        <a:lnTo>
                          <a:pt x="104" y="90"/>
                        </a:lnTo>
                        <a:lnTo>
                          <a:pt x="113" y="99"/>
                        </a:lnTo>
                        <a:lnTo>
                          <a:pt x="126" y="108"/>
                        </a:lnTo>
                        <a:lnTo>
                          <a:pt x="117" y="118"/>
                        </a:lnTo>
                        <a:lnTo>
                          <a:pt x="110" y="121"/>
                        </a:lnTo>
                        <a:lnTo>
                          <a:pt x="111" y="127"/>
                        </a:lnTo>
                        <a:lnTo>
                          <a:pt x="98" y="127"/>
                        </a:lnTo>
                        <a:lnTo>
                          <a:pt x="93" y="123"/>
                        </a:lnTo>
                        <a:lnTo>
                          <a:pt x="83" y="111"/>
                        </a:lnTo>
                        <a:lnTo>
                          <a:pt x="75" y="100"/>
                        </a:lnTo>
                        <a:lnTo>
                          <a:pt x="63" y="82"/>
                        </a:lnTo>
                        <a:lnTo>
                          <a:pt x="50" y="69"/>
                        </a:lnTo>
                        <a:lnTo>
                          <a:pt x="35" y="49"/>
                        </a:lnTo>
                        <a:lnTo>
                          <a:pt x="26" y="43"/>
                        </a:lnTo>
                        <a:lnTo>
                          <a:pt x="18" y="39"/>
                        </a:lnTo>
                        <a:lnTo>
                          <a:pt x="15" y="28"/>
                        </a:lnTo>
                        <a:lnTo>
                          <a:pt x="2" y="19"/>
                        </a:lnTo>
                        <a:lnTo>
                          <a:pt x="2" y="13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348080" y="1757520"/>
                  <a:ext cx="2930400" cy="3357360"/>
                  <a:chOff x="4348080" y="1757520"/>
                  <a:chExt cx="2930400" cy="33573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48080" y="2590920"/>
                    <a:ext cx="145584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969">
                        <a:moveTo>
                          <a:pt x="685" y="116"/>
                        </a:moveTo>
                        <a:lnTo>
                          <a:pt x="700" y="156"/>
                        </a:lnTo>
                        <a:lnTo>
                          <a:pt x="729" y="217"/>
                        </a:lnTo>
                        <a:lnTo>
                          <a:pt x="786" y="316"/>
                        </a:lnTo>
                        <a:lnTo>
                          <a:pt x="807" y="330"/>
                        </a:lnTo>
                        <a:lnTo>
                          <a:pt x="820" y="358"/>
                        </a:lnTo>
                        <a:lnTo>
                          <a:pt x="865" y="357"/>
                        </a:lnTo>
                        <a:lnTo>
                          <a:pt x="895" y="348"/>
                        </a:lnTo>
                        <a:lnTo>
                          <a:pt x="916" y="348"/>
                        </a:lnTo>
                        <a:lnTo>
                          <a:pt x="915" y="387"/>
                        </a:lnTo>
                        <a:lnTo>
                          <a:pt x="907" y="408"/>
                        </a:lnTo>
                        <a:lnTo>
                          <a:pt x="825" y="495"/>
                        </a:lnTo>
                        <a:lnTo>
                          <a:pt x="750" y="585"/>
                        </a:lnTo>
                        <a:lnTo>
                          <a:pt x="751" y="619"/>
                        </a:lnTo>
                        <a:lnTo>
                          <a:pt x="772" y="645"/>
                        </a:lnTo>
                        <a:lnTo>
                          <a:pt x="762" y="664"/>
                        </a:lnTo>
                        <a:lnTo>
                          <a:pt x="768" y="691"/>
                        </a:lnTo>
                        <a:lnTo>
                          <a:pt x="762" y="711"/>
                        </a:lnTo>
                        <a:lnTo>
                          <a:pt x="744" y="727"/>
                        </a:lnTo>
                        <a:lnTo>
                          <a:pt x="729" y="727"/>
                        </a:lnTo>
                        <a:lnTo>
                          <a:pt x="703" y="756"/>
                        </a:lnTo>
                        <a:lnTo>
                          <a:pt x="681" y="789"/>
                        </a:lnTo>
                        <a:lnTo>
                          <a:pt x="685" y="825"/>
                        </a:lnTo>
                        <a:lnTo>
                          <a:pt x="663" y="841"/>
                        </a:lnTo>
                        <a:lnTo>
                          <a:pt x="642" y="879"/>
                        </a:lnTo>
                        <a:lnTo>
                          <a:pt x="616" y="913"/>
                        </a:lnTo>
                        <a:lnTo>
                          <a:pt x="603" y="926"/>
                        </a:lnTo>
                        <a:lnTo>
                          <a:pt x="591" y="929"/>
                        </a:lnTo>
                        <a:lnTo>
                          <a:pt x="570" y="952"/>
                        </a:lnTo>
                        <a:lnTo>
                          <a:pt x="535" y="965"/>
                        </a:lnTo>
                        <a:lnTo>
                          <a:pt x="492" y="968"/>
                        </a:lnTo>
                        <a:lnTo>
                          <a:pt x="468" y="953"/>
                        </a:lnTo>
                        <a:lnTo>
                          <a:pt x="465" y="938"/>
                        </a:lnTo>
                        <a:lnTo>
                          <a:pt x="460" y="919"/>
                        </a:lnTo>
                        <a:lnTo>
                          <a:pt x="444" y="908"/>
                        </a:lnTo>
                        <a:lnTo>
                          <a:pt x="430" y="871"/>
                        </a:lnTo>
                        <a:lnTo>
                          <a:pt x="426" y="853"/>
                        </a:lnTo>
                        <a:lnTo>
                          <a:pt x="424" y="831"/>
                        </a:lnTo>
                        <a:lnTo>
                          <a:pt x="417" y="814"/>
                        </a:lnTo>
                        <a:lnTo>
                          <a:pt x="415" y="804"/>
                        </a:lnTo>
                        <a:lnTo>
                          <a:pt x="402" y="787"/>
                        </a:lnTo>
                        <a:lnTo>
                          <a:pt x="387" y="774"/>
                        </a:lnTo>
                        <a:lnTo>
                          <a:pt x="376" y="751"/>
                        </a:lnTo>
                        <a:lnTo>
                          <a:pt x="369" y="735"/>
                        </a:lnTo>
                        <a:lnTo>
                          <a:pt x="372" y="708"/>
                        </a:lnTo>
                        <a:lnTo>
                          <a:pt x="394" y="667"/>
                        </a:lnTo>
                        <a:lnTo>
                          <a:pt x="399" y="624"/>
                        </a:lnTo>
                        <a:lnTo>
                          <a:pt x="382" y="574"/>
                        </a:lnTo>
                        <a:lnTo>
                          <a:pt x="358" y="555"/>
                        </a:lnTo>
                        <a:lnTo>
                          <a:pt x="342" y="528"/>
                        </a:lnTo>
                        <a:lnTo>
                          <a:pt x="348" y="486"/>
                        </a:lnTo>
                        <a:lnTo>
                          <a:pt x="336" y="454"/>
                        </a:lnTo>
                        <a:lnTo>
                          <a:pt x="307" y="451"/>
                        </a:lnTo>
                        <a:lnTo>
                          <a:pt x="277" y="427"/>
                        </a:lnTo>
                        <a:lnTo>
                          <a:pt x="240" y="414"/>
                        </a:lnTo>
                        <a:lnTo>
                          <a:pt x="201" y="435"/>
                        </a:lnTo>
                        <a:lnTo>
                          <a:pt x="99" y="429"/>
                        </a:lnTo>
                        <a:lnTo>
                          <a:pt x="44" y="376"/>
                        </a:lnTo>
                        <a:lnTo>
                          <a:pt x="0" y="304"/>
                        </a:lnTo>
                        <a:lnTo>
                          <a:pt x="8" y="280"/>
                        </a:lnTo>
                        <a:lnTo>
                          <a:pt x="27" y="262"/>
                        </a:lnTo>
                        <a:lnTo>
                          <a:pt x="36" y="213"/>
                        </a:lnTo>
                        <a:lnTo>
                          <a:pt x="50" y="177"/>
                        </a:lnTo>
                        <a:lnTo>
                          <a:pt x="89" y="139"/>
                        </a:lnTo>
                        <a:lnTo>
                          <a:pt x="129" y="123"/>
                        </a:lnTo>
                        <a:lnTo>
                          <a:pt x="167" y="84"/>
                        </a:lnTo>
                        <a:lnTo>
                          <a:pt x="176" y="68"/>
                        </a:lnTo>
                        <a:lnTo>
                          <a:pt x="225" y="26"/>
                        </a:lnTo>
                        <a:lnTo>
                          <a:pt x="256" y="42"/>
                        </a:lnTo>
                        <a:lnTo>
                          <a:pt x="279" y="41"/>
                        </a:lnTo>
                        <a:lnTo>
                          <a:pt x="306" y="18"/>
                        </a:lnTo>
                        <a:lnTo>
                          <a:pt x="337" y="15"/>
                        </a:lnTo>
                        <a:lnTo>
                          <a:pt x="358" y="21"/>
                        </a:lnTo>
                        <a:lnTo>
                          <a:pt x="378" y="3"/>
                        </a:lnTo>
                        <a:lnTo>
                          <a:pt x="403" y="0"/>
                        </a:lnTo>
                        <a:lnTo>
                          <a:pt x="409" y="33"/>
                        </a:lnTo>
                        <a:lnTo>
                          <a:pt x="426" y="57"/>
                        </a:lnTo>
                        <a:lnTo>
                          <a:pt x="472" y="81"/>
                        </a:lnTo>
                        <a:lnTo>
                          <a:pt x="511" y="86"/>
                        </a:lnTo>
                        <a:lnTo>
                          <a:pt x="516" y="59"/>
                        </a:lnTo>
                        <a:lnTo>
                          <a:pt x="546" y="59"/>
                        </a:lnTo>
                        <a:lnTo>
                          <a:pt x="582" y="75"/>
                        </a:lnTo>
                        <a:lnTo>
                          <a:pt x="621" y="84"/>
                        </a:lnTo>
                        <a:lnTo>
                          <a:pt x="655" y="74"/>
                        </a:lnTo>
                        <a:lnTo>
                          <a:pt x="685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4446360" y="1757520"/>
                    <a:ext cx="642960" cy="529920"/>
                    <a:chOff x="4446360" y="1757520"/>
                    <a:chExt cx="642960" cy="529920"/>
                  </a:xfrm>
                </p:grpSpPr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4701960" y="2089080"/>
                      <a:ext cx="200160" cy="198360"/>
                      <a:chOff x="4701960" y="2089080"/>
                      <a:chExt cx="200160" cy="19836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701960" y="2162160"/>
                        <a:ext cx="95400" cy="11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70">
                            <a:moveTo>
                              <a:pt x="14" y="21"/>
                            </a:moveTo>
                            <a:lnTo>
                              <a:pt x="18" y="14"/>
                            </a:lnTo>
                            <a:lnTo>
                              <a:pt x="29" y="14"/>
                            </a:lnTo>
                            <a:lnTo>
                              <a:pt x="44" y="0"/>
                            </a:lnTo>
                            <a:lnTo>
                              <a:pt x="48" y="9"/>
                            </a:lnTo>
                            <a:lnTo>
                              <a:pt x="56" y="9"/>
                            </a:lnTo>
                            <a:lnTo>
                              <a:pt x="59" y="14"/>
                            </a:lnTo>
                            <a:lnTo>
                              <a:pt x="54" y="21"/>
                            </a:lnTo>
                            <a:lnTo>
                              <a:pt x="48" y="24"/>
                            </a:lnTo>
                            <a:lnTo>
                              <a:pt x="48" y="30"/>
                            </a:lnTo>
                            <a:lnTo>
                              <a:pt x="47" y="33"/>
                            </a:lnTo>
                            <a:lnTo>
                              <a:pt x="45" y="38"/>
                            </a:lnTo>
                            <a:lnTo>
                              <a:pt x="48" y="44"/>
                            </a:lnTo>
                            <a:lnTo>
                              <a:pt x="44" y="50"/>
                            </a:lnTo>
                            <a:lnTo>
                              <a:pt x="39" y="53"/>
                            </a:lnTo>
                            <a:lnTo>
                              <a:pt x="35" y="53"/>
                            </a:lnTo>
                            <a:lnTo>
                              <a:pt x="33" y="54"/>
                            </a:lnTo>
                            <a:lnTo>
                              <a:pt x="32" y="59"/>
                            </a:lnTo>
                            <a:lnTo>
                              <a:pt x="24" y="60"/>
                            </a:lnTo>
                            <a:lnTo>
                              <a:pt x="23" y="59"/>
                            </a:lnTo>
                            <a:lnTo>
                              <a:pt x="17" y="63"/>
                            </a:lnTo>
                            <a:lnTo>
                              <a:pt x="15" y="65"/>
                            </a:lnTo>
                            <a:lnTo>
                              <a:pt x="8" y="69"/>
                            </a:lnTo>
                            <a:lnTo>
                              <a:pt x="5" y="69"/>
                            </a:lnTo>
                            <a:lnTo>
                              <a:pt x="3" y="66"/>
                            </a:lnTo>
                            <a:lnTo>
                              <a:pt x="2" y="59"/>
                            </a:lnTo>
                            <a:lnTo>
                              <a:pt x="0" y="57"/>
                            </a:lnTo>
                            <a:lnTo>
                              <a:pt x="0" y="51"/>
                            </a:lnTo>
                            <a:lnTo>
                              <a:pt x="5" y="48"/>
                            </a:lnTo>
                            <a:lnTo>
                              <a:pt x="9" y="45"/>
                            </a:lnTo>
                            <a:lnTo>
                              <a:pt x="12" y="39"/>
                            </a:lnTo>
                            <a:lnTo>
                              <a:pt x="17" y="39"/>
                            </a:lnTo>
                            <a:lnTo>
                              <a:pt x="20" y="41"/>
                            </a:lnTo>
                            <a:lnTo>
                              <a:pt x="24" y="39"/>
                            </a:lnTo>
                            <a:lnTo>
                              <a:pt x="20" y="38"/>
                            </a:lnTo>
                            <a:lnTo>
                              <a:pt x="14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24242"/>
                          </a:gs>
                          <a:gs pos="100000">
                            <a:srgbClr val="868686"/>
                          </a:gs>
                        </a:gsLst>
                        <a:lin ang="13500000"/>
                      </a:gra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50505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4787640" y="2089080"/>
                        <a:ext cx="114480" cy="19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25">
                            <a:moveTo>
                              <a:pt x="23" y="18"/>
                            </a:moveTo>
                            <a:lnTo>
                              <a:pt x="27" y="13"/>
                            </a:lnTo>
                            <a:lnTo>
                              <a:pt x="41" y="15"/>
                            </a:lnTo>
                            <a:lnTo>
                              <a:pt x="44" y="12"/>
                            </a:lnTo>
                            <a:lnTo>
                              <a:pt x="47" y="7"/>
                            </a:lnTo>
                            <a:lnTo>
                              <a:pt x="50" y="7"/>
                            </a:lnTo>
                            <a:lnTo>
                              <a:pt x="53" y="6"/>
                            </a:lnTo>
                            <a:lnTo>
                              <a:pt x="57" y="3"/>
                            </a:lnTo>
                            <a:lnTo>
                              <a:pt x="63" y="0"/>
                            </a:lnTo>
                            <a:lnTo>
                              <a:pt x="71" y="1"/>
                            </a:lnTo>
                            <a:lnTo>
                              <a:pt x="69" y="7"/>
                            </a:lnTo>
                            <a:lnTo>
                              <a:pt x="66" y="12"/>
                            </a:lnTo>
                            <a:lnTo>
                              <a:pt x="63" y="13"/>
                            </a:lnTo>
                            <a:lnTo>
                              <a:pt x="60" y="15"/>
                            </a:lnTo>
                            <a:lnTo>
                              <a:pt x="51" y="18"/>
                            </a:lnTo>
                            <a:lnTo>
                              <a:pt x="51" y="24"/>
                            </a:lnTo>
                            <a:lnTo>
                              <a:pt x="53" y="27"/>
                            </a:lnTo>
                            <a:lnTo>
                              <a:pt x="62" y="24"/>
                            </a:lnTo>
                            <a:lnTo>
                              <a:pt x="69" y="21"/>
                            </a:lnTo>
                            <a:lnTo>
                              <a:pt x="71" y="24"/>
                            </a:lnTo>
                            <a:lnTo>
                              <a:pt x="71" y="33"/>
                            </a:lnTo>
                            <a:lnTo>
                              <a:pt x="65" y="34"/>
                            </a:lnTo>
                            <a:lnTo>
                              <a:pt x="59" y="34"/>
                            </a:lnTo>
                            <a:lnTo>
                              <a:pt x="54" y="39"/>
                            </a:lnTo>
                            <a:lnTo>
                              <a:pt x="53" y="42"/>
                            </a:lnTo>
                            <a:lnTo>
                              <a:pt x="53" y="46"/>
                            </a:lnTo>
                            <a:lnTo>
                              <a:pt x="57" y="52"/>
                            </a:lnTo>
                            <a:lnTo>
                              <a:pt x="62" y="57"/>
                            </a:lnTo>
                            <a:lnTo>
                              <a:pt x="65" y="61"/>
                            </a:lnTo>
                            <a:lnTo>
                              <a:pt x="66" y="67"/>
                            </a:lnTo>
                            <a:lnTo>
                              <a:pt x="68" y="73"/>
                            </a:lnTo>
                            <a:lnTo>
                              <a:pt x="71" y="81"/>
                            </a:lnTo>
                            <a:lnTo>
                              <a:pt x="71" y="91"/>
                            </a:lnTo>
                            <a:lnTo>
                              <a:pt x="68" y="97"/>
                            </a:lnTo>
                            <a:lnTo>
                              <a:pt x="62" y="102"/>
                            </a:lnTo>
                            <a:lnTo>
                              <a:pt x="60" y="105"/>
                            </a:lnTo>
                            <a:lnTo>
                              <a:pt x="63" y="111"/>
                            </a:lnTo>
                            <a:lnTo>
                              <a:pt x="66" y="117"/>
                            </a:lnTo>
                            <a:lnTo>
                              <a:pt x="57" y="117"/>
                            </a:lnTo>
                            <a:lnTo>
                              <a:pt x="50" y="117"/>
                            </a:lnTo>
                            <a:lnTo>
                              <a:pt x="47" y="115"/>
                            </a:lnTo>
                            <a:lnTo>
                              <a:pt x="41" y="115"/>
                            </a:lnTo>
                            <a:lnTo>
                              <a:pt x="33" y="117"/>
                            </a:lnTo>
                            <a:lnTo>
                              <a:pt x="27" y="120"/>
                            </a:lnTo>
                            <a:lnTo>
                              <a:pt x="23" y="120"/>
                            </a:lnTo>
                            <a:lnTo>
                              <a:pt x="20" y="121"/>
                            </a:lnTo>
                            <a:lnTo>
                              <a:pt x="12" y="124"/>
                            </a:lnTo>
                            <a:lnTo>
                              <a:pt x="11" y="123"/>
                            </a:lnTo>
                            <a:lnTo>
                              <a:pt x="8" y="120"/>
                            </a:lnTo>
                            <a:lnTo>
                              <a:pt x="3" y="118"/>
                            </a:lnTo>
                            <a:lnTo>
                              <a:pt x="0" y="117"/>
                            </a:lnTo>
                            <a:lnTo>
                              <a:pt x="0" y="111"/>
                            </a:lnTo>
                            <a:lnTo>
                              <a:pt x="3" y="103"/>
                            </a:lnTo>
                            <a:lnTo>
                              <a:pt x="8" y="103"/>
                            </a:lnTo>
                            <a:lnTo>
                              <a:pt x="12" y="102"/>
                            </a:lnTo>
                            <a:lnTo>
                              <a:pt x="18" y="102"/>
                            </a:lnTo>
                            <a:lnTo>
                              <a:pt x="18" y="100"/>
                            </a:lnTo>
                            <a:lnTo>
                              <a:pt x="12" y="97"/>
                            </a:lnTo>
                            <a:lnTo>
                              <a:pt x="12" y="93"/>
                            </a:lnTo>
                            <a:lnTo>
                              <a:pt x="12" y="90"/>
                            </a:lnTo>
                            <a:lnTo>
                              <a:pt x="18" y="87"/>
                            </a:lnTo>
                            <a:lnTo>
                              <a:pt x="21" y="85"/>
                            </a:lnTo>
                            <a:lnTo>
                              <a:pt x="24" y="84"/>
                            </a:lnTo>
                            <a:lnTo>
                              <a:pt x="29" y="84"/>
                            </a:lnTo>
                            <a:lnTo>
                              <a:pt x="32" y="82"/>
                            </a:lnTo>
                            <a:lnTo>
                              <a:pt x="33" y="70"/>
                            </a:lnTo>
                            <a:lnTo>
                              <a:pt x="38" y="61"/>
                            </a:lnTo>
                            <a:lnTo>
                              <a:pt x="38" y="57"/>
                            </a:lnTo>
                            <a:lnTo>
                              <a:pt x="27" y="55"/>
                            </a:lnTo>
                            <a:lnTo>
                              <a:pt x="30" y="48"/>
                            </a:lnTo>
                            <a:lnTo>
                              <a:pt x="23" y="43"/>
                            </a:lnTo>
                            <a:lnTo>
                              <a:pt x="15" y="45"/>
                            </a:lnTo>
                            <a:lnTo>
                              <a:pt x="24" y="34"/>
                            </a:lnTo>
                            <a:lnTo>
                              <a:pt x="23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24242"/>
                          </a:gs>
                          <a:gs pos="100000">
                            <a:srgbClr val="868686"/>
                          </a:gs>
                        </a:gsLst>
                        <a:lin ang="13500000"/>
                      </a:gra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50505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446360" y="1757520"/>
                      <a:ext cx="642960" cy="33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5" h="211">
                          <a:moveTo>
                            <a:pt x="0" y="210"/>
                          </a:moveTo>
                          <a:lnTo>
                            <a:pt x="25" y="206"/>
                          </a:lnTo>
                          <a:lnTo>
                            <a:pt x="34" y="197"/>
                          </a:lnTo>
                          <a:lnTo>
                            <a:pt x="40" y="191"/>
                          </a:lnTo>
                          <a:lnTo>
                            <a:pt x="43" y="186"/>
                          </a:lnTo>
                          <a:lnTo>
                            <a:pt x="49" y="186"/>
                          </a:lnTo>
                          <a:lnTo>
                            <a:pt x="55" y="182"/>
                          </a:lnTo>
                          <a:lnTo>
                            <a:pt x="63" y="182"/>
                          </a:lnTo>
                          <a:lnTo>
                            <a:pt x="67" y="182"/>
                          </a:lnTo>
                          <a:lnTo>
                            <a:pt x="73" y="182"/>
                          </a:lnTo>
                          <a:lnTo>
                            <a:pt x="76" y="182"/>
                          </a:lnTo>
                          <a:lnTo>
                            <a:pt x="82" y="176"/>
                          </a:lnTo>
                          <a:lnTo>
                            <a:pt x="85" y="171"/>
                          </a:lnTo>
                          <a:lnTo>
                            <a:pt x="93" y="167"/>
                          </a:lnTo>
                          <a:lnTo>
                            <a:pt x="99" y="165"/>
                          </a:lnTo>
                          <a:lnTo>
                            <a:pt x="103" y="162"/>
                          </a:lnTo>
                          <a:lnTo>
                            <a:pt x="109" y="161"/>
                          </a:lnTo>
                          <a:lnTo>
                            <a:pt x="114" y="158"/>
                          </a:lnTo>
                          <a:lnTo>
                            <a:pt x="120" y="155"/>
                          </a:lnTo>
                          <a:lnTo>
                            <a:pt x="126" y="152"/>
                          </a:lnTo>
                          <a:lnTo>
                            <a:pt x="133" y="147"/>
                          </a:lnTo>
                          <a:lnTo>
                            <a:pt x="141" y="149"/>
                          </a:lnTo>
                          <a:lnTo>
                            <a:pt x="152" y="152"/>
                          </a:lnTo>
                          <a:lnTo>
                            <a:pt x="164" y="152"/>
                          </a:lnTo>
                          <a:lnTo>
                            <a:pt x="178" y="147"/>
                          </a:lnTo>
                          <a:lnTo>
                            <a:pt x="184" y="146"/>
                          </a:lnTo>
                          <a:lnTo>
                            <a:pt x="188" y="137"/>
                          </a:lnTo>
                          <a:lnTo>
                            <a:pt x="194" y="131"/>
                          </a:lnTo>
                          <a:lnTo>
                            <a:pt x="205" y="123"/>
                          </a:lnTo>
                          <a:lnTo>
                            <a:pt x="208" y="119"/>
                          </a:lnTo>
                          <a:lnTo>
                            <a:pt x="208" y="113"/>
                          </a:lnTo>
                          <a:lnTo>
                            <a:pt x="217" y="108"/>
                          </a:lnTo>
                          <a:lnTo>
                            <a:pt x="221" y="104"/>
                          </a:lnTo>
                          <a:lnTo>
                            <a:pt x="224" y="99"/>
                          </a:lnTo>
                          <a:lnTo>
                            <a:pt x="227" y="98"/>
                          </a:lnTo>
                          <a:lnTo>
                            <a:pt x="242" y="89"/>
                          </a:lnTo>
                          <a:lnTo>
                            <a:pt x="242" y="98"/>
                          </a:lnTo>
                          <a:lnTo>
                            <a:pt x="239" y="102"/>
                          </a:lnTo>
                          <a:lnTo>
                            <a:pt x="242" y="107"/>
                          </a:lnTo>
                          <a:lnTo>
                            <a:pt x="253" y="108"/>
                          </a:lnTo>
                          <a:lnTo>
                            <a:pt x="259" y="108"/>
                          </a:lnTo>
                          <a:lnTo>
                            <a:pt x="265" y="104"/>
                          </a:lnTo>
                          <a:lnTo>
                            <a:pt x="269" y="98"/>
                          </a:lnTo>
                          <a:lnTo>
                            <a:pt x="269" y="93"/>
                          </a:lnTo>
                          <a:lnTo>
                            <a:pt x="274" y="89"/>
                          </a:lnTo>
                          <a:lnTo>
                            <a:pt x="274" y="84"/>
                          </a:lnTo>
                          <a:lnTo>
                            <a:pt x="278" y="78"/>
                          </a:lnTo>
                          <a:lnTo>
                            <a:pt x="281" y="75"/>
                          </a:lnTo>
                          <a:lnTo>
                            <a:pt x="289" y="75"/>
                          </a:lnTo>
                          <a:lnTo>
                            <a:pt x="304" y="75"/>
                          </a:lnTo>
                          <a:lnTo>
                            <a:pt x="316" y="69"/>
                          </a:lnTo>
                          <a:lnTo>
                            <a:pt x="326" y="60"/>
                          </a:lnTo>
                          <a:lnTo>
                            <a:pt x="338" y="57"/>
                          </a:lnTo>
                          <a:lnTo>
                            <a:pt x="349" y="50"/>
                          </a:lnTo>
                          <a:lnTo>
                            <a:pt x="356" y="38"/>
                          </a:lnTo>
                          <a:lnTo>
                            <a:pt x="373" y="24"/>
                          </a:lnTo>
                          <a:lnTo>
                            <a:pt x="383" y="18"/>
                          </a:lnTo>
                          <a:lnTo>
                            <a:pt x="394" y="12"/>
                          </a:lnTo>
                          <a:lnTo>
                            <a:pt x="404" y="5"/>
                          </a:lnTo>
                          <a:lnTo>
                            <a:pt x="386" y="0"/>
                          </a:lnTo>
                          <a:lnTo>
                            <a:pt x="368" y="0"/>
                          </a:lnTo>
                          <a:lnTo>
                            <a:pt x="350" y="8"/>
                          </a:lnTo>
                          <a:lnTo>
                            <a:pt x="341" y="12"/>
                          </a:lnTo>
                          <a:lnTo>
                            <a:pt x="326" y="15"/>
                          </a:lnTo>
                          <a:lnTo>
                            <a:pt x="310" y="17"/>
                          </a:lnTo>
                          <a:lnTo>
                            <a:pt x="301" y="20"/>
                          </a:lnTo>
                          <a:lnTo>
                            <a:pt x="281" y="27"/>
                          </a:lnTo>
                          <a:lnTo>
                            <a:pt x="269" y="32"/>
                          </a:lnTo>
                          <a:lnTo>
                            <a:pt x="257" y="36"/>
                          </a:lnTo>
                          <a:lnTo>
                            <a:pt x="242" y="39"/>
                          </a:lnTo>
                          <a:lnTo>
                            <a:pt x="227" y="44"/>
                          </a:lnTo>
                          <a:lnTo>
                            <a:pt x="214" y="50"/>
                          </a:lnTo>
                          <a:lnTo>
                            <a:pt x="203" y="57"/>
                          </a:lnTo>
                          <a:lnTo>
                            <a:pt x="194" y="65"/>
                          </a:lnTo>
                          <a:lnTo>
                            <a:pt x="185" y="71"/>
                          </a:lnTo>
                          <a:lnTo>
                            <a:pt x="178" y="75"/>
                          </a:lnTo>
                          <a:lnTo>
                            <a:pt x="161" y="84"/>
                          </a:lnTo>
                          <a:lnTo>
                            <a:pt x="145" y="93"/>
                          </a:lnTo>
                          <a:lnTo>
                            <a:pt x="126" y="104"/>
                          </a:lnTo>
                          <a:lnTo>
                            <a:pt x="112" y="117"/>
                          </a:lnTo>
                          <a:lnTo>
                            <a:pt x="97" y="128"/>
                          </a:lnTo>
                          <a:lnTo>
                            <a:pt x="84" y="134"/>
                          </a:lnTo>
                          <a:lnTo>
                            <a:pt x="70" y="147"/>
                          </a:lnTo>
                          <a:lnTo>
                            <a:pt x="61" y="156"/>
                          </a:lnTo>
                          <a:lnTo>
                            <a:pt x="49" y="165"/>
                          </a:lnTo>
                          <a:lnTo>
                            <a:pt x="37" y="171"/>
                          </a:lnTo>
                          <a:lnTo>
                            <a:pt x="25" y="177"/>
                          </a:lnTo>
                          <a:lnTo>
                            <a:pt x="0" y="21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424242"/>
                        </a:gs>
                        <a:gs pos="100000">
                          <a:srgbClr val="868686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50505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>
                    <a:off x="4743360" y="4803840"/>
                    <a:ext cx="95868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196">
                        <a:moveTo>
                          <a:pt x="0" y="86"/>
                        </a:moveTo>
                        <a:lnTo>
                          <a:pt x="58" y="60"/>
                        </a:lnTo>
                        <a:lnTo>
                          <a:pt x="73" y="59"/>
                        </a:lnTo>
                        <a:lnTo>
                          <a:pt x="82" y="54"/>
                        </a:lnTo>
                        <a:lnTo>
                          <a:pt x="148" y="57"/>
                        </a:lnTo>
                        <a:lnTo>
                          <a:pt x="153" y="51"/>
                        </a:lnTo>
                        <a:lnTo>
                          <a:pt x="160" y="48"/>
                        </a:lnTo>
                        <a:lnTo>
                          <a:pt x="174" y="44"/>
                        </a:lnTo>
                        <a:lnTo>
                          <a:pt x="183" y="38"/>
                        </a:lnTo>
                        <a:lnTo>
                          <a:pt x="192" y="38"/>
                        </a:lnTo>
                        <a:lnTo>
                          <a:pt x="195" y="38"/>
                        </a:lnTo>
                        <a:lnTo>
                          <a:pt x="198" y="38"/>
                        </a:lnTo>
                        <a:lnTo>
                          <a:pt x="210" y="39"/>
                        </a:lnTo>
                        <a:lnTo>
                          <a:pt x="222" y="44"/>
                        </a:lnTo>
                        <a:lnTo>
                          <a:pt x="229" y="53"/>
                        </a:lnTo>
                        <a:lnTo>
                          <a:pt x="234" y="51"/>
                        </a:lnTo>
                        <a:lnTo>
                          <a:pt x="237" y="59"/>
                        </a:lnTo>
                        <a:lnTo>
                          <a:pt x="253" y="57"/>
                        </a:lnTo>
                        <a:lnTo>
                          <a:pt x="268" y="53"/>
                        </a:lnTo>
                        <a:lnTo>
                          <a:pt x="277" y="51"/>
                        </a:lnTo>
                        <a:lnTo>
                          <a:pt x="288" y="47"/>
                        </a:lnTo>
                        <a:lnTo>
                          <a:pt x="300" y="42"/>
                        </a:lnTo>
                        <a:lnTo>
                          <a:pt x="310" y="42"/>
                        </a:lnTo>
                        <a:lnTo>
                          <a:pt x="318" y="39"/>
                        </a:lnTo>
                        <a:lnTo>
                          <a:pt x="327" y="35"/>
                        </a:lnTo>
                        <a:lnTo>
                          <a:pt x="333" y="39"/>
                        </a:lnTo>
                        <a:lnTo>
                          <a:pt x="351" y="44"/>
                        </a:lnTo>
                        <a:lnTo>
                          <a:pt x="369" y="47"/>
                        </a:lnTo>
                        <a:lnTo>
                          <a:pt x="387" y="47"/>
                        </a:lnTo>
                        <a:lnTo>
                          <a:pt x="394" y="39"/>
                        </a:lnTo>
                        <a:lnTo>
                          <a:pt x="399" y="39"/>
                        </a:lnTo>
                        <a:lnTo>
                          <a:pt x="403" y="35"/>
                        </a:lnTo>
                        <a:lnTo>
                          <a:pt x="417" y="27"/>
                        </a:lnTo>
                        <a:lnTo>
                          <a:pt x="433" y="24"/>
                        </a:lnTo>
                        <a:lnTo>
                          <a:pt x="442" y="24"/>
                        </a:lnTo>
                        <a:lnTo>
                          <a:pt x="456" y="20"/>
                        </a:lnTo>
                        <a:lnTo>
                          <a:pt x="462" y="20"/>
                        </a:lnTo>
                        <a:lnTo>
                          <a:pt x="477" y="9"/>
                        </a:lnTo>
                        <a:lnTo>
                          <a:pt x="481" y="11"/>
                        </a:lnTo>
                        <a:lnTo>
                          <a:pt x="486" y="5"/>
                        </a:lnTo>
                        <a:lnTo>
                          <a:pt x="490" y="3"/>
                        </a:lnTo>
                        <a:lnTo>
                          <a:pt x="496" y="0"/>
                        </a:lnTo>
                        <a:lnTo>
                          <a:pt x="496" y="8"/>
                        </a:lnTo>
                        <a:lnTo>
                          <a:pt x="502" y="14"/>
                        </a:lnTo>
                        <a:lnTo>
                          <a:pt x="507" y="21"/>
                        </a:lnTo>
                        <a:lnTo>
                          <a:pt x="511" y="26"/>
                        </a:lnTo>
                        <a:lnTo>
                          <a:pt x="516" y="26"/>
                        </a:lnTo>
                        <a:lnTo>
                          <a:pt x="520" y="29"/>
                        </a:lnTo>
                        <a:lnTo>
                          <a:pt x="526" y="29"/>
                        </a:lnTo>
                        <a:lnTo>
                          <a:pt x="526" y="32"/>
                        </a:lnTo>
                        <a:lnTo>
                          <a:pt x="556" y="32"/>
                        </a:lnTo>
                        <a:lnTo>
                          <a:pt x="568" y="41"/>
                        </a:lnTo>
                        <a:lnTo>
                          <a:pt x="571" y="41"/>
                        </a:lnTo>
                        <a:lnTo>
                          <a:pt x="574" y="47"/>
                        </a:lnTo>
                        <a:lnTo>
                          <a:pt x="582" y="44"/>
                        </a:lnTo>
                        <a:lnTo>
                          <a:pt x="601" y="48"/>
                        </a:lnTo>
                        <a:lnTo>
                          <a:pt x="597" y="57"/>
                        </a:lnTo>
                        <a:lnTo>
                          <a:pt x="603" y="65"/>
                        </a:lnTo>
                        <a:lnTo>
                          <a:pt x="580" y="81"/>
                        </a:lnTo>
                        <a:lnTo>
                          <a:pt x="562" y="95"/>
                        </a:lnTo>
                        <a:lnTo>
                          <a:pt x="540" y="114"/>
                        </a:lnTo>
                        <a:lnTo>
                          <a:pt x="501" y="140"/>
                        </a:lnTo>
                        <a:lnTo>
                          <a:pt x="463" y="156"/>
                        </a:lnTo>
                        <a:lnTo>
                          <a:pt x="433" y="171"/>
                        </a:lnTo>
                        <a:lnTo>
                          <a:pt x="414" y="176"/>
                        </a:lnTo>
                        <a:lnTo>
                          <a:pt x="390" y="182"/>
                        </a:lnTo>
                        <a:lnTo>
                          <a:pt x="370" y="186"/>
                        </a:lnTo>
                        <a:lnTo>
                          <a:pt x="358" y="186"/>
                        </a:lnTo>
                        <a:lnTo>
                          <a:pt x="339" y="191"/>
                        </a:lnTo>
                        <a:lnTo>
                          <a:pt x="328" y="189"/>
                        </a:lnTo>
                        <a:lnTo>
                          <a:pt x="310" y="192"/>
                        </a:lnTo>
                        <a:lnTo>
                          <a:pt x="291" y="191"/>
                        </a:lnTo>
                        <a:lnTo>
                          <a:pt x="267" y="192"/>
                        </a:lnTo>
                        <a:lnTo>
                          <a:pt x="253" y="195"/>
                        </a:lnTo>
                        <a:lnTo>
                          <a:pt x="238" y="191"/>
                        </a:lnTo>
                        <a:lnTo>
                          <a:pt x="220" y="188"/>
                        </a:lnTo>
                        <a:lnTo>
                          <a:pt x="202" y="189"/>
                        </a:lnTo>
                        <a:lnTo>
                          <a:pt x="183" y="188"/>
                        </a:lnTo>
                        <a:lnTo>
                          <a:pt x="166" y="185"/>
                        </a:lnTo>
                        <a:lnTo>
                          <a:pt x="151" y="183"/>
                        </a:lnTo>
                        <a:lnTo>
                          <a:pt x="139" y="183"/>
                        </a:lnTo>
                        <a:lnTo>
                          <a:pt x="126" y="176"/>
                        </a:lnTo>
                        <a:lnTo>
                          <a:pt x="106" y="168"/>
                        </a:lnTo>
                        <a:lnTo>
                          <a:pt x="90" y="158"/>
                        </a:lnTo>
                        <a:lnTo>
                          <a:pt x="73" y="149"/>
                        </a:lnTo>
                        <a:lnTo>
                          <a:pt x="54" y="137"/>
                        </a:lnTo>
                        <a:lnTo>
                          <a:pt x="37" y="125"/>
                        </a:lnTo>
                        <a:lnTo>
                          <a:pt x="25" y="113"/>
                        </a:lnTo>
                        <a:lnTo>
                          <a:pt x="13" y="102"/>
                        </a:lnTo>
                        <a:lnTo>
                          <a:pt x="0" y="8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587920" y="3643200"/>
                    <a:ext cx="1918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05">
                        <a:moveTo>
                          <a:pt x="23" y="64"/>
                        </a:moveTo>
                        <a:lnTo>
                          <a:pt x="20" y="105"/>
                        </a:lnTo>
                        <a:lnTo>
                          <a:pt x="9" y="130"/>
                        </a:lnTo>
                        <a:lnTo>
                          <a:pt x="0" y="154"/>
                        </a:lnTo>
                        <a:lnTo>
                          <a:pt x="0" y="172"/>
                        </a:lnTo>
                        <a:lnTo>
                          <a:pt x="3" y="187"/>
                        </a:lnTo>
                        <a:lnTo>
                          <a:pt x="14" y="201"/>
                        </a:lnTo>
                        <a:lnTo>
                          <a:pt x="23" y="202"/>
                        </a:lnTo>
                        <a:lnTo>
                          <a:pt x="30" y="202"/>
                        </a:lnTo>
                        <a:lnTo>
                          <a:pt x="39" y="204"/>
                        </a:lnTo>
                        <a:lnTo>
                          <a:pt x="44" y="193"/>
                        </a:lnTo>
                        <a:lnTo>
                          <a:pt x="48" y="166"/>
                        </a:lnTo>
                        <a:lnTo>
                          <a:pt x="62" y="148"/>
                        </a:lnTo>
                        <a:lnTo>
                          <a:pt x="65" y="121"/>
                        </a:lnTo>
                        <a:lnTo>
                          <a:pt x="71" y="111"/>
                        </a:lnTo>
                        <a:lnTo>
                          <a:pt x="77" y="103"/>
                        </a:lnTo>
                        <a:lnTo>
                          <a:pt x="81" y="84"/>
                        </a:lnTo>
                        <a:lnTo>
                          <a:pt x="90" y="72"/>
                        </a:lnTo>
                        <a:lnTo>
                          <a:pt x="96" y="63"/>
                        </a:lnTo>
                        <a:lnTo>
                          <a:pt x="102" y="55"/>
                        </a:lnTo>
                        <a:lnTo>
                          <a:pt x="102" y="51"/>
                        </a:lnTo>
                        <a:lnTo>
                          <a:pt x="116" y="40"/>
                        </a:lnTo>
                        <a:lnTo>
                          <a:pt x="117" y="22"/>
                        </a:lnTo>
                        <a:lnTo>
                          <a:pt x="120" y="12"/>
                        </a:lnTo>
                        <a:lnTo>
                          <a:pt x="108" y="7"/>
                        </a:lnTo>
                        <a:lnTo>
                          <a:pt x="101" y="0"/>
                        </a:lnTo>
                        <a:lnTo>
                          <a:pt x="90" y="7"/>
                        </a:lnTo>
                        <a:lnTo>
                          <a:pt x="81" y="25"/>
                        </a:lnTo>
                        <a:lnTo>
                          <a:pt x="71" y="39"/>
                        </a:lnTo>
                        <a:lnTo>
                          <a:pt x="62" y="49"/>
                        </a:lnTo>
                        <a:lnTo>
                          <a:pt x="57" y="49"/>
                        </a:lnTo>
                        <a:lnTo>
                          <a:pt x="48" y="55"/>
                        </a:lnTo>
                        <a:lnTo>
                          <a:pt x="44" y="61"/>
                        </a:lnTo>
                        <a:lnTo>
                          <a:pt x="23" y="6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667040" y="1789200"/>
                    <a:ext cx="2611440" cy="15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5" h="968">
                        <a:moveTo>
                          <a:pt x="0" y="433"/>
                        </a:moveTo>
                        <a:lnTo>
                          <a:pt x="15" y="420"/>
                        </a:lnTo>
                        <a:lnTo>
                          <a:pt x="24" y="409"/>
                        </a:lnTo>
                        <a:lnTo>
                          <a:pt x="43" y="409"/>
                        </a:lnTo>
                        <a:lnTo>
                          <a:pt x="64" y="412"/>
                        </a:lnTo>
                        <a:lnTo>
                          <a:pt x="79" y="406"/>
                        </a:lnTo>
                        <a:lnTo>
                          <a:pt x="96" y="405"/>
                        </a:lnTo>
                        <a:lnTo>
                          <a:pt x="97" y="387"/>
                        </a:lnTo>
                        <a:lnTo>
                          <a:pt x="106" y="375"/>
                        </a:lnTo>
                        <a:lnTo>
                          <a:pt x="84" y="361"/>
                        </a:lnTo>
                        <a:lnTo>
                          <a:pt x="81" y="351"/>
                        </a:lnTo>
                        <a:lnTo>
                          <a:pt x="82" y="336"/>
                        </a:lnTo>
                        <a:lnTo>
                          <a:pt x="99" y="336"/>
                        </a:lnTo>
                        <a:lnTo>
                          <a:pt x="109" y="334"/>
                        </a:lnTo>
                        <a:lnTo>
                          <a:pt x="111" y="336"/>
                        </a:lnTo>
                        <a:lnTo>
                          <a:pt x="123" y="327"/>
                        </a:lnTo>
                        <a:lnTo>
                          <a:pt x="135" y="322"/>
                        </a:lnTo>
                        <a:lnTo>
                          <a:pt x="139" y="322"/>
                        </a:lnTo>
                        <a:lnTo>
                          <a:pt x="147" y="313"/>
                        </a:lnTo>
                        <a:lnTo>
                          <a:pt x="156" y="310"/>
                        </a:lnTo>
                        <a:lnTo>
                          <a:pt x="165" y="294"/>
                        </a:lnTo>
                        <a:lnTo>
                          <a:pt x="171" y="298"/>
                        </a:lnTo>
                        <a:lnTo>
                          <a:pt x="183" y="288"/>
                        </a:lnTo>
                        <a:lnTo>
                          <a:pt x="184" y="288"/>
                        </a:lnTo>
                        <a:lnTo>
                          <a:pt x="199" y="276"/>
                        </a:lnTo>
                        <a:lnTo>
                          <a:pt x="208" y="274"/>
                        </a:lnTo>
                        <a:lnTo>
                          <a:pt x="220" y="274"/>
                        </a:lnTo>
                        <a:lnTo>
                          <a:pt x="228" y="274"/>
                        </a:lnTo>
                        <a:lnTo>
                          <a:pt x="222" y="259"/>
                        </a:lnTo>
                        <a:lnTo>
                          <a:pt x="219" y="247"/>
                        </a:lnTo>
                        <a:lnTo>
                          <a:pt x="216" y="222"/>
                        </a:lnTo>
                        <a:lnTo>
                          <a:pt x="234" y="220"/>
                        </a:lnTo>
                        <a:lnTo>
                          <a:pt x="243" y="216"/>
                        </a:lnTo>
                        <a:lnTo>
                          <a:pt x="238" y="226"/>
                        </a:lnTo>
                        <a:lnTo>
                          <a:pt x="246" y="234"/>
                        </a:lnTo>
                        <a:lnTo>
                          <a:pt x="253" y="243"/>
                        </a:lnTo>
                        <a:lnTo>
                          <a:pt x="258" y="249"/>
                        </a:lnTo>
                        <a:lnTo>
                          <a:pt x="279" y="247"/>
                        </a:lnTo>
                        <a:lnTo>
                          <a:pt x="297" y="225"/>
                        </a:lnTo>
                        <a:lnTo>
                          <a:pt x="310" y="214"/>
                        </a:lnTo>
                        <a:lnTo>
                          <a:pt x="318" y="207"/>
                        </a:lnTo>
                        <a:lnTo>
                          <a:pt x="327" y="198"/>
                        </a:lnTo>
                        <a:lnTo>
                          <a:pt x="336" y="186"/>
                        </a:lnTo>
                        <a:lnTo>
                          <a:pt x="343" y="190"/>
                        </a:lnTo>
                        <a:lnTo>
                          <a:pt x="343" y="183"/>
                        </a:lnTo>
                        <a:lnTo>
                          <a:pt x="348" y="178"/>
                        </a:lnTo>
                        <a:lnTo>
                          <a:pt x="361" y="181"/>
                        </a:lnTo>
                        <a:lnTo>
                          <a:pt x="384" y="201"/>
                        </a:lnTo>
                        <a:lnTo>
                          <a:pt x="379" y="147"/>
                        </a:lnTo>
                        <a:lnTo>
                          <a:pt x="360" y="171"/>
                        </a:lnTo>
                        <a:lnTo>
                          <a:pt x="345" y="169"/>
                        </a:lnTo>
                        <a:lnTo>
                          <a:pt x="340" y="154"/>
                        </a:lnTo>
                        <a:lnTo>
                          <a:pt x="340" y="147"/>
                        </a:lnTo>
                        <a:lnTo>
                          <a:pt x="336" y="142"/>
                        </a:lnTo>
                        <a:lnTo>
                          <a:pt x="348" y="130"/>
                        </a:lnTo>
                        <a:lnTo>
                          <a:pt x="355" y="121"/>
                        </a:lnTo>
                        <a:lnTo>
                          <a:pt x="363" y="118"/>
                        </a:lnTo>
                        <a:lnTo>
                          <a:pt x="369" y="117"/>
                        </a:lnTo>
                        <a:lnTo>
                          <a:pt x="373" y="109"/>
                        </a:lnTo>
                        <a:lnTo>
                          <a:pt x="379" y="108"/>
                        </a:lnTo>
                        <a:lnTo>
                          <a:pt x="387" y="108"/>
                        </a:lnTo>
                        <a:lnTo>
                          <a:pt x="373" y="94"/>
                        </a:lnTo>
                        <a:lnTo>
                          <a:pt x="360" y="97"/>
                        </a:lnTo>
                        <a:lnTo>
                          <a:pt x="351" y="97"/>
                        </a:lnTo>
                        <a:lnTo>
                          <a:pt x="343" y="93"/>
                        </a:lnTo>
                        <a:lnTo>
                          <a:pt x="343" y="102"/>
                        </a:lnTo>
                        <a:lnTo>
                          <a:pt x="336" y="111"/>
                        </a:lnTo>
                        <a:lnTo>
                          <a:pt x="325" y="126"/>
                        </a:lnTo>
                        <a:lnTo>
                          <a:pt x="315" y="132"/>
                        </a:lnTo>
                        <a:lnTo>
                          <a:pt x="307" y="132"/>
                        </a:lnTo>
                        <a:lnTo>
                          <a:pt x="304" y="142"/>
                        </a:lnTo>
                        <a:lnTo>
                          <a:pt x="304" y="147"/>
                        </a:lnTo>
                        <a:lnTo>
                          <a:pt x="298" y="151"/>
                        </a:lnTo>
                        <a:lnTo>
                          <a:pt x="306" y="169"/>
                        </a:lnTo>
                        <a:lnTo>
                          <a:pt x="310" y="178"/>
                        </a:lnTo>
                        <a:lnTo>
                          <a:pt x="301" y="192"/>
                        </a:lnTo>
                        <a:lnTo>
                          <a:pt x="291" y="201"/>
                        </a:lnTo>
                        <a:lnTo>
                          <a:pt x="288" y="214"/>
                        </a:lnTo>
                        <a:lnTo>
                          <a:pt x="282" y="225"/>
                        </a:lnTo>
                        <a:lnTo>
                          <a:pt x="276" y="225"/>
                        </a:lnTo>
                        <a:lnTo>
                          <a:pt x="267" y="226"/>
                        </a:lnTo>
                        <a:lnTo>
                          <a:pt x="258" y="231"/>
                        </a:lnTo>
                        <a:lnTo>
                          <a:pt x="255" y="229"/>
                        </a:lnTo>
                        <a:lnTo>
                          <a:pt x="255" y="222"/>
                        </a:lnTo>
                        <a:lnTo>
                          <a:pt x="253" y="210"/>
                        </a:lnTo>
                        <a:lnTo>
                          <a:pt x="246" y="210"/>
                        </a:lnTo>
                        <a:lnTo>
                          <a:pt x="241" y="202"/>
                        </a:lnTo>
                        <a:lnTo>
                          <a:pt x="243" y="192"/>
                        </a:lnTo>
                        <a:lnTo>
                          <a:pt x="244" y="186"/>
                        </a:lnTo>
                        <a:lnTo>
                          <a:pt x="243" y="183"/>
                        </a:lnTo>
                        <a:lnTo>
                          <a:pt x="237" y="186"/>
                        </a:lnTo>
                        <a:lnTo>
                          <a:pt x="234" y="186"/>
                        </a:lnTo>
                        <a:lnTo>
                          <a:pt x="229" y="184"/>
                        </a:lnTo>
                        <a:lnTo>
                          <a:pt x="226" y="183"/>
                        </a:lnTo>
                        <a:lnTo>
                          <a:pt x="219" y="189"/>
                        </a:lnTo>
                        <a:lnTo>
                          <a:pt x="211" y="196"/>
                        </a:lnTo>
                        <a:lnTo>
                          <a:pt x="204" y="204"/>
                        </a:lnTo>
                        <a:lnTo>
                          <a:pt x="187" y="202"/>
                        </a:lnTo>
                        <a:lnTo>
                          <a:pt x="177" y="201"/>
                        </a:lnTo>
                        <a:lnTo>
                          <a:pt x="169" y="193"/>
                        </a:lnTo>
                        <a:lnTo>
                          <a:pt x="169" y="189"/>
                        </a:lnTo>
                        <a:lnTo>
                          <a:pt x="174" y="183"/>
                        </a:lnTo>
                        <a:lnTo>
                          <a:pt x="180" y="178"/>
                        </a:lnTo>
                        <a:lnTo>
                          <a:pt x="184" y="172"/>
                        </a:lnTo>
                        <a:lnTo>
                          <a:pt x="174" y="175"/>
                        </a:lnTo>
                        <a:lnTo>
                          <a:pt x="169" y="168"/>
                        </a:lnTo>
                        <a:lnTo>
                          <a:pt x="169" y="163"/>
                        </a:lnTo>
                        <a:lnTo>
                          <a:pt x="184" y="162"/>
                        </a:lnTo>
                        <a:lnTo>
                          <a:pt x="198" y="160"/>
                        </a:lnTo>
                        <a:lnTo>
                          <a:pt x="189" y="156"/>
                        </a:lnTo>
                        <a:lnTo>
                          <a:pt x="175" y="157"/>
                        </a:lnTo>
                        <a:lnTo>
                          <a:pt x="175" y="148"/>
                        </a:lnTo>
                        <a:lnTo>
                          <a:pt x="181" y="142"/>
                        </a:lnTo>
                        <a:lnTo>
                          <a:pt x="195" y="136"/>
                        </a:lnTo>
                        <a:lnTo>
                          <a:pt x="199" y="130"/>
                        </a:lnTo>
                        <a:lnTo>
                          <a:pt x="204" y="127"/>
                        </a:lnTo>
                        <a:lnTo>
                          <a:pt x="214" y="126"/>
                        </a:lnTo>
                        <a:lnTo>
                          <a:pt x="223" y="127"/>
                        </a:lnTo>
                        <a:lnTo>
                          <a:pt x="228" y="130"/>
                        </a:lnTo>
                        <a:lnTo>
                          <a:pt x="235" y="126"/>
                        </a:lnTo>
                        <a:lnTo>
                          <a:pt x="228" y="124"/>
                        </a:lnTo>
                        <a:lnTo>
                          <a:pt x="228" y="112"/>
                        </a:lnTo>
                        <a:lnTo>
                          <a:pt x="247" y="99"/>
                        </a:lnTo>
                        <a:lnTo>
                          <a:pt x="258" y="90"/>
                        </a:lnTo>
                        <a:lnTo>
                          <a:pt x="264" y="88"/>
                        </a:lnTo>
                        <a:lnTo>
                          <a:pt x="262" y="84"/>
                        </a:lnTo>
                        <a:lnTo>
                          <a:pt x="271" y="73"/>
                        </a:lnTo>
                        <a:lnTo>
                          <a:pt x="282" y="60"/>
                        </a:lnTo>
                        <a:lnTo>
                          <a:pt x="294" y="54"/>
                        </a:lnTo>
                        <a:lnTo>
                          <a:pt x="285" y="48"/>
                        </a:lnTo>
                        <a:lnTo>
                          <a:pt x="309" y="34"/>
                        </a:lnTo>
                        <a:lnTo>
                          <a:pt x="319" y="36"/>
                        </a:lnTo>
                        <a:lnTo>
                          <a:pt x="318" y="28"/>
                        </a:lnTo>
                        <a:lnTo>
                          <a:pt x="339" y="27"/>
                        </a:lnTo>
                        <a:lnTo>
                          <a:pt x="378" y="3"/>
                        </a:lnTo>
                        <a:lnTo>
                          <a:pt x="384" y="0"/>
                        </a:lnTo>
                        <a:lnTo>
                          <a:pt x="376" y="18"/>
                        </a:lnTo>
                        <a:lnTo>
                          <a:pt x="385" y="9"/>
                        </a:lnTo>
                        <a:lnTo>
                          <a:pt x="396" y="6"/>
                        </a:lnTo>
                        <a:lnTo>
                          <a:pt x="394" y="13"/>
                        </a:lnTo>
                        <a:lnTo>
                          <a:pt x="424" y="4"/>
                        </a:lnTo>
                        <a:lnTo>
                          <a:pt x="439" y="12"/>
                        </a:lnTo>
                        <a:lnTo>
                          <a:pt x="418" y="19"/>
                        </a:lnTo>
                        <a:lnTo>
                          <a:pt x="426" y="28"/>
                        </a:lnTo>
                        <a:lnTo>
                          <a:pt x="456" y="27"/>
                        </a:lnTo>
                        <a:lnTo>
                          <a:pt x="499" y="40"/>
                        </a:lnTo>
                        <a:lnTo>
                          <a:pt x="496" y="55"/>
                        </a:lnTo>
                        <a:lnTo>
                          <a:pt x="478" y="69"/>
                        </a:lnTo>
                        <a:lnTo>
                          <a:pt x="451" y="76"/>
                        </a:lnTo>
                        <a:lnTo>
                          <a:pt x="447" y="93"/>
                        </a:lnTo>
                        <a:lnTo>
                          <a:pt x="448" y="108"/>
                        </a:lnTo>
                        <a:lnTo>
                          <a:pt x="456" y="111"/>
                        </a:lnTo>
                        <a:lnTo>
                          <a:pt x="457" y="118"/>
                        </a:lnTo>
                        <a:lnTo>
                          <a:pt x="460" y="121"/>
                        </a:lnTo>
                        <a:lnTo>
                          <a:pt x="466" y="124"/>
                        </a:lnTo>
                        <a:lnTo>
                          <a:pt x="468" y="133"/>
                        </a:lnTo>
                        <a:lnTo>
                          <a:pt x="477" y="144"/>
                        </a:lnTo>
                        <a:lnTo>
                          <a:pt x="477" y="148"/>
                        </a:lnTo>
                        <a:lnTo>
                          <a:pt x="486" y="148"/>
                        </a:lnTo>
                        <a:lnTo>
                          <a:pt x="489" y="151"/>
                        </a:lnTo>
                        <a:lnTo>
                          <a:pt x="496" y="154"/>
                        </a:lnTo>
                        <a:lnTo>
                          <a:pt x="501" y="150"/>
                        </a:lnTo>
                        <a:lnTo>
                          <a:pt x="505" y="142"/>
                        </a:lnTo>
                        <a:lnTo>
                          <a:pt x="508" y="138"/>
                        </a:lnTo>
                        <a:lnTo>
                          <a:pt x="516" y="141"/>
                        </a:lnTo>
                        <a:lnTo>
                          <a:pt x="525" y="130"/>
                        </a:lnTo>
                        <a:lnTo>
                          <a:pt x="525" y="123"/>
                        </a:lnTo>
                        <a:lnTo>
                          <a:pt x="528" y="117"/>
                        </a:lnTo>
                        <a:lnTo>
                          <a:pt x="529" y="112"/>
                        </a:lnTo>
                        <a:lnTo>
                          <a:pt x="547" y="108"/>
                        </a:lnTo>
                        <a:lnTo>
                          <a:pt x="562" y="103"/>
                        </a:lnTo>
                        <a:lnTo>
                          <a:pt x="582" y="97"/>
                        </a:lnTo>
                        <a:lnTo>
                          <a:pt x="604" y="102"/>
                        </a:lnTo>
                        <a:lnTo>
                          <a:pt x="627" y="102"/>
                        </a:lnTo>
                        <a:lnTo>
                          <a:pt x="664" y="102"/>
                        </a:lnTo>
                        <a:lnTo>
                          <a:pt x="670" y="64"/>
                        </a:lnTo>
                        <a:lnTo>
                          <a:pt x="691" y="66"/>
                        </a:lnTo>
                        <a:lnTo>
                          <a:pt x="706" y="94"/>
                        </a:lnTo>
                        <a:lnTo>
                          <a:pt x="709" y="70"/>
                        </a:lnTo>
                        <a:lnTo>
                          <a:pt x="778" y="4"/>
                        </a:lnTo>
                        <a:lnTo>
                          <a:pt x="805" y="4"/>
                        </a:lnTo>
                        <a:lnTo>
                          <a:pt x="829" y="18"/>
                        </a:lnTo>
                        <a:lnTo>
                          <a:pt x="861" y="16"/>
                        </a:lnTo>
                        <a:lnTo>
                          <a:pt x="903" y="40"/>
                        </a:lnTo>
                        <a:lnTo>
                          <a:pt x="951" y="54"/>
                        </a:lnTo>
                        <a:lnTo>
                          <a:pt x="985" y="51"/>
                        </a:lnTo>
                        <a:lnTo>
                          <a:pt x="1030" y="66"/>
                        </a:lnTo>
                        <a:lnTo>
                          <a:pt x="1068" y="66"/>
                        </a:lnTo>
                        <a:lnTo>
                          <a:pt x="1086" y="55"/>
                        </a:lnTo>
                        <a:lnTo>
                          <a:pt x="1128" y="55"/>
                        </a:lnTo>
                        <a:lnTo>
                          <a:pt x="1150" y="67"/>
                        </a:lnTo>
                        <a:lnTo>
                          <a:pt x="1207" y="67"/>
                        </a:lnTo>
                        <a:lnTo>
                          <a:pt x="1255" y="88"/>
                        </a:lnTo>
                        <a:lnTo>
                          <a:pt x="1344" y="85"/>
                        </a:lnTo>
                        <a:lnTo>
                          <a:pt x="1483" y="94"/>
                        </a:lnTo>
                        <a:lnTo>
                          <a:pt x="1551" y="123"/>
                        </a:lnTo>
                        <a:lnTo>
                          <a:pt x="1608" y="141"/>
                        </a:lnTo>
                        <a:lnTo>
                          <a:pt x="1644" y="156"/>
                        </a:lnTo>
                        <a:lnTo>
                          <a:pt x="1633" y="160"/>
                        </a:lnTo>
                        <a:lnTo>
                          <a:pt x="1608" y="148"/>
                        </a:lnTo>
                        <a:lnTo>
                          <a:pt x="1549" y="144"/>
                        </a:lnTo>
                        <a:lnTo>
                          <a:pt x="1566" y="156"/>
                        </a:lnTo>
                        <a:lnTo>
                          <a:pt x="1591" y="162"/>
                        </a:lnTo>
                        <a:lnTo>
                          <a:pt x="1584" y="181"/>
                        </a:lnTo>
                        <a:lnTo>
                          <a:pt x="1557" y="193"/>
                        </a:lnTo>
                        <a:lnTo>
                          <a:pt x="1548" y="213"/>
                        </a:lnTo>
                        <a:lnTo>
                          <a:pt x="1584" y="231"/>
                        </a:lnTo>
                        <a:lnTo>
                          <a:pt x="1609" y="255"/>
                        </a:lnTo>
                        <a:lnTo>
                          <a:pt x="1623" y="289"/>
                        </a:lnTo>
                        <a:lnTo>
                          <a:pt x="1606" y="292"/>
                        </a:lnTo>
                        <a:lnTo>
                          <a:pt x="1570" y="282"/>
                        </a:lnTo>
                        <a:lnTo>
                          <a:pt x="1533" y="256"/>
                        </a:lnTo>
                        <a:lnTo>
                          <a:pt x="1518" y="243"/>
                        </a:lnTo>
                        <a:lnTo>
                          <a:pt x="1509" y="225"/>
                        </a:lnTo>
                        <a:lnTo>
                          <a:pt x="1500" y="198"/>
                        </a:lnTo>
                        <a:lnTo>
                          <a:pt x="1485" y="189"/>
                        </a:lnTo>
                        <a:lnTo>
                          <a:pt x="1471" y="187"/>
                        </a:lnTo>
                        <a:lnTo>
                          <a:pt x="1459" y="190"/>
                        </a:lnTo>
                        <a:lnTo>
                          <a:pt x="1473" y="211"/>
                        </a:lnTo>
                        <a:lnTo>
                          <a:pt x="1437" y="214"/>
                        </a:lnTo>
                        <a:lnTo>
                          <a:pt x="1420" y="204"/>
                        </a:lnTo>
                        <a:lnTo>
                          <a:pt x="1389" y="210"/>
                        </a:lnTo>
                        <a:lnTo>
                          <a:pt x="1365" y="226"/>
                        </a:lnTo>
                        <a:lnTo>
                          <a:pt x="1365" y="235"/>
                        </a:lnTo>
                        <a:lnTo>
                          <a:pt x="1374" y="250"/>
                        </a:lnTo>
                        <a:lnTo>
                          <a:pt x="1411" y="255"/>
                        </a:lnTo>
                        <a:lnTo>
                          <a:pt x="1441" y="273"/>
                        </a:lnTo>
                        <a:lnTo>
                          <a:pt x="1492" y="322"/>
                        </a:lnTo>
                        <a:lnTo>
                          <a:pt x="1513" y="355"/>
                        </a:lnTo>
                        <a:lnTo>
                          <a:pt x="1516" y="390"/>
                        </a:lnTo>
                        <a:lnTo>
                          <a:pt x="1512" y="418"/>
                        </a:lnTo>
                        <a:lnTo>
                          <a:pt x="1500" y="418"/>
                        </a:lnTo>
                        <a:lnTo>
                          <a:pt x="1486" y="408"/>
                        </a:lnTo>
                        <a:lnTo>
                          <a:pt x="1467" y="421"/>
                        </a:lnTo>
                        <a:lnTo>
                          <a:pt x="1447" y="433"/>
                        </a:lnTo>
                        <a:lnTo>
                          <a:pt x="1444" y="456"/>
                        </a:lnTo>
                        <a:lnTo>
                          <a:pt x="1465" y="480"/>
                        </a:lnTo>
                        <a:lnTo>
                          <a:pt x="1452" y="499"/>
                        </a:lnTo>
                        <a:lnTo>
                          <a:pt x="1447" y="532"/>
                        </a:lnTo>
                        <a:lnTo>
                          <a:pt x="1473" y="553"/>
                        </a:lnTo>
                        <a:lnTo>
                          <a:pt x="1501" y="559"/>
                        </a:lnTo>
                        <a:lnTo>
                          <a:pt x="1531" y="582"/>
                        </a:lnTo>
                        <a:lnTo>
                          <a:pt x="1557" y="612"/>
                        </a:lnTo>
                        <a:lnTo>
                          <a:pt x="1558" y="656"/>
                        </a:lnTo>
                        <a:lnTo>
                          <a:pt x="1549" y="677"/>
                        </a:lnTo>
                        <a:lnTo>
                          <a:pt x="1522" y="695"/>
                        </a:lnTo>
                        <a:lnTo>
                          <a:pt x="1489" y="704"/>
                        </a:lnTo>
                        <a:lnTo>
                          <a:pt x="1468" y="718"/>
                        </a:lnTo>
                        <a:lnTo>
                          <a:pt x="1456" y="710"/>
                        </a:lnTo>
                        <a:lnTo>
                          <a:pt x="1446" y="718"/>
                        </a:lnTo>
                        <a:lnTo>
                          <a:pt x="1443" y="751"/>
                        </a:lnTo>
                        <a:lnTo>
                          <a:pt x="1450" y="770"/>
                        </a:lnTo>
                        <a:lnTo>
                          <a:pt x="1483" y="793"/>
                        </a:lnTo>
                        <a:lnTo>
                          <a:pt x="1497" y="815"/>
                        </a:lnTo>
                        <a:lnTo>
                          <a:pt x="1507" y="829"/>
                        </a:lnTo>
                        <a:lnTo>
                          <a:pt x="1504" y="853"/>
                        </a:lnTo>
                        <a:lnTo>
                          <a:pt x="1483" y="872"/>
                        </a:lnTo>
                        <a:lnTo>
                          <a:pt x="1461" y="872"/>
                        </a:lnTo>
                        <a:lnTo>
                          <a:pt x="1425" y="844"/>
                        </a:lnTo>
                        <a:lnTo>
                          <a:pt x="1399" y="833"/>
                        </a:lnTo>
                        <a:lnTo>
                          <a:pt x="1389" y="827"/>
                        </a:lnTo>
                        <a:lnTo>
                          <a:pt x="1378" y="842"/>
                        </a:lnTo>
                        <a:lnTo>
                          <a:pt x="1381" y="863"/>
                        </a:lnTo>
                        <a:lnTo>
                          <a:pt x="1390" y="880"/>
                        </a:lnTo>
                        <a:lnTo>
                          <a:pt x="1396" y="905"/>
                        </a:lnTo>
                        <a:lnTo>
                          <a:pt x="1419" y="914"/>
                        </a:lnTo>
                        <a:lnTo>
                          <a:pt x="1411" y="928"/>
                        </a:lnTo>
                        <a:lnTo>
                          <a:pt x="1413" y="947"/>
                        </a:lnTo>
                        <a:lnTo>
                          <a:pt x="1420" y="967"/>
                        </a:lnTo>
                        <a:lnTo>
                          <a:pt x="1405" y="965"/>
                        </a:lnTo>
                        <a:lnTo>
                          <a:pt x="1389" y="943"/>
                        </a:lnTo>
                        <a:lnTo>
                          <a:pt x="1390" y="919"/>
                        </a:lnTo>
                        <a:lnTo>
                          <a:pt x="1384" y="911"/>
                        </a:lnTo>
                        <a:lnTo>
                          <a:pt x="1378" y="884"/>
                        </a:lnTo>
                        <a:lnTo>
                          <a:pt x="1371" y="877"/>
                        </a:lnTo>
                        <a:lnTo>
                          <a:pt x="1368" y="839"/>
                        </a:lnTo>
                        <a:lnTo>
                          <a:pt x="1357" y="815"/>
                        </a:lnTo>
                        <a:lnTo>
                          <a:pt x="1339" y="794"/>
                        </a:lnTo>
                        <a:lnTo>
                          <a:pt x="1306" y="782"/>
                        </a:lnTo>
                        <a:lnTo>
                          <a:pt x="1282" y="763"/>
                        </a:lnTo>
                        <a:lnTo>
                          <a:pt x="1272" y="748"/>
                        </a:lnTo>
                        <a:lnTo>
                          <a:pt x="1255" y="731"/>
                        </a:lnTo>
                        <a:lnTo>
                          <a:pt x="1230" y="694"/>
                        </a:lnTo>
                        <a:lnTo>
                          <a:pt x="1207" y="697"/>
                        </a:lnTo>
                        <a:lnTo>
                          <a:pt x="1177" y="715"/>
                        </a:lnTo>
                        <a:lnTo>
                          <a:pt x="1164" y="730"/>
                        </a:lnTo>
                        <a:lnTo>
                          <a:pt x="1137" y="758"/>
                        </a:lnTo>
                        <a:lnTo>
                          <a:pt x="1117" y="788"/>
                        </a:lnTo>
                        <a:lnTo>
                          <a:pt x="1110" y="799"/>
                        </a:lnTo>
                        <a:lnTo>
                          <a:pt x="1117" y="835"/>
                        </a:lnTo>
                        <a:lnTo>
                          <a:pt x="1116" y="869"/>
                        </a:lnTo>
                        <a:lnTo>
                          <a:pt x="1092" y="893"/>
                        </a:lnTo>
                        <a:lnTo>
                          <a:pt x="1078" y="895"/>
                        </a:lnTo>
                        <a:lnTo>
                          <a:pt x="1050" y="845"/>
                        </a:lnTo>
                        <a:lnTo>
                          <a:pt x="1027" y="809"/>
                        </a:lnTo>
                        <a:lnTo>
                          <a:pt x="982" y="743"/>
                        </a:lnTo>
                        <a:lnTo>
                          <a:pt x="981" y="718"/>
                        </a:lnTo>
                        <a:lnTo>
                          <a:pt x="970" y="706"/>
                        </a:lnTo>
                        <a:lnTo>
                          <a:pt x="963" y="722"/>
                        </a:lnTo>
                        <a:lnTo>
                          <a:pt x="924" y="685"/>
                        </a:lnTo>
                        <a:lnTo>
                          <a:pt x="871" y="656"/>
                        </a:lnTo>
                        <a:lnTo>
                          <a:pt x="838" y="662"/>
                        </a:lnTo>
                        <a:lnTo>
                          <a:pt x="790" y="659"/>
                        </a:lnTo>
                        <a:lnTo>
                          <a:pt x="768" y="638"/>
                        </a:lnTo>
                        <a:lnTo>
                          <a:pt x="742" y="641"/>
                        </a:lnTo>
                        <a:lnTo>
                          <a:pt x="706" y="633"/>
                        </a:lnTo>
                        <a:lnTo>
                          <a:pt x="631" y="562"/>
                        </a:lnTo>
                        <a:lnTo>
                          <a:pt x="636" y="591"/>
                        </a:lnTo>
                        <a:lnTo>
                          <a:pt x="658" y="631"/>
                        </a:lnTo>
                        <a:lnTo>
                          <a:pt x="684" y="659"/>
                        </a:lnTo>
                        <a:lnTo>
                          <a:pt x="711" y="674"/>
                        </a:lnTo>
                        <a:lnTo>
                          <a:pt x="741" y="662"/>
                        </a:lnTo>
                        <a:lnTo>
                          <a:pt x="765" y="662"/>
                        </a:lnTo>
                        <a:lnTo>
                          <a:pt x="796" y="688"/>
                        </a:lnTo>
                        <a:lnTo>
                          <a:pt x="814" y="707"/>
                        </a:lnTo>
                        <a:lnTo>
                          <a:pt x="811" y="719"/>
                        </a:lnTo>
                        <a:lnTo>
                          <a:pt x="757" y="775"/>
                        </a:lnTo>
                        <a:lnTo>
                          <a:pt x="721" y="796"/>
                        </a:lnTo>
                        <a:lnTo>
                          <a:pt x="646" y="824"/>
                        </a:lnTo>
                        <a:lnTo>
                          <a:pt x="624" y="833"/>
                        </a:lnTo>
                        <a:lnTo>
                          <a:pt x="610" y="824"/>
                        </a:lnTo>
                        <a:lnTo>
                          <a:pt x="606" y="812"/>
                        </a:lnTo>
                        <a:lnTo>
                          <a:pt x="604" y="796"/>
                        </a:lnTo>
                        <a:lnTo>
                          <a:pt x="598" y="779"/>
                        </a:lnTo>
                        <a:lnTo>
                          <a:pt x="588" y="766"/>
                        </a:lnTo>
                        <a:lnTo>
                          <a:pt x="579" y="754"/>
                        </a:lnTo>
                        <a:lnTo>
                          <a:pt x="565" y="737"/>
                        </a:lnTo>
                        <a:lnTo>
                          <a:pt x="558" y="727"/>
                        </a:lnTo>
                        <a:lnTo>
                          <a:pt x="552" y="713"/>
                        </a:lnTo>
                        <a:lnTo>
                          <a:pt x="541" y="701"/>
                        </a:lnTo>
                        <a:lnTo>
                          <a:pt x="525" y="671"/>
                        </a:lnTo>
                        <a:lnTo>
                          <a:pt x="516" y="659"/>
                        </a:lnTo>
                        <a:lnTo>
                          <a:pt x="504" y="643"/>
                        </a:lnTo>
                        <a:lnTo>
                          <a:pt x="484" y="621"/>
                        </a:lnTo>
                        <a:lnTo>
                          <a:pt x="474" y="607"/>
                        </a:lnTo>
                        <a:lnTo>
                          <a:pt x="465" y="598"/>
                        </a:lnTo>
                        <a:lnTo>
                          <a:pt x="454" y="579"/>
                        </a:lnTo>
                        <a:lnTo>
                          <a:pt x="486" y="561"/>
                        </a:lnTo>
                        <a:lnTo>
                          <a:pt x="499" y="522"/>
                        </a:lnTo>
                        <a:lnTo>
                          <a:pt x="469" y="511"/>
                        </a:lnTo>
                        <a:lnTo>
                          <a:pt x="427" y="517"/>
                        </a:lnTo>
                        <a:lnTo>
                          <a:pt x="418" y="513"/>
                        </a:lnTo>
                        <a:lnTo>
                          <a:pt x="414" y="513"/>
                        </a:lnTo>
                        <a:lnTo>
                          <a:pt x="408" y="513"/>
                        </a:lnTo>
                        <a:lnTo>
                          <a:pt x="403" y="513"/>
                        </a:lnTo>
                        <a:lnTo>
                          <a:pt x="402" y="505"/>
                        </a:lnTo>
                        <a:lnTo>
                          <a:pt x="399" y="499"/>
                        </a:lnTo>
                        <a:lnTo>
                          <a:pt x="399" y="487"/>
                        </a:lnTo>
                        <a:lnTo>
                          <a:pt x="391" y="481"/>
                        </a:lnTo>
                        <a:lnTo>
                          <a:pt x="390" y="474"/>
                        </a:lnTo>
                        <a:lnTo>
                          <a:pt x="385" y="472"/>
                        </a:lnTo>
                        <a:lnTo>
                          <a:pt x="381" y="466"/>
                        </a:lnTo>
                        <a:lnTo>
                          <a:pt x="379" y="460"/>
                        </a:lnTo>
                        <a:lnTo>
                          <a:pt x="376" y="454"/>
                        </a:lnTo>
                        <a:lnTo>
                          <a:pt x="373" y="448"/>
                        </a:lnTo>
                        <a:lnTo>
                          <a:pt x="364" y="448"/>
                        </a:lnTo>
                        <a:lnTo>
                          <a:pt x="358" y="448"/>
                        </a:lnTo>
                        <a:lnTo>
                          <a:pt x="355" y="448"/>
                        </a:lnTo>
                        <a:lnTo>
                          <a:pt x="354" y="459"/>
                        </a:lnTo>
                        <a:lnTo>
                          <a:pt x="354" y="466"/>
                        </a:lnTo>
                        <a:lnTo>
                          <a:pt x="354" y="475"/>
                        </a:lnTo>
                        <a:lnTo>
                          <a:pt x="354" y="484"/>
                        </a:lnTo>
                        <a:lnTo>
                          <a:pt x="354" y="490"/>
                        </a:lnTo>
                        <a:lnTo>
                          <a:pt x="346" y="493"/>
                        </a:lnTo>
                        <a:lnTo>
                          <a:pt x="340" y="499"/>
                        </a:lnTo>
                        <a:lnTo>
                          <a:pt x="331" y="490"/>
                        </a:lnTo>
                        <a:lnTo>
                          <a:pt x="325" y="478"/>
                        </a:lnTo>
                        <a:lnTo>
                          <a:pt x="327" y="465"/>
                        </a:lnTo>
                        <a:lnTo>
                          <a:pt x="318" y="444"/>
                        </a:lnTo>
                        <a:lnTo>
                          <a:pt x="313" y="432"/>
                        </a:lnTo>
                        <a:lnTo>
                          <a:pt x="303" y="424"/>
                        </a:lnTo>
                        <a:lnTo>
                          <a:pt x="291" y="417"/>
                        </a:lnTo>
                        <a:lnTo>
                          <a:pt x="285" y="406"/>
                        </a:lnTo>
                        <a:lnTo>
                          <a:pt x="280" y="399"/>
                        </a:lnTo>
                        <a:lnTo>
                          <a:pt x="270" y="397"/>
                        </a:lnTo>
                        <a:lnTo>
                          <a:pt x="267" y="393"/>
                        </a:lnTo>
                        <a:lnTo>
                          <a:pt x="259" y="393"/>
                        </a:lnTo>
                        <a:lnTo>
                          <a:pt x="253" y="400"/>
                        </a:lnTo>
                        <a:lnTo>
                          <a:pt x="247" y="406"/>
                        </a:lnTo>
                        <a:lnTo>
                          <a:pt x="261" y="414"/>
                        </a:lnTo>
                        <a:lnTo>
                          <a:pt x="268" y="424"/>
                        </a:lnTo>
                        <a:lnTo>
                          <a:pt x="282" y="438"/>
                        </a:lnTo>
                        <a:lnTo>
                          <a:pt x="288" y="444"/>
                        </a:lnTo>
                        <a:lnTo>
                          <a:pt x="298" y="448"/>
                        </a:lnTo>
                        <a:lnTo>
                          <a:pt x="306" y="460"/>
                        </a:lnTo>
                        <a:lnTo>
                          <a:pt x="297" y="471"/>
                        </a:lnTo>
                        <a:lnTo>
                          <a:pt x="295" y="466"/>
                        </a:lnTo>
                        <a:lnTo>
                          <a:pt x="295" y="460"/>
                        </a:lnTo>
                        <a:lnTo>
                          <a:pt x="291" y="474"/>
                        </a:lnTo>
                        <a:lnTo>
                          <a:pt x="289" y="486"/>
                        </a:lnTo>
                        <a:lnTo>
                          <a:pt x="280" y="489"/>
                        </a:lnTo>
                        <a:lnTo>
                          <a:pt x="283" y="474"/>
                        </a:lnTo>
                        <a:lnTo>
                          <a:pt x="282" y="466"/>
                        </a:lnTo>
                        <a:lnTo>
                          <a:pt x="271" y="462"/>
                        </a:lnTo>
                        <a:lnTo>
                          <a:pt x="267" y="459"/>
                        </a:lnTo>
                        <a:lnTo>
                          <a:pt x="262" y="453"/>
                        </a:lnTo>
                        <a:lnTo>
                          <a:pt x="253" y="447"/>
                        </a:lnTo>
                        <a:lnTo>
                          <a:pt x="247" y="442"/>
                        </a:lnTo>
                        <a:lnTo>
                          <a:pt x="241" y="433"/>
                        </a:lnTo>
                        <a:lnTo>
                          <a:pt x="234" y="429"/>
                        </a:lnTo>
                        <a:lnTo>
                          <a:pt x="229" y="420"/>
                        </a:lnTo>
                        <a:lnTo>
                          <a:pt x="228" y="412"/>
                        </a:lnTo>
                        <a:lnTo>
                          <a:pt x="222" y="409"/>
                        </a:lnTo>
                        <a:lnTo>
                          <a:pt x="216" y="405"/>
                        </a:lnTo>
                        <a:lnTo>
                          <a:pt x="204" y="405"/>
                        </a:lnTo>
                        <a:lnTo>
                          <a:pt x="193" y="406"/>
                        </a:lnTo>
                        <a:lnTo>
                          <a:pt x="181" y="405"/>
                        </a:lnTo>
                        <a:lnTo>
                          <a:pt x="160" y="406"/>
                        </a:lnTo>
                        <a:lnTo>
                          <a:pt x="145" y="408"/>
                        </a:lnTo>
                        <a:lnTo>
                          <a:pt x="141" y="411"/>
                        </a:lnTo>
                        <a:lnTo>
                          <a:pt x="139" y="420"/>
                        </a:lnTo>
                        <a:lnTo>
                          <a:pt x="139" y="430"/>
                        </a:lnTo>
                        <a:lnTo>
                          <a:pt x="130" y="441"/>
                        </a:lnTo>
                        <a:lnTo>
                          <a:pt x="124" y="445"/>
                        </a:lnTo>
                        <a:lnTo>
                          <a:pt x="121" y="448"/>
                        </a:lnTo>
                        <a:lnTo>
                          <a:pt x="117" y="459"/>
                        </a:lnTo>
                        <a:lnTo>
                          <a:pt x="114" y="465"/>
                        </a:lnTo>
                        <a:lnTo>
                          <a:pt x="118" y="469"/>
                        </a:lnTo>
                        <a:lnTo>
                          <a:pt x="118" y="478"/>
                        </a:lnTo>
                        <a:lnTo>
                          <a:pt x="117" y="483"/>
                        </a:lnTo>
                        <a:lnTo>
                          <a:pt x="114" y="489"/>
                        </a:lnTo>
                        <a:lnTo>
                          <a:pt x="106" y="499"/>
                        </a:lnTo>
                        <a:lnTo>
                          <a:pt x="102" y="495"/>
                        </a:lnTo>
                        <a:lnTo>
                          <a:pt x="97" y="498"/>
                        </a:lnTo>
                        <a:lnTo>
                          <a:pt x="91" y="502"/>
                        </a:lnTo>
                        <a:lnTo>
                          <a:pt x="82" y="504"/>
                        </a:lnTo>
                        <a:lnTo>
                          <a:pt x="73" y="511"/>
                        </a:lnTo>
                        <a:lnTo>
                          <a:pt x="64" y="513"/>
                        </a:lnTo>
                        <a:lnTo>
                          <a:pt x="55" y="513"/>
                        </a:lnTo>
                        <a:lnTo>
                          <a:pt x="46" y="513"/>
                        </a:lnTo>
                        <a:lnTo>
                          <a:pt x="27" y="517"/>
                        </a:lnTo>
                        <a:lnTo>
                          <a:pt x="18" y="517"/>
                        </a:lnTo>
                        <a:lnTo>
                          <a:pt x="13" y="507"/>
                        </a:lnTo>
                        <a:lnTo>
                          <a:pt x="9" y="493"/>
                        </a:lnTo>
                        <a:lnTo>
                          <a:pt x="6" y="481"/>
                        </a:lnTo>
                        <a:lnTo>
                          <a:pt x="5" y="469"/>
                        </a:lnTo>
                        <a:lnTo>
                          <a:pt x="5" y="454"/>
                        </a:lnTo>
                        <a:lnTo>
                          <a:pt x="0" y="43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868686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50505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066680" y="1752480"/>
                <a:ext cx="2838600" cy="3386160"/>
                <a:chOff x="1066680" y="1752480"/>
                <a:chExt cx="2838600" cy="3386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066680" y="4897440"/>
                  <a:ext cx="714240" cy="225360"/>
                </a:xfrm>
                <a:custGeom>
                  <a:avLst/>
                  <a:gdLst/>
                  <a:ahLst/>
                  <a:rect l="l" t="t" r="r" b="b"/>
                  <a:pathLst>
                    <a:path w="450" h="142">
                      <a:moveTo>
                        <a:pt x="95" y="67"/>
                      </a:moveTo>
                      <a:lnTo>
                        <a:pt x="93" y="52"/>
                      </a:lnTo>
                      <a:lnTo>
                        <a:pt x="102" y="49"/>
                      </a:lnTo>
                      <a:lnTo>
                        <a:pt x="116" y="54"/>
                      </a:lnTo>
                      <a:lnTo>
                        <a:pt x="132" y="58"/>
                      </a:lnTo>
                      <a:lnTo>
                        <a:pt x="146" y="45"/>
                      </a:lnTo>
                      <a:lnTo>
                        <a:pt x="144" y="36"/>
                      </a:lnTo>
                      <a:lnTo>
                        <a:pt x="165" y="42"/>
                      </a:lnTo>
                      <a:lnTo>
                        <a:pt x="174" y="42"/>
                      </a:lnTo>
                      <a:lnTo>
                        <a:pt x="183" y="43"/>
                      </a:lnTo>
                      <a:lnTo>
                        <a:pt x="200" y="31"/>
                      </a:lnTo>
                      <a:lnTo>
                        <a:pt x="219" y="27"/>
                      </a:lnTo>
                      <a:lnTo>
                        <a:pt x="239" y="27"/>
                      </a:lnTo>
                      <a:lnTo>
                        <a:pt x="251" y="22"/>
                      </a:lnTo>
                      <a:lnTo>
                        <a:pt x="270" y="24"/>
                      </a:lnTo>
                      <a:lnTo>
                        <a:pt x="287" y="24"/>
                      </a:lnTo>
                      <a:lnTo>
                        <a:pt x="302" y="22"/>
                      </a:lnTo>
                      <a:lnTo>
                        <a:pt x="326" y="24"/>
                      </a:lnTo>
                      <a:lnTo>
                        <a:pt x="336" y="22"/>
                      </a:lnTo>
                      <a:lnTo>
                        <a:pt x="359" y="33"/>
                      </a:lnTo>
                      <a:lnTo>
                        <a:pt x="380" y="30"/>
                      </a:lnTo>
                      <a:lnTo>
                        <a:pt x="393" y="16"/>
                      </a:lnTo>
                      <a:lnTo>
                        <a:pt x="405" y="13"/>
                      </a:lnTo>
                      <a:lnTo>
                        <a:pt x="423" y="1"/>
                      </a:lnTo>
                      <a:lnTo>
                        <a:pt x="449" y="0"/>
                      </a:lnTo>
                      <a:lnTo>
                        <a:pt x="440" y="10"/>
                      </a:lnTo>
                      <a:lnTo>
                        <a:pt x="431" y="16"/>
                      </a:lnTo>
                      <a:lnTo>
                        <a:pt x="422" y="25"/>
                      </a:lnTo>
                      <a:lnTo>
                        <a:pt x="408" y="34"/>
                      </a:lnTo>
                      <a:lnTo>
                        <a:pt x="401" y="43"/>
                      </a:lnTo>
                      <a:lnTo>
                        <a:pt x="389" y="49"/>
                      </a:lnTo>
                      <a:lnTo>
                        <a:pt x="380" y="55"/>
                      </a:lnTo>
                      <a:lnTo>
                        <a:pt x="371" y="60"/>
                      </a:lnTo>
                      <a:lnTo>
                        <a:pt x="363" y="66"/>
                      </a:lnTo>
                      <a:lnTo>
                        <a:pt x="351" y="67"/>
                      </a:lnTo>
                      <a:lnTo>
                        <a:pt x="342" y="72"/>
                      </a:lnTo>
                      <a:lnTo>
                        <a:pt x="333" y="78"/>
                      </a:lnTo>
                      <a:lnTo>
                        <a:pt x="315" y="87"/>
                      </a:lnTo>
                      <a:lnTo>
                        <a:pt x="302" y="90"/>
                      </a:lnTo>
                      <a:lnTo>
                        <a:pt x="287" y="97"/>
                      </a:lnTo>
                      <a:lnTo>
                        <a:pt x="272" y="102"/>
                      </a:lnTo>
                      <a:lnTo>
                        <a:pt x="258" y="108"/>
                      </a:lnTo>
                      <a:lnTo>
                        <a:pt x="243" y="112"/>
                      </a:lnTo>
                      <a:lnTo>
                        <a:pt x="228" y="118"/>
                      </a:lnTo>
                      <a:lnTo>
                        <a:pt x="215" y="121"/>
                      </a:lnTo>
                      <a:lnTo>
                        <a:pt x="201" y="124"/>
                      </a:lnTo>
                      <a:lnTo>
                        <a:pt x="188" y="129"/>
                      </a:lnTo>
                      <a:lnTo>
                        <a:pt x="170" y="132"/>
                      </a:lnTo>
                      <a:lnTo>
                        <a:pt x="153" y="133"/>
                      </a:lnTo>
                      <a:lnTo>
                        <a:pt x="138" y="138"/>
                      </a:lnTo>
                      <a:lnTo>
                        <a:pt x="120" y="141"/>
                      </a:lnTo>
                      <a:lnTo>
                        <a:pt x="104" y="141"/>
                      </a:lnTo>
                      <a:lnTo>
                        <a:pt x="87" y="139"/>
                      </a:lnTo>
                      <a:lnTo>
                        <a:pt x="71" y="141"/>
                      </a:lnTo>
                      <a:lnTo>
                        <a:pt x="56" y="133"/>
                      </a:lnTo>
                      <a:lnTo>
                        <a:pt x="42" y="127"/>
                      </a:lnTo>
                      <a:lnTo>
                        <a:pt x="29" y="120"/>
                      </a:lnTo>
                      <a:lnTo>
                        <a:pt x="14" y="108"/>
                      </a:lnTo>
                      <a:lnTo>
                        <a:pt x="0" y="99"/>
                      </a:lnTo>
                      <a:lnTo>
                        <a:pt x="39" y="94"/>
                      </a:lnTo>
                      <a:lnTo>
                        <a:pt x="45" y="94"/>
                      </a:lnTo>
                      <a:lnTo>
                        <a:pt x="48" y="91"/>
                      </a:lnTo>
                      <a:lnTo>
                        <a:pt x="60" y="90"/>
                      </a:lnTo>
                      <a:lnTo>
                        <a:pt x="72" y="94"/>
                      </a:lnTo>
                      <a:lnTo>
                        <a:pt x="81" y="102"/>
                      </a:lnTo>
                      <a:lnTo>
                        <a:pt x="86" y="102"/>
                      </a:lnTo>
                      <a:lnTo>
                        <a:pt x="92" y="106"/>
                      </a:lnTo>
                      <a:lnTo>
                        <a:pt x="101" y="102"/>
                      </a:lnTo>
                      <a:lnTo>
                        <a:pt x="104" y="90"/>
                      </a:lnTo>
                      <a:lnTo>
                        <a:pt x="107" y="79"/>
                      </a:lnTo>
                      <a:lnTo>
                        <a:pt x="95" y="67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31920" y="4741920"/>
                  <a:ext cx="727200" cy="396720"/>
                </a:xfrm>
                <a:custGeom>
                  <a:avLst/>
                  <a:gdLst/>
                  <a:ahLst/>
                  <a:rect l="l" t="t" r="r" b="b"/>
                  <a:pathLst>
                    <a:path w="458" h="250">
                      <a:moveTo>
                        <a:pt x="250" y="20"/>
                      </a:moveTo>
                      <a:lnTo>
                        <a:pt x="223" y="33"/>
                      </a:lnTo>
                      <a:lnTo>
                        <a:pt x="219" y="42"/>
                      </a:lnTo>
                      <a:lnTo>
                        <a:pt x="208" y="48"/>
                      </a:lnTo>
                      <a:lnTo>
                        <a:pt x="204" y="50"/>
                      </a:lnTo>
                      <a:lnTo>
                        <a:pt x="195" y="54"/>
                      </a:lnTo>
                      <a:lnTo>
                        <a:pt x="205" y="68"/>
                      </a:lnTo>
                      <a:lnTo>
                        <a:pt x="210" y="74"/>
                      </a:lnTo>
                      <a:lnTo>
                        <a:pt x="210" y="84"/>
                      </a:lnTo>
                      <a:lnTo>
                        <a:pt x="231" y="111"/>
                      </a:lnTo>
                      <a:lnTo>
                        <a:pt x="231" y="128"/>
                      </a:lnTo>
                      <a:lnTo>
                        <a:pt x="228" y="143"/>
                      </a:lnTo>
                      <a:lnTo>
                        <a:pt x="201" y="167"/>
                      </a:lnTo>
                      <a:lnTo>
                        <a:pt x="192" y="176"/>
                      </a:lnTo>
                      <a:lnTo>
                        <a:pt x="180" y="180"/>
                      </a:lnTo>
                      <a:lnTo>
                        <a:pt x="160" y="177"/>
                      </a:lnTo>
                      <a:lnTo>
                        <a:pt x="156" y="173"/>
                      </a:lnTo>
                      <a:lnTo>
                        <a:pt x="139" y="176"/>
                      </a:lnTo>
                      <a:lnTo>
                        <a:pt x="145" y="180"/>
                      </a:lnTo>
                      <a:lnTo>
                        <a:pt x="145" y="189"/>
                      </a:lnTo>
                      <a:lnTo>
                        <a:pt x="154" y="198"/>
                      </a:lnTo>
                      <a:lnTo>
                        <a:pt x="160" y="197"/>
                      </a:lnTo>
                      <a:lnTo>
                        <a:pt x="180" y="203"/>
                      </a:lnTo>
                      <a:lnTo>
                        <a:pt x="219" y="203"/>
                      </a:lnTo>
                      <a:lnTo>
                        <a:pt x="225" y="207"/>
                      </a:lnTo>
                      <a:lnTo>
                        <a:pt x="289" y="203"/>
                      </a:lnTo>
                      <a:lnTo>
                        <a:pt x="319" y="192"/>
                      </a:lnTo>
                      <a:lnTo>
                        <a:pt x="336" y="186"/>
                      </a:lnTo>
                      <a:lnTo>
                        <a:pt x="354" y="177"/>
                      </a:lnTo>
                      <a:lnTo>
                        <a:pt x="360" y="171"/>
                      </a:lnTo>
                      <a:lnTo>
                        <a:pt x="366" y="167"/>
                      </a:lnTo>
                      <a:lnTo>
                        <a:pt x="379" y="161"/>
                      </a:lnTo>
                      <a:lnTo>
                        <a:pt x="393" y="152"/>
                      </a:lnTo>
                      <a:lnTo>
                        <a:pt x="412" y="147"/>
                      </a:lnTo>
                      <a:lnTo>
                        <a:pt x="457" y="123"/>
                      </a:lnTo>
                      <a:lnTo>
                        <a:pt x="453" y="143"/>
                      </a:lnTo>
                      <a:lnTo>
                        <a:pt x="444" y="156"/>
                      </a:lnTo>
                      <a:lnTo>
                        <a:pt x="435" y="168"/>
                      </a:lnTo>
                      <a:lnTo>
                        <a:pt x="426" y="179"/>
                      </a:lnTo>
                      <a:lnTo>
                        <a:pt x="411" y="189"/>
                      </a:lnTo>
                      <a:lnTo>
                        <a:pt x="399" y="198"/>
                      </a:lnTo>
                      <a:lnTo>
                        <a:pt x="387" y="207"/>
                      </a:lnTo>
                      <a:lnTo>
                        <a:pt x="370" y="218"/>
                      </a:lnTo>
                      <a:lnTo>
                        <a:pt x="349" y="230"/>
                      </a:lnTo>
                      <a:lnTo>
                        <a:pt x="331" y="237"/>
                      </a:lnTo>
                      <a:lnTo>
                        <a:pt x="313" y="242"/>
                      </a:lnTo>
                      <a:lnTo>
                        <a:pt x="286" y="246"/>
                      </a:lnTo>
                      <a:lnTo>
                        <a:pt x="256" y="249"/>
                      </a:lnTo>
                      <a:lnTo>
                        <a:pt x="229" y="249"/>
                      </a:lnTo>
                      <a:lnTo>
                        <a:pt x="198" y="248"/>
                      </a:lnTo>
                      <a:lnTo>
                        <a:pt x="178" y="245"/>
                      </a:lnTo>
                      <a:lnTo>
                        <a:pt x="151" y="240"/>
                      </a:lnTo>
                      <a:lnTo>
                        <a:pt x="135" y="234"/>
                      </a:lnTo>
                      <a:lnTo>
                        <a:pt x="117" y="224"/>
                      </a:lnTo>
                      <a:lnTo>
                        <a:pt x="99" y="218"/>
                      </a:lnTo>
                      <a:lnTo>
                        <a:pt x="87" y="212"/>
                      </a:lnTo>
                      <a:lnTo>
                        <a:pt x="75" y="206"/>
                      </a:lnTo>
                      <a:lnTo>
                        <a:pt x="66" y="203"/>
                      </a:lnTo>
                      <a:lnTo>
                        <a:pt x="51" y="195"/>
                      </a:lnTo>
                      <a:lnTo>
                        <a:pt x="40" y="188"/>
                      </a:lnTo>
                      <a:lnTo>
                        <a:pt x="31" y="182"/>
                      </a:lnTo>
                      <a:lnTo>
                        <a:pt x="24" y="173"/>
                      </a:lnTo>
                      <a:lnTo>
                        <a:pt x="15" y="165"/>
                      </a:lnTo>
                      <a:lnTo>
                        <a:pt x="7" y="159"/>
                      </a:lnTo>
                      <a:lnTo>
                        <a:pt x="0" y="153"/>
                      </a:lnTo>
                      <a:lnTo>
                        <a:pt x="15" y="140"/>
                      </a:lnTo>
                      <a:lnTo>
                        <a:pt x="24" y="138"/>
                      </a:lnTo>
                      <a:lnTo>
                        <a:pt x="30" y="138"/>
                      </a:lnTo>
                      <a:lnTo>
                        <a:pt x="39" y="137"/>
                      </a:lnTo>
                      <a:lnTo>
                        <a:pt x="51" y="132"/>
                      </a:lnTo>
                      <a:lnTo>
                        <a:pt x="60" y="134"/>
                      </a:lnTo>
                      <a:lnTo>
                        <a:pt x="72" y="131"/>
                      </a:lnTo>
                      <a:lnTo>
                        <a:pt x="87" y="129"/>
                      </a:lnTo>
                      <a:lnTo>
                        <a:pt x="97" y="131"/>
                      </a:lnTo>
                      <a:lnTo>
                        <a:pt x="106" y="132"/>
                      </a:lnTo>
                      <a:lnTo>
                        <a:pt x="114" y="132"/>
                      </a:lnTo>
                      <a:lnTo>
                        <a:pt x="118" y="134"/>
                      </a:lnTo>
                      <a:lnTo>
                        <a:pt x="127" y="134"/>
                      </a:lnTo>
                      <a:lnTo>
                        <a:pt x="132" y="132"/>
                      </a:lnTo>
                      <a:lnTo>
                        <a:pt x="151" y="129"/>
                      </a:lnTo>
                      <a:lnTo>
                        <a:pt x="166" y="128"/>
                      </a:lnTo>
                      <a:lnTo>
                        <a:pt x="175" y="129"/>
                      </a:lnTo>
                      <a:lnTo>
                        <a:pt x="177" y="125"/>
                      </a:lnTo>
                      <a:lnTo>
                        <a:pt x="174" y="119"/>
                      </a:lnTo>
                      <a:lnTo>
                        <a:pt x="171" y="111"/>
                      </a:lnTo>
                      <a:lnTo>
                        <a:pt x="169" y="107"/>
                      </a:lnTo>
                      <a:lnTo>
                        <a:pt x="166" y="101"/>
                      </a:lnTo>
                      <a:lnTo>
                        <a:pt x="174" y="93"/>
                      </a:lnTo>
                      <a:lnTo>
                        <a:pt x="180" y="86"/>
                      </a:lnTo>
                      <a:lnTo>
                        <a:pt x="187" y="74"/>
                      </a:lnTo>
                      <a:lnTo>
                        <a:pt x="180" y="69"/>
                      </a:lnTo>
                      <a:lnTo>
                        <a:pt x="178" y="65"/>
                      </a:lnTo>
                      <a:lnTo>
                        <a:pt x="174" y="60"/>
                      </a:lnTo>
                      <a:lnTo>
                        <a:pt x="180" y="50"/>
                      </a:lnTo>
                      <a:lnTo>
                        <a:pt x="186" y="41"/>
                      </a:lnTo>
                      <a:lnTo>
                        <a:pt x="190" y="30"/>
                      </a:lnTo>
                      <a:lnTo>
                        <a:pt x="196" y="23"/>
                      </a:lnTo>
                      <a:lnTo>
                        <a:pt x="201" y="21"/>
                      </a:lnTo>
                      <a:lnTo>
                        <a:pt x="208" y="11"/>
                      </a:lnTo>
                      <a:lnTo>
                        <a:pt x="214" y="8"/>
                      </a:lnTo>
                      <a:lnTo>
                        <a:pt x="219" y="8"/>
                      </a:lnTo>
                      <a:lnTo>
                        <a:pt x="229" y="2"/>
                      </a:lnTo>
                      <a:lnTo>
                        <a:pt x="235" y="0"/>
                      </a:lnTo>
                      <a:lnTo>
                        <a:pt x="244" y="2"/>
                      </a:lnTo>
                      <a:lnTo>
                        <a:pt x="250" y="2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617480" y="1879560"/>
                  <a:ext cx="1550880" cy="1333440"/>
                </a:xfrm>
                <a:custGeom>
                  <a:avLst/>
                  <a:gdLst/>
                  <a:ahLst/>
                  <a:rect l="l" t="t" r="r" b="b"/>
                  <a:pathLst>
                    <a:path w="977" h="840">
                      <a:moveTo>
                        <a:pt x="0" y="216"/>
                      </a:moveTo>
                      <a:lnTo>
                        <a:pt x="46" y="187"/>
                      </a:lnTo>
                      <a:lnTo>
                        <a:pt x="73" y="175"/>
                      </a:lnTo>
                      <a:lnTo>
                        <a:pt x="78" y="157"/>
                      </a:lnTo>
                      <a:lnTo>
                        <a:pt x="57" y="147"/>
                      </a:lnTo>
                      <a:lnTo>
                        <a:pt x="55" y="126"/>
                      </a:lnTo>
                      <a:lnTo>
                        <a:pt x="64" y="120"/>
                      </a:lnTo>
                      <a:lnTo>
                        <a:pt x="63" y="111"/>
                      </a:lnTo>
                      <a:lnTo>
                        <a:pt x="99" y="108"/>
                      </a:lnTo>
                      <a:lnTo>
                        <a:pt x="108" y="91"/>
                      </a:lnTo>
                      <a:lnTo>
                        <a:pt x="109" y="76"/>
                      </a:lnTo>
                      <a:lnTo>
                        <a:pt x="139" y="72"/>
                      </a:lnTo>
                      <a:lnTo>
                        <a:pt x="142" y="57"/>
                      </a:lnTo>
                      <a:lnTo>
                        <a:pt x="114" y="52"/>
                      </a:lnTo>
                      <a:lnTo>
                        <a:pt x="127" y="42"/>
                      </a:lnTo>
                      <a:lnTo>
                        <a:pt x="174" y="42"/>
                      </a:lnTo>
                      <a:lnTo>
                        <a:pt x="187" y="30"/>
                      </a:lnTo>
                      <a:lnTo>
                        <a:pt x="207" y="28"/>
                      </a:lnTo>
                      <a:lnTo>
                        <a:pt x="219" y="18"/>
                      </a:lnTo>
                      <a:lnTo>
                        <a:pt x="234" y="36"/>
                      </a:lnTo>
                      <a:lnTo>
                        <a:pt x="292" y="33"/>
                      </a:lnTo>
                      <a:lnTo>
                        <a:pt x="319" y="51"/>
                      </a:lnTo>
                      <a:lnTo>
                        <a:pt x="406" y="46"/>
                      </a:lnTo>
                      <a:lnTo>
                        <a:pt x="420" y="37"/>
                      </a:lnTo>
                      <a:lnTo>
                        <a:pt x="453" y="52"/>
                      </a:lnTo>
                      <a:lnTo>
                        <a:pt x="487" y="66"/>
                      </a:lnTo>
                      <a:lnTo>
                        <a:pt x="504" y="60"/>
                      </a:lnTo>
                      <a:lnTo>
                        <a:pt x="514" y="52"/>
                      </a:lnTo>
                      <a:lnTo>
                        <a:pt x="543" y="57"/>
                      </a:lnTo>
                      <a:lnTo>
                        <a:pt x="523" y="46"/>
                      </a:lnTo>
                      <a:lnTo>
                        <a:pt x="505" y="48"/>
                      </a:lnTo>
                      <a:lnTo>
                        <a:pt x="478" y="51"/>
                      </a:lnTo>
                      <a:lnTo>
                        <a:pt x="465" y="36"/>
                      </a:lnTo>
                      <a:lnTo>
                        <a:pt x="450" y="28"/>
                      </a:lnTo>
                      <a:lnTo>
                        <a:pt x="450" y="15"/>
                      </a:lnTo>
                      <a:lnTo>
                        <a:pt x="454" y="1"/>
                      </a:lnTo>
                      <a:lnTo>
                        <a:pt x="466" y="0"/>
                      </a:lnTo>
                      <a:lnTo>
                        <a:pt x="483" y="12"/>
                      </a:lnTo>
                      <a:lnTo>
                        <a:pt x="487" y="6"/>
                      </a:lnTo>
                      <a:lnTo>
                        <a:pt x="501" y="0"/>
                      </a:lnTo>
                      <a:lnTo>
                        <a:pt x="517" y="9"/>
                      </a:lnTo>
                      <a:lnTo>
                        <a:pt x="526" y="1"/>
                      </a:lnTo>
                      <a:lnTo>
                        <a:pt x="535" y="13"/>
                      </a:lnTo>
                      <a:lnTo>
                        <a:pt x="537" y="22"/>
                      </a:lnTo>
                      <a:lnTo>
                        <a:pt x="561" y="33"/>
                      </a:lnTo>
                      <a:lnTo>
                        <a:pt x="552" y="42"/>
                      </a:lnTo>
                      <a:lnTo>
                        <a:pt x="552" y="54"/>
                      </a:lnTo>
                      <a:lnTo>
                        <a:pt x="592" y="57"/>
                      </a:lnTo>
                      <a:lnTo>
                        <a:pt x="603" y="42"/>
                      </a:lnTo>
                      <a:lnTo>
                        <a:pt x="595" y="34"/>
                      </a:lnTo>
                      <a:lnTo>
                        <a:pt x="577" y="36"/>
                      </a:lnTo>
                      <a:lnTo>
                        <a:pt x="582" y="18"/>
                      </a:lnTo>
                      <a:lnTo>
                        <a:pt x="618" y="28"/>
                      </a:lnTo>
                      <a:lnTo>
                        <a:pt x="625" y="40"/>
                      </a:lnTo>
                      <a:lnTo>
                        <a:pt x="655" y="40"/>
                      </a:lnTo>
                      <a:lnTo>
                        <a:pt x="685" y="55"/>
                      </a:lnTo>
                      <a:lnTo>
                        <a:pt x="700" y="52"/>
                      </a:lnTo>
                      <a:lnTo>
                        <a:pt x="717" y="66"/>
                      </a:lnTo>
                      <a:lnTo>
                        <a:pt x="700" y="84"/>
                      </a:lnTo>
                      <a:lnTo>
                        <a:pt x="687" y="70"/>
                      </a:lnTo>
                      <a:lnTo>
                        <a:pt x="678" y="75"/>
                      </a:lnTo>
                      <a:lnTo>
                        <a:pt x="664" y="85"/>
                      </a:lnTo>
                      <a:lnTo>
                        <a:pt x="643" y="94"/>
                      </a:lnTo>
                      <a:lnTo>
                        <a:pt x="654" y="108"/>
                      </a:lnTo>
                      <a:lnTo>
                        <a:pt x="636" y="109"/>
                      </a:lnTo>
                      <a:lnTo>
                        <a:pt x="621" y="127"/>
                      </a:lnTo>
                      <a:lnTo>
                        <a:pt x="606" y="150"/>
                      </a:lnTo>
                      <a:lnTo>
                        <a:pt x="628" y="169"/>
                      </a:lnTo>
                      <a:lnTo>
                        <a:pt x="646" y="192"/>
                      </a:lnTo>
                      <a:lnTo>
                        <a:pt x="681" y="195"/>
                      </a:lnTo>
                      <a:lnTo>
                        <a:pt x="711" y="192"/>
                      </a:lnTo>
                      <a:lnTo>
                        <a:pt x="724" y="204"/>
                      </a:lnTo>
                      <a:lnTo>
                        <a:pt x="718" y="210"/>
                      </a:lnTo>
                      <a:lnTo>
                        <a:pt x="709" y="222"/>
                      </a:lnTo>
                      <a:lnTo>
                        <a:pt x="723" y="243"/>
                      </a:lnTo>
                      <a:lnTo>
                        <a:pt x="727" y="258"/>
                      </a:lnTo>
                      <a:lnTo>
                        <a:pt x="744" y="265"/>
                      </a:lnTo>
                      <a:lnTo>
                        <a:pt x="766" y="252"/>
                      </a:lnTo>
                      <a:lnTo>
                        <a:pt x="760" y="232"/>
                      </a:lnTo>
                      <a:lnTo>
                        <a:pt x="741" y="216"/>
                      </a:lnTo>
                      <a:lnTo>
                        <a:pt x="763" y="196"/>
                      </a:lnTo>
                      <a:lnTo>
                        <a:pt x="744" y="163"/>
                      </a:lnTo>
                      <a:lnTo>
                        <a:pt x="726" y="150"/>
                      </a:lnTo>
                      <a:lnTo>
                        <a:pt x="741" y="138"/>
                      </a:lnTo>
                      <a:lnTo>
                        <a:pt x="738" y="120"/>
                      </a:lnTo>
                      <a:lnTo>
                        <a:pt x="748" y="109"/>
                      </a:lnTo>
                      <a:lnTo>
                        <a:pt x="766" y="120"/>
                      </a:lnTo>
                      <a:lnTo>
                        <a:pt x="808" y="159"/>
                      </a:lnTo>
                      <a:lnTo>
                        <a:pt x="834" y="165"/>
                      </a:lnTo>
                      <a:lnTo>
                        <a:pt x="841" y="154"/>
                      </a:lnTo>
                      <a:lnTo>
                        <a:pt x="835" y="133"/>
                      </a:lnTo>
                      <a:lnTo>
                        <a:pt x="850" y="136"/>
                      </a:lnTo>
                      <a:lnTo>
                        <a:pt x="876" y="160"/>
                      </a:lnTo>
                      <a:lnTo>
                        <a:pt x="880" y="174"/>
                      </a:lnTo>
                      <a:lnTo>
                        <a:pt x="895" y="183"/>
                      </a:lnTo>
                      <a:lnTo>
                        <a:pt x="925" y="193"/>
                      </a:lnTo>
                      <a:lnTo>
                        <a:pt x="940" y="213"/>
                      </a:lnTo>
                      <a:lnTo>
                        <a:pt x="963" y="226"/>
                      </a:lnTo>
                      <a:lnTo>
                        <a:pt x="975" y="231"/>
                      </a:lnTo>
                      <a:lnTo>
                        <a:pt x="976" y="243"/>
                      </a:lnTo>
                      <a:lnTo>
                        <a:pt x="958" y="250"/>
                      </a:lnTo>
                      <a:lnTo>
                        <a:pt x="948" y="241"/>
                      </a:lnTo>
                      <a:lnTo>
                        <a:pt x="939" y="243"/>
                      </a:lnTo>
                      <a:lnTo>
                        <a:pt x="936" y="262"/>
                      </a:lnTo>
                      <a:lnTo>
                        <a:pt x="921" y="267"/>
                      </a:lnTo>
                      <a:lnTo>
                        <a:pt x="904" y="256"/>
                      </a:lnTo>
                      <a:lnTo>
                        <a:pt x="870" y="256"/>
                      </a:lnTo>
                      <a:lnTo>
                        <a:pt x="865" y="279"/>
                      </a:lnTo>
                      <a:lnTo>
                        <a:pt x="874" y="292"/>
                      </a:lnTo>
                      <a:lnTo>
                        <a:pt x="888" y="285"/>
                      </a:lnTo>
                      <a:lnTo>
                        <a:pt x="901" y="282"/>
                      </a:lnTo>
                      <a:lnTo>
                        <a:pt x="915" y="289"/>
                      </a:lnTo>
                      <a:lnTo>
                        <a:pt x="897" y="306"/>
                      </a:lnTo>
                      <a:lnTo>
                        <a:pt x="915" y="321"/>
                      </a:lnTo>
                      <a:lnTo>
                        <a:pt x="939" y="325"/>
                      </a:lnTo>
                      <a:lnTo>
                        <a:pt x="936" y="334"/>
                      </a:lnTo>
                      <a:lnTo>
                        <a:pt x="927" y="336"/>
                      </a:lnTo>
                      <a:lnTo>
                        <a:pt x="904" y="387"/>
                      </a:lnTo>
                      <a:lnTo>
                        <a:pt x="906" y="354"/>
                      </a:lnTo>
                      <a:lnTo>
                        <a:pt x="916" y="337"/>
                      </a:lnTo>
                      <a:lnTo>
                        <a:pt x="904" y="330"/>
                      </a:lnTo>
                      <a:lnTo>
                        <a:pt x="891" y="340"/>
                      </a:lnTo>
                      <a:lnTo>
                        <a:pt x="898" y="349"/>
                      </a:lnTo>
                      <a:lnTo>
                        <a:pt x="888" y="355"/>
                      </a:lnTo>
                      <a:lnTo>
                        <a:pt x="877" y="363"/>
                      </a:lnTo>
                      <a:lnTo>
                        <a:pt x="879" y="385"/>
                      </a:lnTo>
                      <a:lnTo>
                        <a:pt x="864" y="394"/>
                      </a:lnTo>
                      <a:lnTo>
                        <a:pt x="843" y="397"/>
                      </a:lnTo>
                      <a:lnTo>
                        <a:pt x="850" y="409"/>
                      </a:lnTo>
                      <a:lnTo>
                        <a:pt x="843" y="423"/>
                      </a:lnTo>
                      <a:lnTo>
                        <a:pt x="850" y="433"/>
                      </a:lnTo>
                      <a:lnTo>
                        <a:pt x="838" y="456"/>
                      </a:lnTo>
                      <a:lnTo>
                        <a:pt x="834" y="477"/>
                      </a:lnTo>
                      <a:lnTo>
                        <a:pt x="816" y="489"/>
                      </a:lnTo>
                      <a:lnTo>
                        <a:pt x="793" y="522"/>
                      </a:lnTo>
                      <a:lnTo>
                        <a:pt x="790" y="544"/>
                      </a:lnTo>
                      <a:lnTo>
                        <a:pt x="798" y="562"/>
                      </a:lnTo>
                      <a:lnTo>
                        <a:pt x="808" y="584"/>
                      </a:lnTo>
                      <a:lnTo>
                        <a:pt x="814" y="608"/>
                      </a:lnTo>
                      <a:lnTo>
                        <a:pt x="804" y="619"/>
                      </a:lnTo>
                      <a:lnTo>
                        <a:pt x="790" y="611"/>
                      </a:lnTo>
                      <a:lnTo>
                        <a:pt x="793" y="599"/>
                      </a:lnTo>
                      <a:lnTo>
                        <a:pt x="786" y="573"/>
                      </a:lnTo>
                      <a:lnTo>
                        <a:pt x="777" y="568"/>
                      </a:lnTo>
                      <a:lnTo>
                        <a:pt x="771" y="552"/>
                      </a:lnTo>
                      <a:lnTo>
                        <a:pt x="759" y="552"/>
                      </a:lnTo>
                      <a:lnTo>
                        <a:pt x="745" y="543"/>
                      </a:lnTo>
                      <a:lnTo>
                        <a:pt x="730" y="546"/>
                      </a:lnTo>
                      <a:lnTo>
                        <a:pt x="717" y="540"/>
                      </a:lnTo>
                      <a:lnTo>
                        <a:pt x="700" y="547"/>
                      </a:lnTo>
                      <a:lnTo>
                        <a:pt x="670" y="541"/>
                      </a:lnTo>
                      <a:lnTo>
                        <a:pt x="690" y="561"/>
                      </a:lnTo>
                      <a:lnTo>
                        <a:pt x="664" y="559"/>
                      </a:lnTo>
                      <a:lnTo>
                        <a:pt x="646" y="544"/>
                      </a:lnTo>
                      <a:lnTo>
                        <a:pt x="616" y="544"/>
                      </a:lnTo>
                      <a:lnTo>
                        <a:pt x="621" y="568"/>
                      </a:lnTo>
                      <a:lnTo>
                        <a:pt x="598" y="561"/>
                      </a:lnTo>
                      <a:lnTo>
                        <a:pt x="586" y="584"/>
                      </a:lnTo>
                      <a:lnTo>
                        <a:pt x="595" y="595"/>
                      </a:lnTo>
                      <a:lnTo>
                        <a:pt x="586" y="623"/>
                      </a:lnTo>
                      <a:lnTo>
                        <a:pt x="597" y="656"/>
                      </a:lnTo>
                      <a:lnTo>
                        <a:pt x="609" y="679"/>
                      </a:lnTo>
                      <a:lnTo>
                        <a:pt x="622" y="700"/>
                      </a:lnTo>
                      <a:lnTo>
                        <a:pt x="664" y="698"/>
                      </a:lnTo>
                      <a:lnTo>
                        <a:pt x="682" y="694"/>
                      </a:lnTo>
                      <a:lnTo>
                        <a:pt x="685" y="679"/>
                      </a:lnTo>
                      <a:lnTo>
                        <a:pt x="676" y="667"/>
                      </a:lnTo>
                      <a:lnTo>
                        <a:pt x="678" y="656"/>
                      </a:lnTo>
                      <a:lnTo>
                        <a:pt x="703" y="659"/>
                      </a:lnTo>
                      <a:lnTo>
                        <a:pt x="729" y="653"/>
                      </a:lnTo>
                      <a:lnTo>
                        <a:pt x="729" y="667"/>
                      </a:lnTo>
                      <a:lnTo>
                        <a:pt x="721" y="686"/>
                      </a:lnTo>
                      <a:lnTo>
                        <a:pt x="709" y="701"/>
                      </a:lnTo>
                      <a:lnTo>
                        <a:pt x="706" y="722"/>
                      </a:lnTo>
                      <a:lnTo>
                        <a:pt x="723" y="731"/>
                      </a:lnTo>
                      <a:lnTo>
                        <a:pt x="745" y="728"/>
                      </a:lnTo>
                      <a:lnTo>
                        <a:pt x="759" y="736"/>
                      </a:lnTo>
                      <a:lnTo>
                        <a:pt x="771" y="733"/>
                      </a:lnTo>
                      <a:lnTo>
                        <a:pt x="775" y="746"/>
                      </a:lnTo>
                      <a:lnTo>
                        <a:pt x="765" y="767"/>
                      </a:lnTo>
                      <a:lnTo>
                        <a:pt x="774" y="779"/>
                      </a:lnTo>
                      <a:lnTo>
                        <a:pt x="775" y="803"/>
                      </a:lnTo>
                      <a:lnTo>
                        <a:pt x="790" y="820"/>
                      </a:lnTo>
                      <a:lnTo>
                        <a:pt x="810" y="824"/>
                      </a:lnTo>
                      <a:lnTo>
                        <a:pt x="823" y="820"/>
                      </a:lnTo>
                      <a:lnTo>
                        <a:pt x="829" y="821"/>
                      </a:lnTo>
                      <a:lnTo>
                        <a:pt x="855" y="821"/>
                      </a:lnTo>
                      <a:lnTo>
                        <a:pt x="877" y="823"/>
                      </a:lnTo>
                      <a:lnTo>
                        <a:pt x="883" y="812"/>
                      </a:lnTo>
                      <a:lnTo>
                        <a:pt x="864" y="830"/>
                      </a:lnTo>
                      <a:lnTo>
                        <a:pt x="850" y="829"/>
                      </a:lnTo>
                      <a:lnTo>
                        <a:pt x="837" y="830"/>
                      </a:lnTo>
                      <a:lnTo>
                        <a:pt x="810" y="839"/>
                      </a:lnTo>
                      <a:lnTo>
                        <a:pt x="787" y="827"/>
                      </a:lnTo>
                      <a:lnTo>
                        <a:pt x="766" y="820"/>
                      </a:lnTo>
                      <a:lnTo>
                        <a:pt x="757" y="821"/>
                      </a:lnTo>
                      <a:lnTo>
                        <a:pt x="759" y="811"/>
                      </a:lnTo>
                      <a:lnTo>
                        <a:pt x="757" y="794"/>
                      </a:lnTo>
                      <a:lnTo>
                        <a:pt x="739" y="779"/>
                      </a:lnTo>
                      <a:lnTo>
                        <a:pt x="702" y="770"/>
                      </a:lnTo>
                      <a:lnTo>
                        <a:pt x="696" y="763"/>
                      </a:lnTo>
                      <a:lnTo>
                        <a:pt x="685" y="764"/>
                      </a:lnTo>
                      <a:lnTo>
                        <a:pt x="675" y="757"/>
                      </a:lnTo>
                      <a:lnTo>
                        <a:pt x="658" y="749"/>
                      </a:lnTo>
                      <a:lnTo>
                        <a:pt x="640" y="728"/>
                      </a:lnTo>
                      <a:lnTo>
                        <a:pt x="619" y="722"/>
                      </a:lnTo>
                      <a:lnTo>
                        <a:pt x="607" y="736"/>
                      </a:lnTo>
                      <a:lnTo>
                        <a:pt x="594" y="725"/>
                      </a:lnTo>
                      <a:lnTo>
                        <a:pt x="577" y="725"/>
                      </a:lnTo>
                      <a:lnTo>
                        <a:pt x="544" y="718"/>
                      </a:lnTo>
                      <a:lnTo>
                        <a:pt x="484" y="682"/>
                      </a:lnTo>
                      <a:lnTo>
                        <a:pt x="480" y="644"/>
                      </a:lnTo>
                      <a:lnTo>
                        <a:pt x="474" y="629"/>
                      </a:lnTo>
                      <a:lnTo>
                        <a:pt x="463" y="619"/>
                      </a:lnTo>
                      <a:lnTo>
                        <a:pt x="450" y="598"/>
                      </a:lnTo>
                      <a:lnTo>
                        <a:pt x="387" y="526"/>
                      </a:lnTo>
                      <a:lnTo>
                        <a:pt x="387" y="553"/>
                      </a:lnTo>
                      <a:lnTo>
                        <a:pt x="426" y="601"/>
                      </a:lnTo>
                      <a:lnTo>
                        <a:pt x="442" y="641"/>
                      </a:lnTo>
                      <a:lnTo>
                        <a:pt x="418" y="632"/>
                      </a:lnTo>
                      <a:lnTo>
                        <a:pt x="414" y="608"/>
                      </a:lnTo>
                      <a:lnTo>
                        <a:pt x="382" y="593"/>
                      </a:lnTo>
                      <a:lnTo>
                        <a:pt x="400" y="584"/>
                      </a:lnTo>
                      <a:lnTo>
                        <a:pt x="358" y="559"/>
                      </a:lnTo>
                      <a:lnTo>
                        <a:pt x="375" y="544"/>
                      </a:lnTo>
                      <a:lnTo>
                        <a:pt x="360" y="514"/>
                      </a:lnTo>
                      <a:lnTo>
                        <a:pt x="309" y="451"/>
                      </a:lnTo>
                      <a:lnTo>
                        <a:pt x="303" y="415"/>
                      </a:lnTo>
                      <a:lnTo>
                        <a:pt x="306" y="385"/>
                      </a:lnTo>
                      <a:lnTo>
                        <a:pt x="319" y="355"/>
                      </a:lnTo>
                      <a:lnTo>
                        <a:pt x="319" y="325"/>
                      </a:lnTo>
                      <a:lnTo>
                        <a:pt x="309" y="307"/>
                      </a:lnTo>
                      <a:lnTo>
                        <a:pt x="337" y="301"/>
                      </a:lnTo>
                      <a:lnTo>
                        <a:pt x="303" y="265"/>
                      </a:lnTo>
                      <a:lnTo>
                        <a:pt x="304" y="249"/>
                      </a:lnTo>
                      <a:lnTo>
                        <a:pt x="289" y="226"/>
                      </a:lnTo>
                      <a:lnTo>
                        <a:pt x="295" y="213"/>
                      </a:lnTo>
                      <a:lnTo>
                        <a:pt x="285" y="205"/>
                      </a:lnTo>
                      <a:lnTo>
                        <a:pt x="283" y="190"/>
                      </a:lnTo>
                      <a:lnTo>
                        <a:pt x="273" y="178"/>
                      </a:lnTo>
                      <a:lnTo>
                        <a:pt x="285" y="168"/>
                      </a:lnTo>
                      <a:lnTo>
                        <a:pt x="268" y="160"/>
                      </a:lnTo>
                      <a:lnTo>
                        <a:pt x="255" y="171"/>
                      </a:lnTo>
                      <a:lnTo>
                        <a:pt x="235" y="150"/>
                      </a:lnTo>
                      <a:lnTo>
                        <a:pt x="214" y="144"/>
                      </a:lnTo>
                      <a:lnTo>
                        <a:pt x="184" y="144"/>
                      </a:lnTo>
                      <a:lnTo>
                        <a:pt x="165" y="163"/>
                      </a:lnTo>
                      <a:lnTo>
                        <a:pt x="156" y="157"/>
                      </a:lnTo>
                      <a:lnTo>
                        <a:pt x="172" y="132"/>
                      </a:lnTo>
                      <a:lnTo>
                        <a:pt x="157" y="136"/>
                      </a:lnTo>
                      <a:lnTo>
                        <a:pt x="127" y="163"/>
                      </a:lnTo>
                      <a:lnTo>
                        <a:pt x="96" y="187"/>
                      </a:lnTo>
                      <a:lnTo>
                        <a:pt x="67" y="193"/>
                      </a:lnTo>
                      <a:lnTo>
                        <a:pt x="19" y="217"/>
                      </a:lnTo>
                      <a:lnTo>
                        <a:pt x="0" y="216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27360" y="1752480"/>
                  <a:ext cx="527040" cy="352440"/>
                </a:xfrm>
                <a:custGeom>
                  <a:avLst/>
                  <a:gdLst/>
                  <a:ahLst/>
                  <a:rect l="l" t="t" r="r" b="b"/>
                  <a:pathLst>
                    <a:path w="332" h="222">
                      <a:moveTo>
                        <a:pt x="0" y="45"/>
                      </a:moveTo>
                      <a:lnTo>
                        <a:pt x="7" y="29"/>
                      </a:lnTo>
                      <a:lnTo>
                        <a:pt x="7" y="17"/>
                      </a:lnTo>
                      <a:lnTo>
                        <a:pt x="19" y="0"/>
                      </a:lnTo>
                      <a:lnTo>
                        <a:pt x="79" y="11"/>
                      </a:lnTo>
                      <a:lnTo>
                        <a:pt x="183" y="30"/>
                      </a:lnTo>
                      <a:lnTo>
                        <a:pt x="223" y="47"/>
                      </a:lnTo>
                      <a:lnTo>
                        <a:pt x="277" y="62"/>
                      </a:lnTo>
                      <a:lnTo>
                        <a:pt x="304" y="90"/>
                      </a:lnTo>
                      <a:lnTo>
                        <a:pt x="331" y="105"/>
                      </a:lnTo>
                      <a:lnTo>
                        <a:pt x="321" y="116"/>
                      </a:lnTo>
                      <a:lnTo>
                        <a:pt x="321" y="129"/>
                      </a:lnTo>
                      <a:lnTo>
                        <a:pt x="310" y="132"/>
                      </a:lnTo>
                      <a:lnTo>
                        <a:pt x="301" y="144"/>
                      </a:lnTo>
                      <a:lnTo>
                        <a:pt x="310" y="156"/>
                      </a:lnTo>
                      <a:lnTo>
                        <a:pt x="309" y="165"/>
                      </a:lnTo>
                      <a:lnTo>
                        <a:pt x="298" y="177"/>
                      </a:lnTo>
                      <a:lnTo>
                        <a:pt x="300" y="189"/>
                      </a:lnTo>
                      <a:lnTo>
                        <a:pt x="318" y="201"/>
                      </a:lnTo>
                      <a:lnTo>
                        <a:pt x="319" y="213"/>
                      </a:lnTo>
                      <a:lnTo>
                        <a:pt x="315" y="219"/>
                      </a:lnTo>
                      <a:lnTo>
                        <a:pt x="297" y="221"/>
                      </a:lnTo>
                      <a:lnTo>
                        <a:pt x="283" y="215"/>
                      </a:lnTo>
                      <a:lnTo>
                        <a:pt x="268" y="200"/>
                      </a:lnTo>
                      <a:lnTo>
                        <a:pt x="262" y="200"/>
                      </a:lnTo>
                      <a:lnTo>
                        <a:pt x="255" y="194"/>
                      </a:lnTo>
                      <a:lnTo>
                        <a:pt x="247" y="176"/>
                      </a:lnTo>
                      <a:lnTo>
                        <a:pt x="238" y="170"/>
                      </a:lnTo>
                      <a:lnTo>
                        <a:pt x="219" y="161"/>
                      </a:lnTo>
                      <a:lnTo>
                        <a:pt x="202" y="155"/>
                      </a:lnTo>
                      <a:lnTo>
                        <a:pt x="178" y="138"/>
                      </a:lnTo>
                      <a:lnTo>
                        <a:pt x="168" y="126"/>
                      </a:lnTo>
                      <a:lnTo>
                        <a:pt x="169" y="117"/>
                      </a:lnTo>
                      <a:lnTo>
                        <a:pt x="180" y="110"/>
                      </a:lnTo>
                      <a:lnTo>
                        <a:pt x="171" y="99"/>
                      </a:lnTo>
                      <a:lnTo>
                        <a:pt x="162" y="105"/>
                      </a:lnTo>
                      <a:lnTo>
                        <a:pt x="147" y="90"/>
                      </a:lnTo>
                      <a:lnTo>
                        <a:pt x="144" y="98"/>
                      </a:lnTo>
                      <a:lnTo>
                        <a:pt x="130" y="98"/>
                      </a:lnTo>
                      <a:lnTo>
                        <a:pt x="127" y="92"/>
                      </a:lnTo>
                      <a:lnTo>
                        <a:pt x="127" y="81"/>
                      </a:lnTo>
                      <a:lnTo>
                        <a:pt x="121" y="75"/>
                      </a:lnTo>
                      <a:lnTo>
                        <a:pt x="112" y="77"/>
                      </a:lnTo>
                      <a:lnTo>
                        <a:pt x="100" y="60"/>
                      </a:lnTo>
                      <a:lnTo>
                        <a:pt x="91" y="59"/>
                      </a:lnTo>
                      <a:lnTo>
                        <a:pt x="78" y="51"/>
                      </a:lnTo>
                      <a:lnTo>
                        <a:pt x="49" y="53"/>
                      </a:lnTo>
                      <a:lnTo>
                        <a:pt x="21" y="51"/>
                      </a:lnTo>
                      <a:lnTo>
                        <a:pt x="0" y="45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614320" y="1876320"/>
                  <a:ext cx="344520" cy="182520"/>
                </a:xfrm>
                <a:custGeom>
                  <a:avLst/>
                  <a:gdLst/>
                  <a:ahLst/>
                  <a:rect l="l" t="t" r="r" b="b"/>
                  <a:pathLst>
                    <a:path w="217" h="115">
                      <a:moveTo>
                        <a:pt x="8" y="0"/>
                      </a:moveTo>
                      <a:lnTo>
                        <a:pt x="0" y="9"/>
                      </a:lnTo>
                      <a:lnTo>
                        <a:pt x="0" y="20"/>
                      </a:lnTo>
                      <a:lnTo>
                        <a:pt x="15" y="32"/>
                      </a:lnTo>
                      <a:lnTo>
                        <a:pt x="24" y="29"/>
                      </a:lnTo>
                      <a:lnTo>
                        <a:pt x="27" y="33"/>
                      </a:lnTo>
                      <a:lnTo>
                        <a:pt x="39" y="35"/>
                      </a:lnTo>
                      <a:lnTo>
                        <a:pt x="45" y="27"/>
                      </a:lnTo>
                      <a:lnTo>
                        <a:pt x="66" y="29"/>
                      </a:lnTo>
                      <a:lnTo>
                        <a:pt x="69" y="36"/>
                      </a:lnTo>
                      <a:lnTo>
                        <a:pt x="77" y="39"/>
                      </a:lnTo>
                      <a:lnTo>
                        <a:pt x="95" y="38"/>
                      </a:lnTo>
                      <a:lnTo>
                        <a:pt x="101" y="42"/>
                      </a:lnTo>
                      <a:lnTo>
                        <a:pt x="110" y="47"/>
                      </a:lnTo>
                      <a:lnTo>
                        <a:pt x="117" y="56"/>
                      </a:lnTo>
                      <a:lnTo>
                        <a:pt x="117" y="68"/>
                      </a:lnTo>
                      <a:lnTo>
                        <a:pt x="111" y="71"/>
                      </a:lnTo>
                      <a:lnTo>
                        <a:pt x="114" y="75"/>
                      </a:lnTo>
                      <a:lnTo>
                        <a:pt x="105" y="83"/>
                      </a:lnTo>
                      <a:lnTo>
                        <a:pt x="105" y="93"/>
                      </a:lnTo>
                      <a:lnTo>
                        <a:pt x="119" y="95"/>
                      </a:lnTo>
                      <a:lnTo>
                        <a:pt x="126" y="92"/>
                      </a:lnTo>
                      <a:lnTo>
                        <a:pt x="129" y="87"/>
                      </a:lnTo>
                      <a:lnTo>
                        <a:pt x="134" y="92"/>
                      </a:lnTo>
                      <a:lnTo>
                        <a:pt x="141" y="89"/>
                      </a:lnTo>
                      <a:lnTo>
                        <a:pt x="158" y="95"/>
                      </a:lnTo>
                      <a:lnTo>
                        <a:pt x="168" y="105"/>
                      </a:lnTo>
                      <a:lnTo>
                        <a:pt x="171" y="105"/>
                      </a:lnTo>
                      <a:lnTo>
                        <a:pt x="173" y="111"/>
                      </a:lnTo>
                      <a:lnTo>
                        <a:pt x="183" y="114"/>
                      </a:lnTo>
                      <a:lnTo>
                        <a:pt x="195" y="114"/>
                      </a:lnTo>
                      <a:lnTo>
                        <a:pt x="188" y="108"/>
                      </a:lnTo>
                      <a:lnTo>
                        <a:pt x="191" y="102"/>
                      </a:lnTo>
                      <a:lnTo>
                        <a:pt x="200" y="108"/>
                      </a:lnTo>
                      <a:lnTo>
                        <a:pt x="210" y="110"/>
                      </a:lnTo>
                      <a:lnTo>
                        <a:pt x="212" y="101"/>
                      </a:lnTo>
                      <a:lnTo>
                        <a:pt x="201" y="93"/>
                      </a:lnTo>
                      <a:lnTo>
                        <a:pt x="194" y="93"/>
                      </a:lnTo>
                      <a:lnTo>
                        <a:pt x="183" y="86"/>
                      </a:lnTo>
                      <a:lnTo>
                        <a:pt x="194" y="86"/>
                      </a:lnTo>
                      <a:lnTo>
                        <a:pt x="201" y="90"/>
                      </a:lnTo>
                      <a:lnTo>
                        <a:pt x="216" y="90"/>
                      </a:lnTo>
                      <a:lnTo>
                        <a:pt x="213" y="81"/>
                      </a:lnTo>
                      <a:lnTo>
                        <a:pt x="200" y="72"/>
                      </a:lnTo>
                      <a:lnTo>
                        <a:pt x="191" y="71"/>
                      </a:lnTo>
                      <a:lnTo>
                        <a:pt x="177" y="60"/>
                      </a:lnTo>
                      <a:lnTo>
                        <a:pt x="161" y="57"/>
                      </a:lnTo>
                      <a:lnTo>
                        <a:pt x="147" y="53"/>
                      </a:lnTo>
                      <a:lnTo>
                        <a:pt x="137" y="39"/>
                      </a:lnTo>
                      <a:lnTo>
                        <a:pt x="129" y="21"/>
                      </a:lnTo>
                      <a:lnTo>
                        <a:pt x="119" y="21"/>
                      </a:lnTo>
                      <a:lnTo>
                        <a:pt x="116" y="17"/>
                      </a:lnTo>
                      <a:lnTo>
                        <a:pt x="110" y="18"/>
                      </a:lnTo>
                      <a:lnTo>
                        <a:pt x="99" y="11"/>
                      </a:lnTo>
                      <a:lnTo>
                        <a:pt x="81" y="8"/>
                      </a:lnTo>
                      <a:lnTo>
                        <a:pt x="74" y="12"/>
                      </a:lnTo>
                      <a:lnTo>
                        <a:pt x="57" y="8"/>
                      </a:lnTo>
                      <a:lnTo>
                        <a:pt x="47" y="8"/>
                      </a:lnTo>
                      <a:lnTo>
                        <a:pt x="42" y="2"/>
                      </a:lnTo>
                      <a:lnTo>
                        <a:pt x="36" y="0"/>
                      </a:lnTo>
                      <a:lnTo>
                        <a:pt x="27" y="2"/>
                      </a:lnTo>
                      <a:lnTo>
                        <a:pt x="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09800" y="2881440"/>
                  <a:ext cx="243000" cy="82440"/>
                </a:xfrm>
                <a:custGeom>
                  <a:avLst/>
                  <a:gdLst/>
                  <a:ahLst/>
                  <a:rect l="l" t="t" r="r" b="b"/>
                  <a:pathLst>
                    <a:path w="153" h="52">
                      <a:moveTo>
                        <a:pt x="0" y="25"/>
                      </a:moveTo>
                      <a:lnTo>
                        <a:pt x="14" y="10"/>
                      </a:lnTo>
                      <a:lnTo>
                        <a:pt x="20" y="10"/>
                      </a:lnTo>
                      <a:lnTo>
                        <a:pt x="30" y="3"/>
                      </a:lnTo>
                      <a:lnTo>
                        <a:pt x="42" y="3"/>
                      </a:lnTo>
                      <a:lnTo>
                        <a:pt x="45" y="1"/>
                      </a:lnTo>
                      <a:lnTo>
                        <a:pt x="50" y="0"/>
                      </a:lnTo>
                      <a:lnTo>
                        <a:pt x="65" y="9"/>
                      </a:lnTo>
                      <a:lnTo>
                        <a:pt x="69" y="15"/>
                      </a:lnTo>
                      <a:lnTo>
                        <a:pt x="72" y="12"/>
                      </a:lnTo>
                      <a:lnTo>
                        <a:pt x="84" y="18"/>
                      </a:lnTo>
                      <a:lnTo>
                        <a:pt x="92" y="18"/>
                      </a:lnTo>
                      <a:lnTo>
                        <a:pt x="98" y="22"/>
                      </a:lnTo>
                      <a:lnTo>
                        <a:pt x="108" y="25"/>
                      </a:lnTo>
                      <a:lnTo>
                        <a:pt x="108" y="33"/>
                      </a:lnTo>
                      <a:lnTo>
                        <a:pt x="128" y="33"/>
                      </a:lnTo>
                      <a:lnTo>
                        <a:pt x="132" y="40"/>
                      </a:lnTo>
                      <a:lnTo>
                        <a:pt x="144" y="40"/>
                      </a:lnTo>
                      <a:lnTo>
                        <a:pt x="152" y="49"/>
                      </a:lnTo>
                      <a:lnTo>
                        <a:pt x="147" y="51"/>
                      </a:lnTo>
                      <a:lnTo>
                        <a:pt x="144" y="48"/>
                      </a:lnTo>
                      <a:lnTo>
                        <a:pt x="143" y="46"/>
                      </a:lnTo>
                      <a:lnTo>
                        <a:pt x="132" y="48"/>
                      </a:lnTo>
                      <a:lnTo>
                        <a:pt x="129" y="49"/>
                      </a:lnTo>
                      <a:lnTo>
                        <a:pt x="120" y="51"/>
                      </a:lnTo>
                      <a:lnTo>
                        <a:pt x="107" y="51"/>
                      </a:lnTo>
                      <a:lnTo>
                        <a:pt x="98" y="51"/>
                      </a:lnTo>
                      <a:lnTo>
                        <a:pt x="98" y="46"/>
                      </a:lnTo>
                      <a:lnTo>
                        <a:pt x="84" y="34"/>
                      </a:lnTo>
                      <a:lnTo>
                        <a:pt x="84" y="27"/>
                      </a:lnTo>
                      <a:lnTo>
                        <a:pt x="69" y="27"/>
                      </a:lnTo>
                      <a:lnTo>
                        <a:pt x="63" y="22"/>
                      </a:lnTo>
                      <a:lnTo>
                        <a:pt x="59" y="27"/>
                      </a:lnTo>
                      <a:lnTo>
                        <a:pt x="54" y="21"/>
                      </a:lnTo>
                      <a:lnTo>
                        <a:pt x="50" y="21"/>
                      </a:lnTo>
                      <a:lnTo>
                        <a:pt x="50" y="13"/>
                      </a:lnTo>
                      <a:lnTo>
                        <a:pt x="45" y="10"/>
                      </a:lnTo>
                      <a:lnTo>
                        <a:pt x="32" y="12"/>
                      </a:lnTo>
                      <a:lnTo>
                        <a:pt x="23" y="21"/>
                      </a:lnTo>
                      <a:lnTo>
                        <a:pt x="12" y="22"/>
                      </a:lnTo>
                      <a:lnTo>
                        <a:pt x="0" y="25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22560" y="2940120"/>
                  <a:ext cx="153720" cy="71280"/>
                </a:xfrm>
                <a:custGeom>
                  <a:avLst/>
                  <a:gdLst/>
                  <a:ahLst/>
                  <a:rect l="l" t="t" r="r" b="b"/>
                  <a:pathLst>
                    <a:path w="97" h="4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30" y="33"/>
                      </a:lnTo>
                      <a:lnTo>
                        <a:pt x="39" y="42"/>
                      </a:lnTo>
                      <a:lnTo>
                        <a:pt x="51" y="44"/>
                      </a:lnTo>
                      <a:lnTo>
                        <a:pt x="57" y="33"/>
                      </a:lnTo>
                      <a:lnTo>
                        <a:pt x="54" y="30"/>
                      </a:lnTo>
                      <a:lnTo>
                        <a:pt x="60" y="26"/>
                      </a:lnTo>
                      <a:lnTo>
                        <a:pt x="72" y="33"/>
                      </a:lnTo>
                      <a:lnTo>
                        <a:pt x="81" y="33"/>
                      </a:lnTo>
                      <a:lnTo>
                        <a:pt x="81" y="29"/>
                      </a:lnTo>
                      <a:lnTo>
                        <a:pt x="87" y="29"/>
                      </a:lnTo>
                      <a:lnTo>
                        <a:pt x="96" y="21"/>
                      </a:lnTo>
                      <a:lnTo>
                        <a:pt x="90" y="20"/>
                      </a:lnTo>
                      <a:lnTo>
                        <a:pt x="90" y="12"/>
                      </a:lnTo>
                      <a:lnTo>
                        <a:pt x="90" y="6"/>
                      </a:lnTo>
                      <a:lnTo>
                        <a:pt x="76" y="5"/>
                      </a:lnTo>
                      <a:lnTo>
                        <a:pt x="66" y="6"/>
                      </a:lnTo>
                      <a:lnTo>
                        <a:pt x="57" y="6"/>
                      </a:lnTo>
                      <a:lnTo>
                        <a:pt x="43" y="5"/>
                      </a:lnTo>
                      <a:lnTo>
                        <a:pt x="33" y="0"/>
                      </a:lnTo>
                      <a:lnTo>
                        <a:pt x="30" y="5"/>
                      </a:lnTo>
                      <a:lnTo>
                        <a:pt x="28" y="14"/>
                      </a:lnTo>
                      <a:lnTo>
                        <a:pt x="18" y="14"/>
                      </a:lnTo>
                      <a:lnTo>
                        <a:pt x="15" y="21"/>
                      </a:lnTo>
                      <a:lnTo>
                        <a:pt x="9" y="24"/>
                      </a:lnTo>
                      <a:lnTo>
                        <a:pt x="0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923920" y="3143160"/>
                  <a:ext cx="981360" cy="1455840"/>
                </a:xfrm>
                <a:custGeom>
                  <a:avLst/>
                  <a:gdLst/>
                  <a:ahLst/>
                  <a:rect l="l" t="t" r="r" b="b"/>
                  <a:pathLst>
                    <a:path w="618" h="917">
                      <a:moveTo>
                        <a:pt x="48" y="40"/>
                      </a:moveTo>
                      <a:lnTo>
                        <a:pt x="56" y="30"/>
                      </a:lnTo>
                      <a:lnTo>
                        <a:pt x="71" y="15"/>
                      </a:lnTo>
                      <a:lnTo>
                        <a:pt x="93" y="6"/>
                      </a:lnTo>
                      <a:lnTo>
                        <a:pt x="105" y="0"/>
                      </a:lnTo>
                      <a:lnTo>
                        <a:pt x="117" y="1"/>
                      </a:lnTo>
                      <a:lnTo>
                        <a:pt x="114" y="9"/>
                      </a:lnTo>
                      <a:lnTo>
                        <a:pt x="101" y="16"/>
                      </a:lnTo>
                      <a:lnTo>
                        <a:pt x="98" y="31"/>
                      </a:lnTo>
                      <a:lnTo>
                        <a:pt x="101" y="43"/>
                      </a:lnTo>
                      <a:lnTo>
                        <a:pt x="113" y="43"/>
                      </a:lnTo>
                      <a:lnTo>
                        <a:pt x="117" y="30"/>
                      </a:lnTo>
                      <a:lnTo>
                        <a:pt x="120" y="16"/>
                      </a:lnTo>
                      <a:lnTo>
                        <a:pt x="128" y="21"/>
                      </a:lnTo>
                      <a:lnTo>
                        <a:pt x="137" y="28"/>
                      </a:lnTo>
                      <a:lnTo>
                        <a:pt x="152" y="25"/>
                      </a:lnTo>
                      <a:lnTo>
                        <a:pt x="161" y="31"/>
                      </a:lnTo>
                      <a:lnTo>
                        <a:pt x="164" y="39"/>
                      </a:lnTo>
                      <a:lnTo>
                        <a:pt x="186" y="36"/>
                      </a:lnTo>
                      <a:lnTo>
                        <a:pt x="231" y="31"/>
                      </a:lnTo>
                      <a:lnTo>
                        <a:pt x="248" y="55"/>
                      </a:lnTo>
                      <a:lnTo>
                        <a:pt x="276" y="67"/>
                      </a:lnTo>
                      <a:lnTo>
                        <a:pt x="275" y="78"/>
                      </a:lnTo>
                      <a:lnTo>
                        <a:pt x="287" y="72"/>
                      </a:lnTo>
                      <a:lnTo>
                        <a:pt x="300" y="72"/>
                      </a:lnTo>
                      <a:lnTo>
                        <a:pt x="317" y="82"/>
                      </a:lnTo>
                      <a:lnTo>
                        <a:pt x="336" y="81"/>
                      </a:lnTo>
                      <a:lnTo>
                        <a:pt x="353" y="82"/>
                      </a:lnTo>
                      <a:lnTo>
                        <a:pt x="380" y="102"/>
                      </a:lnTo>
                      <a:lnTo>
                        <a:pt x="408" y="126"/>
                      </a:lnTo>
                      <a:lnTo>
                        <a:pt x="420" y="153"/>
                      </a:lnTo>
                      <a:lnTo>
                        <a:pt x="413" y="174"/>
                      </a:lnTo>
                      <a:lnTo>
                        <a:pt x="447" y="181"/>
                      </a:lnTo>
                      <a:lnTo>
                        <a:pt x="504" y="192"/>
                      </a:lnTo>
                      <a:lnTo>
                        <a:pt x="563" y="204"/>
                      </a:lnTo>
                      <a:lnTo>
                        <a:pt x="600" y="228"/>
                      </a:lnTo>
                      <a:lnTo>
                        <a:pt x="617" y="250"/>
                      </a:lnTo>
                      <a:lnTo>
                        <a:pt x="617" y="279"/>
                      </a:lnTo>
                      <a:lnTo>
                        <a:pt x="602" y="304"/>
                      </a:lnTo>
                      <a:lnTo>
                        <a:pt x="585" y="318"/>
                      </a:lnTo>
                      <a:lnTo>
                        <a:pt x="575" y="327"/>
                      </a:lnTo>
                      <a:lnTo>
                        <a:pt x="563" y="346"/>
                      </a:lnTo>
                      <a:lnTo>
                        <a:pt x="561" y="363"/>
                      </a:lnTo>
                      <a:lnTo>
                        <a:pt x="563" y="384"/>
                      </a:lnTo>
                      <a:lnTo>
                        <a:pt x="557" y="405"/>
                      </a:lnTo>
                      <a:lnTo>
                        <a:pt x="548" y="409"/>
                      </a:lnTo>
                      <a:lnTo>
                        <a:pt x="545" y="421"/>
                      </a:lnTo>
                      <a:lnTo>
                        <a:pt x="534" y="430"/>
                      </a:lnTo>
                      <a:lnTo>
                        <a:pt x="533" y="441"/>
                      </a:lnTo>
                      <a:lnTo>
                        <a:pt x="519" y="453"/>
                      </a:lnTo>
                      <a:lnTo>
                        <a:pt x="498" y="474"/>
                      </a:lnTo>
                      <a:lnTo>
                        <a:pt x="480" y="480"/>
                      </a:lnTo>
                      <a:lnTo>
                        <a:pt x="468" y="478"/>
                      </a:lnTo>
                      <a:lnTo>
                        <a:pt x="446" y="489"/>
                      </a:lnTo>
                      <a:lnTo>
                        <a:pt x="423" y="513"/>
                      </a:lnTo>
                      <a:lnTo>
                        <a:pt x="419" y="522"/>
                      </a:lnTo>
                      <a:lnTo>
                        <a:pt x="419" y="533"/>
                      </a:lnTo>
                      <a:lnTo>
                        <a:pt x="423" y="547"/>
                      </a:lnTo>
                      <a:lnTo>
                        <a:pt x="413" y="560"/>
                      </a:lnTo>
                      <a:lnTo>
                        <a:pt x="413" y="571"/>
                      </a:lnTo>
                      <a:lnTo>
                        <a:pt x="395" y="583"/>
                      </a:lnTo>
                      <a:lnTo>
                        <a:pt x="381" y="592"/>
                      </a:lnTo>
                      <a:lnTo>
                        <a:pt x="371" y="605"/>
                      </a:lnTo>
                      <a:lnTo>
                        <a:pt x="366" y="619"/>
                      </a:lnTo>
                      <a:lnTo>
                        <a:pt x="351" y="635"/>
                      </a:lnTo>
                      <a:lnTo>
                        <a:pt x="345" y="632"/>
                      </a:lnTo>
                      <a:lnTo>
                        <a:pt x="333" y="632"/>
                      </a:lnTo>
                      <a:lnTo>
                        <a:pt x="318" y="638"/>
                      </a:lnTo>
                      <a:lnTo>
                        <a:pt x="329" y="646"/>
                      </a:lnTo>
                      <a:lnTo>
                        <a:pt x="329" y="661"/>
                      </a:lnTo>
                      <a:lnTo>
                        <a:pt x="327" y="673"/>
                      </a:lnTo>
                      <a:lnTo>
                        <a:pt x="320" y="682"/>
                      </a:lnTo>
                      <a:lnTo>
                        <a:pt x="300" y="683"/>
                      </a:lnTo>
                      <a:lnTo>
                        <a:pt x="285" y="688"/>
                      </a:lnTo>
                      <a:lnTo>
                        <a:pt x="278" y="697"/>
                      </a:lnTo>
                      <a:lnTo>
                        <a:pt x="278" y="712"/>
                      </a:lnTo>
                      <a:lnTo>
                        <a:pt x="260" y="716"/>
                      </a:lnTo>
                      <a:lnTo>
                        <a:pt x="245" y="712"/>
                      </a:lnTo>
                      <a:lnTo>
                        <a:pt x="240" y="721"/>
                      </a:lnTo>
                      <a:lnTo>
                        <a:pt x="248" y="727"/>
                      </a:lnTo>
                      <a:lnTo>
                        <a:pt x="243" y="749"/>
                      </a:lnTo>
                      <a:lnTo>
                        <a:pt x="237" y="769"/>
                      </a:lnTo>
                      <a:lnTo>
                        <a:pt x="218" y="769"/>
                      </a:lnTo>
                      <a:lnTo>
                        <a:pt x="212" y="776"/>
                      </a:lnTo>
                      <a:lnTo>
                        <a:pt x="213" y="791"/>
                      </a:lnTo>
                      <a:lnTo>
                        <a:pt x="224" y="791"/>
                      </a:lnTo>
                      <a:lnTo>
                        <a:pt x="231" y="800"/>
                      </a:lnTo>
                      <a:lnTo>
                        <a:pt x="227" y="815"/>
                      </a:lnTo>
                      <a:lnTo>
                        <a:pt x="216" y="817"/>
                      </a:lnTo>
                      <a:lnTo>
                        <a:pt x="200" y="823"/>
                      </a:lnTo>
                      <a:lnTo>
                        <a:pt x="195" y="835"/>
                      </a:lnTo>
                      <a:lnTo>
                        <a:pt x="194" y="853"/>
                      </a:lnTo>
                      <a:lnTo>
                        <a:pt x="183" y="862"/>
                      </a:lnTo>
                      <a:lnTo>
                        <a:pt x="221" y="892"/>
                      </a:lnTo>
                      <a:lnTo>
                        <a:pt x="231" y="907"/>
                      </a:lnTo>
                      <a:lnTo>
                        <a:pt x="225" y="916"/>
                      </a:lnTo>
                      <a:lnTo>
                        <a:pt x="209" y="910"/>
                      </a:lnTo>
                      <a:lnTo>
                        <a:pt x="195" y="898"/>
                      </a:lnTo>
                      <a:lnTo>
                        <a:pt x="176" y="889"/>
                      </a:lnTo>
                      <a:lnTo>
                        <a:pt x="158" y="874"/>
                      </a:lnTo>
                      <a:lnTo>
                        <a:pt x="146" y="856"/>
                      </a:lnTo>
                      <a:lnTo>
                        <a:pt x="144" y="841"/>
                      </a:lnTo>
                      <a:lnTo>
                        <a:pt x="147" y="829"/>
                      </a:lnTo>
                      <a:lnTo>
                        <a:pt x="146" y="731"/>
                      </a:lnTo>
                      <a:lnTo>
                        <a:pt x="141" y="712"/>
                      </a:lnTo>
                      <a:lnTo>
                        <a:pt x="128" y="694"/>
                      </a:lnTo>
                      <a:lnTo>
                        <a:pt x="128" y="677"/>
                      </a:lnTo>
                      <a:lnTo>
                        <a:pt x="137" y="658"/>
                      </a:lnTo>
                      <a:lnTo>
                        <a:pt x="144" y="634"/>
                      </a:lnTo>
                      <a:lnTo>
                        <a:pt x="141" y="610"/>
                      </a:lnTo>
                      <a:lnTo>
                        <a:pt x="140" y="599"/>
                      </a:lnTo>
                      <a:lnTo>
                        <a:pt x="138" y="586"/>
                      </a:lnTo>
                      <a:lnTo>
                        <a:pt x="143" y="580"/>
                      </a:lnTo>
                      <a:lnTo>
                        <a:pt x="146" y="553"/>
                      </a:lnTo>
                      <a:lnTo>
                        <a:pt x="143" y="539"/>
                      </a:lnTo>
                      <a:lnTo>
                        <a:pt x="149" y="507"/>
                      </a:lnTo>
                      <a:lnTo>
                        <a:pt x="143" y="478"/>
                      </a:lnTo>
                      <a:lnTo>
                        <a:pt x="147" y="463"/>
                      </a:lnTo>
                      <a:lnTo>
                        <a:pt x="155" y="435"/>
                      </a:lnTo>
                      <a:lnTo>
                        <a:pt x="147" y="417"/>
                      </a:lnTo>
                      <a:lnTo>
                        <a:pt x="132" y="403"/>
                      </a:lnTo>
                      <a:lnTo>
                        <a:pt x="128" y="388"/>
                      </a:lnTo>
                      <a:lnTo>
                        <a:pt x="111" y="375"/>
                      </a:lnTo>
                      <a:lnTo>
                        <a:pt x="93" y="366"/>
                      </a:lnTo>
                      <a:lnTo>
                        <a:pt x="68" y="361"/>
                      </a:lnTo>
                      <a:lnTo>
                        <a:pt x="56" y="340"/>
                      </a:lnTo>
                      <a:lnTo>
                        <a:pt x="39" y="321"/>
                      </a:lnTo>
                      <a:lnTo>
                        <a:pt x="38" y="304"/>
                      </a:lnTo>
                      <a:lnTo>
                        <a:pt x="36" y="289"/>
                      </a:lnTo>
                      <a:lnTo>
                        <a:pt x="32" y="279"/>
                      </a:lnTo>
                      <a:lnTo>
                        <a:pt x="23" y="267"/>
                      </a:lnTo>
                      <a:lnTo>
                        <a:pt x="11" y="261"/>
                      </a:lnTo>
                      <a:lnTo>
                        <a:pt x="2" y="249"/>
                      </a:lnTo>
                      <a:lnTo>
                        <a:pt x="12" y="238"/>
                      </a:lnTo>
                      <a:lnTo>
                        <a:pt x="12" y="213"/>
                      </a:lnTo>
                      <a:lnTo>
                        <a:pt x="6" y="199"/>
                      </a:lnTo>
                      <a:lnTo>
                        <a:pt x="0" y="186"/>
                      </a:lnTo>
                      <a:lnTo>
                        <a:pt x="6" y="166"/>
                      </a:lnTo>
                      <a:lnTo>
                        <a:pt x="30" y="118"/>
                      </a:lnTo>
                      <a:lnTo>
                        <a:pt x="32" y="97"/>
                      </a:lnTo>
                      <a:lnTo>
                        <a:pt x="45" y="75"/>
                      </a:lnTo>
                      <a:lnTo>
                        <a:pt x="45" y="63"/>
                      </a:lnTo>
                      <a:lnTo>
                        <a:pt x="48" y="40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86868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50505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" name=""/>
          <p:cNvSpPr/>
          <p:nvPr/>
        </p:nvSpPr>
        <p:spPr>
          <a:xfrm>
            <a:off x="671400" y="2222640"/>
            <a:ext cx="76359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ts val="47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4920" y="589284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ttp://w3.to/skysof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2b2b2"/>
                </a:solidFill>
                <a:latin typeface="Arial"/>
              </a:rPr>
              <a:t>迈向</a:t>
            </a:r>
            <a:r>
              <a:rPr b="1" lang="zh-CN" sz="4400" spc="-1" strike="noStrike">
                <a:solidFill>
                  <a:srgbClr val="b2b2b2"/>
                </a:solidFill>
                <a:latin typeface="Arial"/>
              </a:rPr>
              <a:t>Internet</a:t>
            </a:r>
            <a:r>
              <a:rPr b="1" lang="zh-CN" sz="4400" spc="-1" strike="noStrike">
                <a:solidFill>
                  <a:srgbClr val="b2b2b2"/>
                </a:solidFill>
                <a:latin typeface="Arial"/>
              </a:rPr>
              <a:t>移动通信时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DE  AREA 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216000" y="304920"/>
            <a:ext cx="83055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Can my 2 offices using CA300 to dial up to internet so that the 2 offfices can conn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to each other using the fix IP Addresses given by ISPs and the others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surf the internet and their workstations are also protected by firewa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Ans.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4280" y="1219320"/>
            <a:ext cx="5791320" cy="838080"/>
          </a:xfrm>
          <a:prstGeom prst="wedgeEllipseCallout">
            <a:avLst>
              <a:gd name="adj1" fmla="val -38680"/>
              <a:gd name="adj2" fmla="val 55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51460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40080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752480" y="3505320"/>
            <a:ext cx="1676520" cy="37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3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715000" y="3505320"/>
            <a:ext cx="17524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30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096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948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09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6680" y="4724280"/>
            <a:ext cx="74772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017720" y="4724280"/>
            <a:ext cx="77292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892160" y="4724280"/>
            <a:ext cx="779760" cy="2984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768760" y="4724280"/>
            <a:ext cx="76176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240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4724280"/>
            <a:ext cx="83844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4724280"/>
            <a:ext cx="83808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3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32440" y="4724280"/>
            <a:ext cx="83844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72400" y="4724280"/>
            <a:ext cx="83808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057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4100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485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88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1532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666880" y="5715000"/>
            <a:ext cx="99072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2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658280" y="5715000"/>
            <a:ext cx="990360" cy="3049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2.168.3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33200" y="22478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P Fix IP for CA300-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14480" y="2610000"/>
            <a:ext cx="22096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2.2.5 map to 192.168.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6 map to 192.168.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7 map to 192.168.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160" y="3600360"/>
            <a:ext cx="1752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192.168.2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343400" y="226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P Fix IP for CA300-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324320" y="2590920"/>
            <a:ext cx="2438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9 map to 192.168.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10 map to  192.168.3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8.95.2.11 map to  192.168.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590920" y="32306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Port IP:168.95.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858000" y="32385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Port IP:168.95.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809880" y="3581280"/>
            <a:ext cx="1828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IP:192.168.3.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etmask: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95120"/>
            <a:ext cx="8337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信的里程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40480" y="2211480"/>
            <a:ext cx="836640" cy="12938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82880" y="4040280"/>
            <a:ext cx="2208240" cy="114120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3760" y="3049560"/>
            <a:ext cx="2360520" cy="6080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4520" y="1855800"/>
            <a:ext cx="2857320" cy="1944720"/>
          </a:xfrm>
          <a:custGeom>
            <a:avLst/>
            <a:gdLst/>
            <a:ahLst/>
            <a:rect l="l" t="t" r="r" b="b"/>
            <a:pathLst>
              <a:path w="1800" h="1225">
                <a:moveTo>
                  <a:pt x="286" y="289"/>
                </a:moveTo>
                <a:lnTo>
                  <a:pt x="300" y="256"/>
                </a:lnTo>
                <a:lnTo>
                  <a:pt x="323" y="221"/>
                </a:lnTo>
                <a:lnTo>
                  <a:pt x="359" y="194"/>
                </a:lnTo>
                <a:lnTo>
                  <a:pt x="403" y="172"/>
                </a:lnTo>
                <a:lnTo>
                  <a:pt x="441" y="161"/>
                </a:lnTo>
                <a:lnTo>
                  <a:pt x="486" y="147"/>
                </a:lnTo>
                <a:lnTo>
                  <a:pt x="557" y="141"/>
                </a:lnTo>
                <a:lnTo>
                  <a:pt x="624" y="147"/>
                </a:lnTo>
                <a:lnTo>
                  <a:pt x="687" y="161"/>
                </a:lnTo>
                <a:lnTo>
                  <a:pt x="733" y="178"/>
                </a:lnTo>
                <a:lnTo>
                  <a:pt x="759" y="122"/>
                </a:lnTo>
                <a:lnTo>
                  <a:pt x="794" y="79"/>
                </a:lnTo>
                <a:lnTo>
                  <a:pt x="843" y="44"/>
                </a:lnTo>
                <a:lnTo>
                  <a:pt x="905" y="19"/>
                </a:lnTo>
                <a:lnTo>
                  <a:pt x="982" y="1"/>
                </a:lnTo>
                <a:lnTo>
                  <a:pt x="1057" y="0"/>
                </a:lnTo>
                <a:lnTo>
                  <a:pt x="1124" y="9"/>
                </a:lnTo>
                <a:lnTo>
                  <a:pt x="1198" y="31"/>
                </a:lnTo>
                <a:lnTo>
                  <a:pt x="1256" y="69"/>
                </a:lnTo>
                <a:lnTo>
                  <a:pt x="1297" y="106"/>
                </a:lnTo>
                <a:lnTo>
                  <a:pt x="1323" y="143"/>
                </a:lnTo>
                <a:lnTo>
                  <a:pt x="1329" y="190"/>
                </a:lnTo>
                <a:lnTo>
                  <a:pt x="1382" y="174"/>
                </a:lnTo>
                <a:lnTo>
                  <a:pt x="1445" y="180"/>
                </a:lnTo>
                <a:lnTo>
                  <a:pt x="1496" y="194"/>
                </a:lnTo>
                <a:lnTo>
                  <a:pt x="1541" y="227"/>
                </a:lnTo>
                <a:lnTo>
                  <a:pt x="1572" y="270"/>
                </a:lnTo>
                <a:lnTo>
                  <a:pt x="1585" y="316"/>
                </a:lnTo>
                <a:lnTo>
                  <a:pt x="1584" y="351"/>
                </a:lnTo>
                <a:lnTo>
                  <a:pt x="1614" y="349"/>
                </a:lnTo>
                <a:lnTo>
                  <a:pt x="1651" y="357"/>
                </a:lnTo>
                <a:lnTo>
                  <a:pt x="1688" y="373"/>
                </a:lnTo>
                <a:lnTo>
                  <a:pt x="1718" y="392"/>
                </a:lnTo>
                <a:lnTo>
                  <a:pt x="1738" y="408"/>
                </a:lnTo>
                <a:lnTo>
                  <a:pt x="1756" y="429"/>
                </a:lnTo>
                <a:lnTo>
                  <a:pt x="1776" y="456"/>
                </a:lnTo>
                <a:lnTo>
                  <a:pt x="1786" y="489"/>
                </a:lnTo>
                <a:lnTo>
                  <a:pt x="1788" y="514"/>
                </a:lnTo>
                <a:lnTo>
                  <a:pt x="1783" y="540"/>
                </a:lnTo>
                <a:lnTo>
                  <a:pt x="1770" y="573"/>
                </a:lnTo>
                <a:lnTo>
                  <a:pt x="1786" y="608"/>
                </a:lnTo>
                <a:lnTo>
                  <a:pt x="1793" y="639"/>
                </a:lnTo>
                <a:lnTo>
                  <a:pt x="1797" y="674"/>
                </a:lnTo>
                <a:lnTo>
                  <a:pt x="1788" y="714"/>
                </a:lnTo>
                <a:lnTo>
                  <a:pt x="1781" y="740"/>
                </a:lnTo>
                <a:lnTo>
                  <a:pt x="1761" y="769"/>
                </a:lnTo>
                <a:lnTo>
                  <a:pt x="1788" y="810"/>
                </a:lnTo>
                <a:lnTo>
                  <a:pt x="1797" y="837"/>
                </a:lnTo>
                <a:lnTo>
                  <a:pt x="1799" y="874"/>
                </a:lnTo>
                <a:lnTo>
                  <a:pt x="1793" y="911"/>
                </a:lnTo>
                <a:lnTo>
                  <a:pt x="1777" y="953"/>
                </a:lnTo>
                <a:lnTo>
                  <a:pt x="1756" y="985"/>
                </a:lnTo>
                <a:lnTo>
                  <a:pt x="1724" y="1012"/>
                </a:lnTo>
                <a:lnTo>
                  <a:pt x="1671" y="1041"/>
                </a:lnTo>
                <a:lnTo>
                  <a:pt x="1614" y="1051"/>
                </a:lnTo>
                <a:lnTo>
                  <a:pt x="1562" y="1041"/>
                </a:lnTo>
                <a:lnTo>
                  <a:pt x="1528" y="1027"/>
                </a:lnTo>
                <a:lnTo>
                  <a:pt x="1505" y="1056"/>
                </a:lnTo>
                <a:lnTo>
                  <a:pt x="1481" y="1080"/>
                </a:lnTo>
                <a:lnTo>
                  <a:pt x="1459" y="1095"/>
                </a:lnTo>
                <a:lnTo>
                  <a:pt x="1418" y="1115"/>
                </a:lnTo>
                <a:lnTo>
                  <a:pt x="1382" y="1128"/>
                </a:lnTo>
                <a:lnTo>
                  <a:pt x="1329" y="1138"/>
                </a:lnTo>
                <a:lnTo>
                  <a:pt x="1277" y="1136"/>
                </a:lnTo>
                <a:lnTo>
                  <a:pt x="1226" y="1122"/>
                </a:lnTo>
                <a:lnTo>
                  <a:pt x="1181" y="1099"/>
                </a:lnTo>
                <a:lnTo>
                  <a:pt x="1154" y="1140"/>
                </a:lnTo>
                <a:lnTo>
                  <a:pt x="1130" y="1163"/>
                </a:lnTo>
                <a:lnTo>
                  <a:pt x="1098" y="1183"/>
                </a:lnTo>
                <a:lnTo>
                  <a:pt x="1059" y="1198"/>
                </a:lnTo>
                <a:lnTo>
                  <a:pt x="1018" y="1206"/>
                </a:lnTo>
                <a:lnTo>
                  <a:pt x="978" y="1206"/>
                </a:lnTo>
                <a:lnTo>
                  <a:pt x="941" y="1198"/>
                </a:lnTo>
                <a:lnTo>
                  <a:pt x="895" y="1177"/>
                </a:lnTo>
                <a:lnTo>
                  <a:pt x="867" y="1157"/>
                </a:lnTo>
                <a:lnTo>
                  <a:pt x="843" y="1183"/>
                </a:lnTo>
                <a:lnTo>
                  <a:pt x="816" y="1198"/>
                </a:lnTo>
                <a:lnTo>
                  <a:pt x="784" y="1212"/>
                </a:lnTo>
                <a:lnTo>
                  <a:pt x="739" y="1224"/>
                </a:lnTo>
                <a:lnTo>
                  <a:pt x="690" y="1220"/>
                </a:lnTo>
                <a:lnTo>
                  <a:pt x="640" y="1208"/>
                </a:lnTo>
                <a:lnTo>
                  <a:pt x="603" y="1189"/>
                </a:lnTo>
                <a:lnTo>
                  <a:pt x="567" y="1156"/>
                </a:lnTo>
                <a:lnTo>
                  <a:pt x="545" y="1122"/>
                </a:lnTo>
                <a:lnTo>
                  <a:pt x="508" y="1134"/>
                </a:lnTo>
                <a:lnTo>
                  <a:pt x="465" y="1142"/>
                </a:lnTo>
                <a:lnTo>
                  <a:pt x="413" y="1140"/>
                </a:lnTo>
                <a:lnTo>
                  <a:pt x="369" y="1124"/>
                </a:lnTo>
                <a:lnTo>
                  <a:pt x="336" y="1103"/>
                </a:lnTo>
                <a:lnTo>
                  <a:pt x="307" y="1080"/>
                </a:lnTo>
                <a:lnTo>
                  <a:pt x="285" y="1047"/>
                </a:lnTo>
                <a:lnTo>
                  <a:pt x="279" y="1012"/>
                </a:lnTo>
                <a:lnTo>
                  <a:pt x="254" y="1020"/>
                </a:lnTo>
                <a:lnTo>
                  <a:pt x="213" y="1021"/>
                </a:lnTo>
                <a:lnTo>
                  <a:pt x="167" y="1012"/>
                </a:lnTo>
                <a:lnTo>
                  <a:pt x="120" y="988"/>
                </a:lnTo>
                <a:lnTo>
                  <a:pt x="88" y="957"/>
                </a:lnTo>
                <a:lnTo>
                  <a:pt x="61" y="917"/>
                </a:lnTo>
                <a:lnTo>
                  <a:pt x="45" y="874"/>
                </a:lnTo>
                <a:lnTo>
                  <a:pt x="41" y="817"/>
                </a:lnTo>
                <a:lnTo>
                  <a:pt x="42" y="777"/>
                </a:lnTo>
                <a:lnTo>
                  <a:pt x="57" y="718"/>
                </a:lnTo>
                <a:lnTo>
                  <a:pt x="24" y="685"/>
                </a:lnTo>
                <a:lnTo>
                  <a:pt x="8" y="643"/>
                </a:lnTo>
                <a:lnTo>
                  <a:pt x="0" y="596"/>
                </a:lnTo>
                <a:lnTo>
                  <a:pt x="0" y="549"/>
                </a:lnTo>
                <a:lnTo>
                  <a:pt x="10" y="497"/>
                </a:lnTo>
                <a:lnTo>
                  <a:pt x="31" y="460"/>
                </a:lnTo>
                <a:lnTo>
                  <a:pt x="67" y="417"/>
                </a:lnTo>
                <a:lnTo>
                  <a:pt x="104" y="386"/>
                </a:lnTo>
                <a:lnTo>
                  <a:pt x="148" y="357"/>
                </a:lnTo>
                <a:lnTo>
                  <a:pt x="206" y="338"/>
                </a:lnTo>
                <a:lnTo>
                  <a:pt x="259" y="326"/>
                </a:lnTo>
                <a:lnTo>
                  <a:pt x="285" y="320"/>
                </a:lnTo>
                <a:lnTo>
                  <a:pt x="286" y="289"/>
                </a:lnTo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cbcbcb"/>
              </a:gs>
            </a:gsLst>
            <a:lin ang="13500000"/>
          </a:gradFill>
          <a:ln cap="rnd"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828800"/>
            <a:ext cx="1131840" cy="611280"/>
          </a:xfrm>
          <a:custGeom>
            <a:avLst/>
            <a:gdLst/>
            <a:ahLst/>
            <a:rect l="l" t="t" r="r" b="b"/>
            <a:pathLst>
              <a:path w="713" h="385">
                <a:moveTo>
                  <a:pt x="113" y="90"/>
                </a:moveTo>
                <a:lnTo>
                  <a:pt x="119" y="80"/>
                </a:lnTo>
                <a:lnTo>
                  <a:pt x="128" y="69"/>
                </a:lnTo>
                <a:lnTo>
                  <a:pt x="142" y="60"/>
                </a:lnTo>
                <a:lnTo>
                  <a:pt x="159" y="54"/>
                </a:lnTo>
                <a:lnTo>
                  <a:pt x="174" y="50"/>
                </a:lnTo>
                <a:lnTo>
                  <a:pt x="192" y="46"/>
                </a:lnTo>
                <a:lnTo>
                  <a:pt x="220" y="44"/>
                </a:lnTo>
                <a:lnTo>
                  <a:pt x="247" y="46"/>
                </a:lnTo>
                <a:lnTo>
                  <a:pt x="272" y="50"/>
                </a:lnTo>
                <a:lnTo>
                  <a:pt x="290" y="56"/>
                </a:lnTo>
                <a:lnTo>
                  <a:pt x="300" y="38"/>
                </a:lnTo>
                <a:lnTo>
                  <a:pt x="314" y="24"/>
                </a:lnTo>
                <a:lnTo>
                  <a:pt x="333" y="14"/>
                </a:lnTo>
                <a:lnTo>
                  <a:pt x="358" y="6"/>
                </a:lnTo>
                <a:lnTo>
                  <a:pt x="388" y="0"/>
                </a:lnTo>
                <a:lnTo>
                  <a:pt x="418" y="0"/>
                </a:lnTo>
                <a:lnTo>
                  <a:pt x="445" y="3"/>
                </a:lnTo>
                <a:lnTo>
                  <a:pt x="474" y="9"/>
                </a:lnTo>
                <a:lnTo>
                  <a:pt x="497" y="21"/>
                </a:lnTo>
                <a:lnTo>
                  <a:pt x="513" y="33"/>
                </a:lnTo>
                <a:lnTo>
                  <a:pt x="523" y="45"/>
                </a:lnTo>
                <a:lnTo>
                  <a:pt x="526" y="59"/>
                </a:lnTo>
                <a:lnTo>
                  <a:pt x="547" y="54"/>
                </a:lnTo>
                <a:lnTo>
                  <a:pt x="571" y="56"/>
                </a:lnTo>
                <a:lnTo>
                  <a:pt x="592" y="60"/>
                </a:lnTo>
                <a:lnTo>
                  <a:pt x="609" y="71"/>
                </a:lnTo>
                <a:lnTo>
                  <a:pt x="622" y="84"/>
                </a:lnTo>
                <a:lnTo>
                  <a:pt x="627" y="99"/>
                </a:lnTo>
                <a:lnTo>
                  <a:pt x="626" y="110"/>
                </a:lnTo>
                <a:lnTo>
                  <a:pt x="638" y="109"/>
                </a:lnTo>
                <a:lnTo>
                  <a:pt x="653" y="112"/>
                </a:lnTo>
                <a:lnTo>
                  <a:pt x="668" y="117"/>
                </a:lnTo>
                <a:lnTo>
                  <a:pt x="680" y="123"/>
                </a:lnTo>
                <a:lnTo>
                  <a:pt x="688" y="128"/>
                </a:lnTo>
                <a:lnTo>
                  <a:pt x="694" y="134"/>
                </a:lnTo>
                <a:lnTo>
                  <a:pt x="702" y="143"/>
                </a:lnTo>
                <a:lnTo>
                  <a:pt x="706" y="153"/>
                </a:lnTo>
                <a:lnTo>
                  <a:pt x="708" y="161"/>
                </a:lnTo>
                <a:lnTo>
                  <a:pt x="705" y="169"/>
                </a:lnTo>
                <a:lnTo>
                  <a:pt x="700" y="179"/>
                </a:lnTo>
                <a:lnTo>
                  <a:pt x="706" y="190"/>
                </a:lnTo>
                <a:lnTo>
                  <a:pt x="709" y="200"/>
                </a:lnTo>
                <a:lnTo>
                  <a:pt x="711" y="211"/>
                </a:lnTo>
                <a:lnTo>
                  <a:pt x="708" y="224"/>
                </a:lnTo>
                <a:lnTo>
                  <a:pt x="705" y="232"/>
                </a:lnTo>
                <a:lnTo>
                  <a:pt x="697" y="241"/>
                </a:lnTo>
                <a:lnTo>
                  <a:pt x="708" y="254"/>
                </a:lnTo>
                <a:lnTo>
                  <a:pt x="711" y="262"/>
                </a:lnTo>
                <a:lnTo>
                  <a:pt x="712" y="274"/>
                </a:lnTo>
                <a:lnTo>
                  <a:pt x="709" y="285"/>
                </a:lnTo>
                <a:lnTo>
                  <a:pt x="703" y="299"/>
                </a:lnTo>
                <a:lnTo>
                  <a:pt x="694" y="309"/>
                </a:lnTo>
                <a:lnTo>
                  <a:pt x="682" y="317"/>
                </a:lnTo>
                <a:lnTo>
                  <a:pt x="661" y="326"/>
                </a:lnTo>
                <a:lnTo>
                  <a:pt x="638" y="329"/>
                </a:lnTo>
                <a:lnTo>
                  <a:pt x="618" y="326"/>
                </a:lnTo>
                <a:lnTo>
                  <a:pt x="604" y="322"/>
                </a:lnTo>
                <a:lnTo>
                  <a:pt x="595" y="331"/>
                </a:lnTo>
                <a:lnTo>
                  <a:pt x="586" y="338"/>
                </a:lnTo>
                <a:lnTo>
                  <a:pt x="577" y="343"/>
                </a:lnTo>
                <a:lnTo>
                  <a:pt x="561" y="349"/>
                </a:lnTo>
                <a:lnTo>
                  <a:pt x="547" y="354"/>
                </a:lnTo>
                <a:lnTo>
                  <a:pt x="526" y="357"/>
                </a:lnTo>
                <a:lnTo>
                  <a:pt x="505" y="356"/>
                </a:lnTo>
                <a:lnTo>
                  <a:pt x="485" y="352"/>
                </a:lnTo>
                <a:lnTo>
                  <a:pt x="467" y="344"/>
                </a:lnTo>
                <a:lnTo>
                  <a:pt x="456" y="357"/>
                </a:lnTo>
                <a:lnTo>
                  <a:pt x="447" y="365"/>
                </a:lnTo>
                <a:lnTo>
                  <a:pt x="434" y="371"/>
                </a:lnTo>
                <a:lnTo>
                  <a:pt x="419" y="376"/>
                </a:lnTo>
                <a:lnTo>
                  <a:pt x="403" y="378"/>
                </a:lnTo>
                <a:lnTo>
                  <a:pt x="387" y="378"/>
                </a:lnTo>
                <a:lnTo>
                  <a:pt x="372" y="376"/>
                </a:lnTo>
                <a:lnTo>
                  <a:pt x="354" y="369"/>
                </a:lnTo>
                <a:lnTo>
                  <a:pt x="343" y="363"/>
                </a:lnTo>
                <a:lnTo>
                  <a:pt x="333" y="371"/>
                </a:lnTo>
                <a:lnTo>
                  <a:pt x="323" y="376"/>
                </a:lnTo>
                <a:lnTo>
                  <a:pt x="310" y="380"/>
                </a:lnTo>
                <a:lnTo>
                  <a:pt x="292" y="384"/>
                </a:lnTo>
                <a:lnTo>
                  <a:pt x="273" y="382"/>
                </a:lnTo>
                <a:lnTo>
                  <a:pt x="253" y="379"/>
                </a:lnTo>
                <a:lnTo>
                  <a:pt x="238" y="373"/>
                </a:lnTo>
                <a:lnTo>
                  <a:pt x="224" y="362"/>
                </a:lnTo>
                <a:lnTo>
                  <a:pt x="215" y="352"/>
                </a:lnTo>
                <a:lnTo>
                  <a:pt x="201" y="355"/>
                </a:lnTo>
                <a:lnTo>
                  <a:pt x="184" y="358"/>
                </a:lnTo>
                <a:lnTo>
                  <a:pt x="163" y="357"/>
                </a:lnTo>
                <a:lnTo>
                  <a:pt x="146" y="352"/>
                </a:lnTo>
                <a:lnTo>
                  <a:pt x="133" y="346"/>
                </a:lnTo>
                <a:lnTo>
                  <a:pt x="121" y="338"/>
                </a:lnTo>
                <a:lnTo>
                  <a:pt x="112" y="328"/>
                </a:lnTo>
                <a:lnTo>
                  <a:pt x="110" y="317"/>
                </a:lnTo>
                <a:lnTo>
                  <a:pt x="100" y="320"/>
                </a:lnTo>
                <a:lnTo>
                  <a:pt x="84" y="320"/>
                </a:lnTo>
                <a:lnTo>
                  <a:pt x="66" y="317"/>
                </a:lnTo>
                <a:lnTo>
                  <a:pt x="47" y="310"/>
                </a:lnTo>
                <a:lnTo>
                  <a:pt x="35" y="300"/>
                </a:lnTo>
                <a:lnTo>
                  <a:pt x="24" y="287"/>
                </a:lnTo>
                <a:lnTo>
                  <a:pt x="18" y="274"/>
                </a:lnTo>
                <a:lnTo>
                  <a:pt x="16" y="256"/>
                </a:lnTo>
                <a:lnTo>
                  <a:pt x="17" y="243"/>
                </a:lnTo>
                <a:lnTo>
                  <a:pt x="22" y="225"/>
                </a:lnTo>
                <a:lnTo>
                  <a:pt x="9" y="215"/>
                </a:lnTo>
                <a:lnTo>
                  <a:pt x="3" y="201"/>
                </a:lnTo>
                <a:lnTo>
                  <a:pt x="0" y="187"/>
                </a:lnTo>
                <a:lnTo>
                  <a:pt x="0" y="172"/>
                </a:lnTo>
                <a:lnTo>
                  <a:pt x="3" y="156"/>
                </a:lnTo>
                <a:lnTo>
                  <a:pt x="12" y="144"/>
                </a:lnTo>
                <a:lnTo>
                  <a:pt x="26" y="131"/>
                </a:lnTo>
                <a:lnTo>
                  <a:pt x="41" y="121"/>
                </a:lnTo>
                <a:lnTo>
                  <a:pt x="58" y="112"/>
                </a:lnTo>
                <a:lnTo>
                  <a:pt x="81" y="106"/>
                </a:lnTo>
                <a:lnTo>
                  <a:pt x="102" y="102"/>
                </a:lnTo>
                <a:lnTo>
                  <a:pt x="112" y="100"/>
                </a:lnTo>
                <a:lnTo>
                  <a:pt x="113" y="90"/>
                </a:lnTo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cbcbcb"/>
              </a:gs>
            </a:gsLst>
            <a:lin ang="13500000"/>
          </a:gradFill>
          <a:ln cap="rnd"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2600" y="2741760"/>
            <a:ext cx="92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38800" y="197964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家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14560" y="4599000"/>
            <a:ext cx="1790640" cy="884160"/>
          </a:xfrm>
          <a:custGeom>
            <a:avLst/>
            <a:gdLst/>
            <a:ahLst/>
            <a:rect l="l" t="t" r="r" b="b"/>
            <a:pathLst>
              <a:path w="1128" h="557">
                <a:moveTo>
                  <a:pt x="179" y="131"/>
                </a:moveTo>
                <a:lnTo>
                  <a:pt x="188" y="116"/>
                </a:lnTo>
                <a:lnTo>
                  <a:pt x="202" y="100"/>
                </a:lnTo>
                <a:lnTo>
                  <a:pt x="225" y="88"/>
                </a:lnTo>
                <a:lnTo>
                  <a:pt x="253" y="78"/>
                </a:lnTo>
                <a:lnTo>
                  <a:pt x="276" y="73"/>
                </a:lnTo>
                <a:lnTo>
                  <a:pt x="305" y="67"/>
                </a:lnTo>
                <a:lnTo>
                  <a:pt x="349" y="64"/>
                </a:lnTo>
                <a:lnTo>
                  <a:pt x="391" y="67"/>
                </a:lnTo>
                <a:lnTo>
                  <a:pt x="430" y="73"/>
                </a:lnTo>
                <a:lnTo>
                  <a:pt x="459" y="81"/>
                </a:lnTo>
                <a:lnTo>
                  <a:pt x="475" y="55"/>
                </a:lnTo>
                <a:lnTo>
                  <a:pt x="497" y="36"/>
                </a:lnTo>
                <a:lnTo>
                  <a:pt x="528" y="20"/>
                </a:lnTo>
                <a:lnTo>
                  <a:pt x="567" y="8"/>
                </a:lnTo>
                <a:lnTo>
                  <a:pt x="615" y="0"/>
                </a:lnTo>
                <a:lnTo>
                  <a:pt x="662" y="0"/>
                </a:lnTo>
                <a:lnTo>
                  <a:pt x="704" y="4"/>
                </a:lnTo>
                <a:lnTo>
                  <a:pt x="751" y="14"/>
                </a:lnTo>
                <a:lnTo>
                  <a:pt x="786" y="31"/>
                </a:lnTo>
                <a:lnTo>
                  <a:pt x="812" y="48"/>
                </a:lnTo>
                <a:lnTo>
                  <a:pt x="829" y="65"/>
                </a:lnTo>
                <a:lnTo>
                  <a:pt x="832" y="86"/>
                </a:lnTo>
                <a:lnTo>
                  <a:pt x="865" y="79"/>
                </a:lnTo>
                <a:lnTo>
                  <a:pt x="905" y="82"/>
                </a:lnTo>
                <a:lnTo>
                  <a:pt x="937" y="88"/>
                </a:lnTo>
                <a:lnTo>
                  <a:pt x="965" y="103"/>
                </a:lnTo>
                <a:lnTo>
                  <a:pt x="985" y="122"/>
                </a:lnTo>
                <a:lnTo>
                  <a:pt x="993" y="143"/>
                </a:lnTo>
                <a:lnTo>
                  <a:pt x="992" y="159"/>
                </a:lnTo>
                <a:lnTo>
                  <a:pt x="1011" y="158"/>
                </a:lnTo>
                <a:lnTo>
                  <a:pt x="1034" y="162"/>
                </a:lnTo>
                <a:lnTo>
                  <a:pt x="1057" y="169"/>
                </a:lnTo>
                <a:lnTo>
                  <a:pt x="1076" y="178"/>
                </a:lnTo>
                <a:lnTo>
                  <a:pt x="1089" y="185"/>
                </a:lnTo>
                <a:lnTo>
                  <a:pt x="1100" y="195"/>
                </a:lnTo>
                <a:lnTo>
                  <a:pt x="1112" y="207"/>
                </a:lnTo>
                <a:lnTo>
                  <a:pt x="1118" y="222"/>
                </a:lnTo>
                <a:lnTo>
                  <a:pt x="1120" y="233"/>
                </a:lnTo>
                <a:lnTo>
                  <a:pt x="1117" y="245"/>
                </a:lnTo>
                <a:lnTo>
                  <a:pt x="1109" y="260"/>
                </a:lnTo>
                <a:lnTo>
                  <a:pt x="1118" y="276"/>
                </a:lnTo>
                <a:lnTo>
                  <a:pt x="1123" y="290"/>
                </a:lnTo>
                <a:lnTo>
                  <a:pt x="1126" y="306"/>
                </a:lnTo>
                <a:lnTo>
                  <a:pt x="1120" y="324"/>
                </a:lnTo>
                <a:lnTo>
                  <a:pt x="1116" y="336"/>
                </a:lnTo>
                <a:lnTo>
                  <a:pt x="1103" y="349"/>
                </a:lnTo>
                <a:lnTo>
                  <a:pt x="1120" y="368"/>
                </a:lnTo>
                <a:lnTo>
                  <a:pt x="1126" y="380"/>
                </a:lnTo>
                <a:lnTo>
                  <a:pt x="1127" y="397"/>
                </a:lnTo>
                <a:lnTo>
                  <a:pt x="1123" y="413"/>
                </a:lnTo>
                <a:lnTo>
                  <a:pt x="1113" y="433"/>
                </a:lnTo>
                <a:lnTo>
                  <a:pt x="1100" y="447"/>
                </a:lnTo>
                <a:lnTo>
                  <a:pt x="1080" y="459"/>
                </a:lnTo>
                <a:lnTo>
                  <a:pt x="1047" y="473"/>
                </a:lnTo>
                <a:lnTo>
                  <a:pt x="1011" y="477"/>
                </a:lnTo>
                <a:lnTo>
                  <a:pt x="978" y="473"/>
                </a:lnTo>
                <a:lnTo>
                  <a:pt x="957" y="466"/>
                </a:lnTo>
                <a:lnTo>
                  <a:pt x="943" y="480"/>
                </a:lnTo>
                <a:lnTo>
                  <a:pt x="927" y="490"/>
                </a:lnTo>
                <a:lnTo>
                  <a:pt x="914" y="497"/>
                </a:lnTo>
                <a:lnTo>
                  <a:pt x="888" y="506"/>
                </a:lnTo>
                <a:lnTo>
                  <a:pt x="865" y="512"/>
                </a:lnTo>
                <a:lnTo>
                  <a:pt x="832" y="517"/>
                </a:lnTo>
                <a:lnTo>
                  <a:pt x="800" y="516"/>
                </a:lnTo>
                <a:lnTo>
                  <a:pt x="768" y="510"/>
                </a:lnTo>
                <a:lnTo>
                  <a:pt x="740" y="499"/>
                </a:lnTo>
                <a:lnTo>
                  <a:pt x="723" y="518"/>
                </a:lnTo>
                <a:lnTo>
                  <a:pt x="707" y="528"/>
                </a:lnTo>
                <a:lnTo>
                  <a:pt x="688" y="537"/>
                </a:lnTo>
                <a:lnTo>
                  <a:pt x="663" y="544"/>
                </a:lnTo>
                <a:lnTo>
                  <a:pt x="637" y="548"/>
                </a:lnTo>
                <a:lnTo>
                  <a:pt x="612" y="548"/>
                </a:lnTo>
                <a:lnTo>
                  <a:pt x="589" y="544"/>
                </a:lnTo>
                <a:lnTo>
                  <a:pt x="560" y="534"/>
                </a:lnTo>
                <a:lnTo>
                  <a:pt x="543" y="525"/>
                </a:lnTo>
                <a:lnTo>
                  <a:pt x="528" y="537"/>
                </a:lnTo>
                <a:lnTo>
                  <a:pt x="511" y="544"/>
                </a:lnTo>
                <a:lnTo>
                  <a:pt x="491" y="550"/>
                </a:lnTo>
                <a:lnTo>
                  <a:pt x="463" y="556"/>
                </a:lnTo>
                <a:lnTo>
                  <a:pt x="432" y="554"/>
                </a:lnTo>
                <a:lnTo>
                  <a:pt x="401" y="548"/>
                </a:lnTo>
                <a:lnTo>
                  <a:pt x="377" y="540"/>
                </a:lnTo>
                <a:lnTo>
                  <a:pt x="355" y="525"/>
                </a:lnTo>
                <a:lnTo>
                  <a:pt x="341" y="510"/>
                </a:lnTo>
                <a:lnTo>
                  <a:pt x="318" y="515"/>
                </a:lnTo>
                <a:lnTo>
                  <a:pt x="291" y="518"/>
                </a:lnTo>
                <a:lnTo>
                  <a:pt x="259" y="518"/>
                </a:lnTo>
                <a:lnTo>
                  <a:pt x="231" y="510"/>
                </a:lnTo>
                <a:lnTo>
                  <a:pt x="210" y="501"/>
                </a:lnTo>
                <a:lnTo>
                  <a:pt x="192" y="490"/>
                </a:lnTo>
                <a:lnTo>
                  <a:pt x="178" y="475"/>
                </a:lnTo>
                <a:lnTo>
                  <a:pt x="174" y="459"/>
                </a:lnTo>
                <a:lnTo>
                  <a:pt x="159" y="463"/>
                </a:lnTo>
                <a:lnTo>
                  <a:pt x="133" y="464"/>
                </a:lnTo>
                <a:lnTo>
                  <a:pt x="104" y="459"/>
                </a:lnTo>
                <a:lnTo>
                  <a:pt x="75" y="449"/>
                </a:lnTo>
                <a:lnTo>
                  <a:pt x="55" y="435"/>
                </a:lnTo>
                <a:lnTo>
                  <a:pt x="38" y="416"/>
                </a:lnTo>
                <a:lnTo>
                  <a:pt x="28" y="397"/>
                </a:lnTo>
                <a:lnTo>
                  <a:pt x="26" y="371"/>
                </a:lnTo>
                <a:lnTo>
                  <a:pt x="26" y="353"/>
                </a:lnTo>
                <a:lnTo>
                  <a:pt x="35" y="326"/>
                </a:lnTo>
                <a:lnTo>
                  <a:pt x="15" y="311"/>
                </a:lnTo>
                <a:lnTo>
                  <a:pt x="5" y="292"/>
                </a:lnTo>
                <a:lnTo>
                  <a:pt x="0" y="270"/>
                </a:lnTo>
                <a:lnTo>
                  <a:pt x="0" y="249"/>
                </a:lnTo>
                <a:lnTo>
                  <a:pt x="6" y="225"/>
                </a:lnTo>
                <a:lnTo>
                  <a:pt x="19" y="209"/>
                </a:lnTo>
                <a:lnTo>
                  <a:pt x="42" y="189"/>
                </a:lnTo>
                <a:lnTo>
                  <a:pt x="65" y="175"/>
                </a:lnTo>
                <a:lnTo>
                  <a:pt x="93" y="162"/>
                </a:lnTo>
                <a:lnTo>
                  <a:pt x="129" y="153"/>
                </a:lnTo>
                <a:lnTo>
                  <a:pt x="162" y="148"/>
                </a:lnTo>
                <a:lnTo>
                  <a:pt x="178" y="145"/>
                </a:lnTo>
                <a:lnTo>
                  <a:pt x="179" y="131"/>
                </a:lnTo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cbcbcb"/>
              </a:gs>
            </a:gsLst>
            <a:lin ang="13500000"/>
          </a:gradFill>
          <a:ln cap="rnd"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96080" y="4952880"/>
            <a:ext cx="119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分公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021360" y="2897280"/>
            <a:ext cx="1674720" cy="9126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021000" y="3430440"/>
            <a:ext cx="1979640" cy="379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021360" y="3811320"/>
            <a:ext cx="2131920" cy="150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21000" y="3811680"/>
            <a:ext cx="1979640" cy="68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097680" y="3811680"/>
            <a:ext cx="1598400" cy="121752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2693880"/>
            <a:ext cx="2705040" cy="1879560"/>
          </a:xfrm>
          <a:custGeom>
            <a:avLst/>
            <a:gdLst/>
            <a:ahLst/>
            <a:rect l="l" t="t" r="r" b="b"/>
            <a:pathLst>
              <a:path w="1704" h="1184">
                <a:moveTo>
                  <a:pt x="271" y="279"/>
                </a:moveTo>
                <a:lnTo>
                  <a:pt x="284" y="247"/>
                </a:lnTo>
                <a:lnTo>
                  <a:pt x="306" y="214"/>
                </a:lnTo>
                <a:lnTo>
                  <a:pt x="340" y="187"/>
                </a:lnTo>
                <a:lnTo>
                  <a:pt x="382" y="167"/>
                </a:lnTo>
                <a:lnTo>
                  <a:pt x="417" y="155"/>
                </a:lnTo>
                <a:lnTo>
                  <a:pt x="461" y="142"/>
                </a:lnTo>
                <a:lnTo>
                  <a:pt x="527" y="137"/>
                </a:lnTo>
                <a:lnTo>
                  <a:pt x="591" y="142"/>
                </a:lnTo>
                <a:lnTo>
                  <a:pt x="650" y="155"/>
                </a:lnTo>
                <a:lnTo>
                  <a:pt x="694" y="172"/>
                </a:lnTo>
                <a:lnTo>
                  <a:pt x="718" y="118"/>
                </a:lnTo>
                <a:lnTo>
                  <a:pt x="752" y="76"/>
                </a:lnTo>
                <a:lnTo>
                  <a:pt x="798" y="43"/>
                </a:lnTo>
                <a:lnTo>
                  <a:pt x="856" y="18"/>
                </a:lnTo>
                <a:lnTo>
                  <a:pt x="930" y="1"/>
                </a:lnTo>
                <a:lnTo>
                  <a:pt x="1000" y="0"/>
                </a:lnTo>
                <a:lnTo>
                  <a:pt x="1064" y="9"/>
                </a:lnTo>
                <a:lnTo>
                  <a:pt x="1134" y="30"/>
                </a:lnTo>
                <a:lnTo>
                  <a:pt x="1189" y="67"/>
                </a:lnTo>
                <a:lnTo>
                  <a:pt x="1228" y="103"/>
                </a:lnTo>
                <a:lnTo>
                  <a:pt x="1252" y="138"/>
                </a:lnTo>
                <a:lnTo>
                  <a:pt x="1258" y="184"/>
                </a:lnTo>
                <a:lnTo>
                  <a:pt x="1308" y="169"/>
                </a:lnTo>
                <a:lnTo>
                  <a:pt x="1368" y="174"/>
                </a:lnTo>
                <a:lnTo>
                  <a:pt x="1416" y="187"/>
                </a:lnTo>
                <a:lnTo>
                  <a:pt x="1458" y="219"/>
                </a:lnTo>
                <a:lnTo>
                  <a:pt x="1488" y="261"/>
                </a:lnTo>
                <a:lnTo>
                  <a:pt x="1500" y="306"/>
                </a:lnTo>
                <a:lnTo>
                  <a:pt x="1499" y="339"/>
                </a:lnTo>
                <a:lnTo>
                  <a:pt x="1528" y="338"/>
                </a:lnTo>
                <a:lnTo>
                  <a:pt x="1563" y="345"/>
                </a:lnTo>
                <a:lnTo>
                  <a:pt x="1598" y="360"/>
                </a:lnTo>
                <a:lnTo>
                  <a:pt x="1627" y="379"/>
                </a:lnTo>
                <a:lnTo>
                  <a:pt x="1646" y="394"/>
                </a:lnTo>
                <a:lnTo>
                  <a:pt x="1662" y="414"/>
                </a:lnTo>
                <a:lnTo>
                  <a:pt x="1681" y="441"/>
                </a:lnTo>
                <a:lnTo>
                  <a:pt x="1690" y="473"/>
                </a:lnTo>
                <a:lnTo>
                  <a:pt x="1693" y="497"/>
                </a:lnTo>
                <a:lnTo>
                  <a:pt x="1688" y="522"/>
                </a:lnTo>
                <a:lnTo>
                  <a:pt x="1675" y="553"/>
                </a:lnTo>
                <a:lnTo>
                  <a:pt x="1690" y="587"/>
                </a:lnTo>
                <a:lnTo>
                  <a:pt x="1697" y="617"/>
                </a:lnTo>
                <a:lnTo>
                  <a:pt x="1701" y="651"/>
                </a:lnTo>
                <a:lnTo>
                  <a:pt x="1693" y="691"/>
                </a:lnTo>
                <a:lnTo>
                  <a:pt x="1686" y="715"/>
                </a:lnTo>
                <a:lnTo>
                  <a:pt x="1667" y="743"/>
                </a:lnTo>
                <a:lnTo>
                  <a:pt x="1693" y="783"/>
                </a:lnTo>
                <a:lnTo>
                  <a:pt x="1701" y="809"/>
                </a:lnTo>
                <a:lnTo>
                  <a:pt x="1703" y="845"/>
                </a:lnTo>
                <a:lnTo>
                  <a:pt x="1697" y="880"/>
                </a:lnTo>
                <a:lnTo>
                  <a:pt x="1682" y="921"/>
                </a:lnTo>
                <a:lnTo>
                  <a:pt x="1662" y="952"/>
                </a:lnTo>
                <a:lnTo>
                  <a:pt x="1632" y="978"/>
                </a:lnTo>
                <a:lnTo>
                  <a:pt x="1582" y="1006"/>
                </a:lnTo>
                <a:lnTo>
                  <a:pt x="1528" y="1015"/>
                </a:lnTo>
                <a:lnTo>
                  <a:pt x="1479" y="1006"/>
                </a:lnTo>
                <a:lnTo>
                  <a:pt x="1446" y="993"/>
                </a:lnTo>
                <a:lnTo>
                  <a:pt x="1425" y="1021"/>
                </a:lnTo>
                <a:lnTo>
                  <a:pt x="1401" y="1044"/>
                </a:lnTo>
                <a:lnTo>
                  <a:pt x="1381" y="1059"/>
                </a:lnTo>
                <a:lnTo>
                  <a:pt x="1342" y="1077"/>
                </a:lnTo>
                <a:lnTo>
                  <a:pt x="1308" y="1090"/>
                </a:lnTo>
                <a:lnTo>
                  <a:pt x="1258" y="1100"/>
                </a:lnTo>
                <a:lnTo>
                  <a:pt x="1209" y="1098"/>
                </a:lnTo>
                <a:lnTo>
                  <a:pt x="1160" y="1085"/>
                </a:lnTo>
                <a:lnTo>
                  <a:pt x="1118" y="1062"/>
                </a:lnTo>
                <a:lnTo>
                  <a:pt x="1092" y="1102"/>
                </a:lnTo>
                <a:lnTo>
                  <a:pt x="1069" y="1124"/>
                </a:lnTo>
                <a:lnTo>
                  <a:pt x="1039" y="1143"/>
                </a:lnTo>
                <a:lnTo>
                  <a:pt x="1003" y="1158"/>
                </a:lnTo>
                <a:lnTo>
                  <a:pt x="964" y="1166"/>
                </a:lnTo>
                <a:lnTo>
                  <a:pt x="926" y="1166"/>
                </a:lnTo>
                <a:lnTo>
                  <a:pt x="890" y="1158"/>
                </a:lnTo>
                <a:lnTo>
                  <a:pt x="847" y="1137"/>
                </a:lnTo>
                <a:lnTo>
                  <a:pt x="821" y="1119"/>
                </a:lnTo>
                <a:lnTo>
                  <a:pt x="798" y="1143"/>
                </a:lnTo>
                <a:lnTo>
                  <a:pt x="772" y="1158"/>
                </a:lnTo>
                <a:lnTo>
                  <a:pt x="743" y="1171"/>
                </a:lnTo>
                <a:lnTo>
                  <a:pt x="699" y="1183"/>
                </a:lnTo>
                <a:lnTo>
                  <a:pt x="653" y="1179"/>
                </a:lnTo>
                <a:lnTo>
                  <a:pt x="606" y="1167"/>
                </a:lnTo>
                <a:lnTo>
                  <a:pt x="570" y="1149"/>
                </a:lnTo>
                <a:lnTo>
                  <a:pt x="536" y="1117"/>
                </a:lnTo>
                <a:lnTo>
                  <a:pt x="516" y="1085"/>
                </a:lnTo>
                <a:lnTo>
                  <a:pt x="481" y="1096"/>
                </a:lnTo>
                <a:lnTo>
                  <a:pt x="440" y="1104"/>
                </a:lnTo>
                <a:lnTo>
                  <a:pt x="391" y="1102"/>
                </a:lnTo>
                <a:lnTo>
                  <a:pt x="349" y="1087"/>
                </a:lnTo>
                <a:lnTo>
                  <a:pt x="318" y="1066"/>
                </a:lnTo>
                <a:lnTo>
                  <a:pt x="291" y="1044"/>
                </a:lnTo>
                <a:lnTo>
                  <a:pt x="269" y="1012"/>
                </a:lnTo>
                <a:lnTo>
                  <a:pt x="264" y="978"/>
                </a:lnTo>
                <a:lnTo>
                  <a:pt x="241" y="985"/>
                </a:lnTo>
                <a:lnTo>
                  <a:pt x="202" y="987"/>
                </a:lnTo>
                <a:lnTo>
                  <a:pt x="158" y="978"/>
                </a:lnTo>
                <a:lnTo>
                  <a:pt x="113" y="955"/>
                </a:lnTo>
                <a:lnTo>
                  <a:pt x="84" y="925"/>
                </a:lnTo>
                <a:lnTo>
                  <a:pt x="58" y="886"/>
                </a:lnTo>
                <a:lnTo>
                  <a:pt x="43" y="845"/>
                </a:lnTo>
                <a:lnTo>
                  <a:pt x="39" y="790"/>
                </a:lnTo>
                <a:lnTo>
                  <a:pt x="40" y="751"/>
                </a:lnTo>
                <a:lnTo>
                  <a:pt x="54" y="694"/>
                </a:lnTo>
                <a:lnTo>
                  <a:pt x="23" y="662"/>
                </a:lnTo>
                <a:lnTo>
                  <a:pt x="8" y="621"/>
                </a:lnTo>
                <a:lnTo>
                  <a:pt x="0" y="576"/>
                </a:lnTo>
                <a:lnTo>
                  <a:pt x="0" y="531"/>
                </a:lnTo>
                <a:lnTo>
                  <a:pt x="9" y="480"/>
                </a:lnTo>
                <a:lnTo>
                  <a:pt x="29" y="445"/>
                </a:lnTo>
                <a:lnTo>
                  <a:pt x="63" y="403"/>
                </a:lnTo>
                <a:lnTo>
                  <a:pt x="98" y="373"/>
                </a:lnTo>
                <a:lnTo>
                  <a:pt x="141" y="345"/>
                </a:lnTo>
                <a:lnTo>
                  <a:pt x="195" y="326"/>
                </a:lnTo>
                <a:lnTo>
                  <a:pt x="245" y="315"/>
                </a:lnTo>
                <a:lnTo>
                  <a:pt x="269" y="309"/>
                </a:lnTo>
                <a:lnTo>
                  <a:pt x="271" y="279"/>
                </a:lnTo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cbcbcb"/>
              </a:gs>
            </a:gsLst>
            <a:lin ang="13500000"/>
          </a:gradFill>
          <a:ln cap="rnd"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6240" y="2825640"/>
            <a:ext cx="139680" cy="1396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359160"/>
            <a:ext cx="139680" cy="1396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83440" y="3892680"/>
            <a:ext cx="139680" cy="1396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31160" y="4425840"/>
            <a:ext cx="139680" cy="1396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6240" y="4959360"/>
            <a:ext cx="139680" cy="1396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18960" y="3351240"/>
            <a:ext cx="119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办公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914400"/>
            <a:ext cx="2789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ccff"/>
                </a:solidFill>
                <a:uFillTx/>
                <a:latin typeface="Arial"/>
              </a:rPr>
              <a:t>我们的需要</a:t>
            </a:r>
            <a:r>
              <a:rPr b="0" lang="zh-CN" sz="1600" spc="-1" strike="noStrike" u="sng">
                <a:solidFill>
                  <a:srgbClr val="33ccff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越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越便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有效的共用</a:t>
            </a: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Internet</a:t>
            </a: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帐号</a:t>
            </a:r>
            <a:r>
              <a:rPr b="0" lang="en-US" sz="1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资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Arial"/>
              </a:rPr>
              <a:t>满足用户的移动办公需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6840" y="3276720"/>
            <a:ext cx="1526040" cy="1677960"/>
            <a:chOff x="456840" y="3276720"/>
            <a:chExt cx="1526040" cy="1677960"/>
          </a:xfrm>
        </p:grpSpPr>
        <p:sp>
          <p:nvSpPr>
            <p:cNvPr id="228" name=""/>
            <p:cNvSpPr/>
            <p:nvPr/>
          </p:nvSpPr>
          <p:spPr>
            <a:xfrm>
              <a:off x="457200" y="3276720"/>
              <a:ext cx="1525680" cy="1677960"/>
            </a:xfrm>
            <a:custGeom>
              <a:avLst/>
              <a:gdLst/>
              <a:ahLst/>
              <a:rect l="l" t="t" r="r" b="b"/>
              <a:pathLst>
                <a:path w="961" h="1057">
                  <a:moveTo>
                    <a:pt x="480" y="816"/>
                  </a:moveTo>
                  <a:lnTo>
                    <a:pt x="48" y="816"/>
                  </a:lnTo>
                  <a:lnTo>
                    <a:pt x="0" y="768"/>
                  </a:lnTo>
                  <a:lnTo>
                    <a:pt x="0" y="432"/>
                  </a:lnTo>
                  <a:lnTo>
                    <a:pt x="48" y="384"/>
                  </a:lnTo>
                  <a:lnTo>
                    <a:pt x="432" y="384"/>
                  </a:lnTo>
                  <a:lnTo>
                    <a:pt x="624" y="0"/>
                  </a:lnTo>
                  <a:lnTo>
                    <a:pt x="576" y="384"/>
                  </a:lnTo>
                  <a:lnTo>
                    <a:pt x="912" y="384"/>
                  </a:lnTo>
                  <a:lnTo>
                    <a:pt x="960" y="432"/>
                  </a:lnTo>
                  <a:lnTo>
                    <a:pt x="960" y="768"/>
                  </a:lnTo>
                  <a:lnTo>
                    <a:pt x="912" y="816"/>
                  </a:lnTo>
                  <a:lnTo>
                    <a:pt x="624" y="816"/>
                  </a:lnTo>
                  <a:lnTo>
                    <a:pt x="672" y="1056"/>
                  </a:lnTo>
                  <a:lnTo>
                    <a:pt x="480" y="816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56480" y="3967200"/>
              <a:ext cx="152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Arial"/>
                </a:rPr>
                <a:t>Arg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Arial"/>
                </a:rPr>
                <a:t>路由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901960" y="3054240"/>
            <a:ext cx="444600" cy="444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e4e48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00240" y="3106800"/>
            <a:ext cx="247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Arg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21080" y="4502160"/>
            <a:ext cx="444240" cy="444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e4e48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4572000"/>
            <a:ext cx="50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Arg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2360" y="2292480"/>
            <a:ext cx="444600" cy="444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e4e48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247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Arg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971800" y="3581280"/>
            <a:ext cx="1830240" cy="1144440"/>
            <a:chOff x="2971800" y="3581280"/>
            <a:chExt cx="1830240" cy="1144440"/>
          </a:xfrm>
        </p:grpSpPr>
        <p:sp>
          <p:nvSpPr>
            <p:cNvPr id="237" name=""/>
            <p:cNvSpPr/>
            <p:nvPr/>
          </p:nvSpPr>
          <p:spPr>
            <a:xfrm>
              <a:off x="2971800" y="3581280"/>
              <a:ext cx="1830240" cy="1144440"/>
            </a:xfrm>
            <a:custGeom>
              <a:avLst/>
              <a:gdLst/>
              <a:ahLst/>
              <a:rect l="l" t="t" r="r" b="b"/>
              <a:pathLst>
                <a:path w="1153" h="721">
                  <a:moveTo>
                    <a:pt x="672" y="720"/>
                  </a:moveTo>
                  <a:lnTo>
                    <a:pt x="1104" y="720"/>
                  </a:lnTo>
                  <a:lnTo>
                    <a:pt x="1152" y="672"/>
                  </a:lnTo>
                  <a:lnTo>
                    <a:pt x="1152" y="336"/>
                  </a:lnTo>
                  <a:lnTo>
                    <a:pt x="1104" y="288"/>
                  </a:lnTo>
                  <a:lnTo>
                    <a:pt x="528" y="288"/>
                  </a:lnTo>
                  <a:lnTo>
                    <a:pt x="240" y="0"/>
                  </a:lnTo>
                  <a:lnTo>
                    <a:pt x="384" y="288"/>
                  </a:lnTo>
                  <a:lnTo>
                    <a:pt x="240" y="288"/>
                  </a:lnTo>
                  <a:lnTo>
                    <a:pt x="192" y="336"/>
                  </a:lnTo>
                  <a:lnTo>
                    <a:pt x="192" y="576"/>
                  </a:lnTo>
                  <a:lnTo>
                    <a:pt x="0" y="672"/>
                  </a:lnTo>
                  <a:lnTo>
                    <a:pt x="192" y="672"/>
                  </a:lnTo>
                  <a:lnTo>
                    <a:pt x="240" y="720"/>
                  </a:lnTo>
                  <a:lnTo>
                    <a:pt x="672" y="720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49320" y="4128840"/>
              <a:ext cx="770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Arial"/>
                </a:rPr>
                <a:t>Arg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Arial"/>
                </a:rPr>
                <a:t>路由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827600" y="4987800"/>
            <a:ext cx="30970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Argus</a:t>
            </a: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完成移动通信的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共同连接</a:t>
            </a: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远端用户接入存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办公室间互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ff"/>
                </a:solidFill>
                <a:latin typeface="Arial"/>
              </a:rPr>
              <a:t>防火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1143000"/>
            <a:ext cx="1296720" cy="1373040"/>
            <a:chOff x="2133720" y="1143000"/>
            <a:chExt cx="1296720" cy="1373040"/>
          </a:xfrm>
        </p:grpSpPr>
        <p:sp>
          <p:nvSpPr>
            <p:cNvPr id="241" name=""/>
            <p:cNvSpPr/>
            <p:nvPr/>
          </p:nvSpPr>
          <p:spPr>
            <a:xfrm>
              <a:off x="3276720" y="1143000"/>
              <a:ext cx="153720" cy="1373040"/>
            </a:xfrm>
            <a:custGeom>
              <a:avLst/>
              <a:gdLst/>
              <a:ahLst/>
              <a:rect l="l" t="t" r="r" b="b"/>
              <a:pathLst>
                <a:path w="97" h="865">
                  <a:moveTo>
                    <a:pt x="96" y="0"/>
                  </a:moveTo>
                  <a:lnTo>
                    <a:pt x="48" y="48"/>
                  </a:lnTo>
                  <a:lnTo>
                    <a:pt x="48" y="384"/>
                  </a:lnTo>
                  <a:lnTo>
                    <a:pt x="0" y="432"/>
                  </a:lnTo>
                  <a:lnTo>
                    <a:pt x="48" y="480"/>
                  </a:lnTo>
                  <a:lnTo>
                    <a:pt x="48" y="816"/>
                  </a:lnTo>
                  <a:lnTo>
                    <a:pt x="96" y="864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1828800"/>
              <a:ext cx="1144440" cy="611280"/>
            </a:xfrm>
            <a:custGeom>
              <a:avLst/>
              <a:gdLst/>
              <a:ahLst/>
              <a:rect l="l" t="t" r="r" b="b"/>
              <a:pathLst>
                <a:path w="721" h="385">
                  <a:moveTo>
                    <a:pt x="720" y="0"/>
                  </a:moveTo>
                  <a:lnTo>
                    <a:pt x="384" y="0"/>
                  </a:lnTo>
                  <a:lnTo>
                    <a:pt x="0" y="384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86200" y="4648320"/>
            <a:ext cx="915840" cy="1525320"/>
            <a:chOff x="3886200" y="4648320"/>
            <a:chExt cx="915840" cy="1525320"/>
          </a:xfrm>
        </p:grpSpPr>
        <p:sp>
          <p:nvSpPr>
            <p:cNvPr id="244" name=""/>
            <p:cNvSpPr/>
            <p:nvPr/>
          </p:nvSpPr>
          <p:spPr>
            <a:xfrm>
              <a:off x="4648320" y="4952880"/>
              <a:ext cx="153720" cy="1220760"/>
            </a:xfrm>
            <a:custGeom>
              <a:avLst/>
              <a:gdLst/>
              <a:ahLst/>
              <a:rect l="l" t="t" r="r" b="b"/>
              <a:pathLst>
                <a:path w="97" h="769">
                  <a:moveTo>
                    <a:pt x="96" y="0"/>
                  </a:moveTo>
                  <a:lnTo>
                    <a:pt x="48" y="48"/>
                  </a:lnTo>
                  <a:lnTo>
                    <a:pt x="48" y="336"/>
                  </a:lnTo>
                  <a:lnTo>
                    <a:pt x="0" y="384"/>
                  </a:lnTo>
                  <a:lnTo>
                    <a:pt x="48" y="432"/>
                  </a:lnTo>
                  <a:lnTo>
                    <a:pt x="48" y="720"/>
                  </a:lnTo>
                  <a:lnTo>
                    <a:pt x="96" y="768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86200" y="4648320"/>
              <a:ext cx="763560" cy="915840"/>
            </a:xfrm>
            <a:custGeom>
              <a:avLst/>
              <a:gdLst/>
              <a:ahLst/>
              <a:rect l="l" t="t" r="r" b="b"/>
              <a:pathLst>
                <a:path w="481" h="577">
                  <a:moveTo>
                    <a:pt x="480" y="576"/>
                  </a:move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231040" y="2438280"/>
            <a:ext cx="912960" cy="2210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311320" y="4876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外出员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600200" y="52578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110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2057400" y="5029200"/>
            <a:ext cx="839880" cy="458640"/>
            <a:chOff x="2057400" y="5029200"/>
            <a:chExt cx="839880" cy="458640"/>
          </a:xfrm>
        </p:grpSpPr>
        <p:sp>
          <p:nvSpPr>
            <p:cNvPr id="252" name=""/>
            <p:cNvSpPr/>
            <p:nvPr/>
          </p:nvSpPr>
          <p:spPr>
            <a:xfrm>
              <a:off x="205740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0" y="240"/>
                  </a:moveTo>
                  <a:lnTo>
                    <a:pt x="0" y="144"/>
                  </a:lnTo>
                  <a:lnTo>
                    <a:pt x="48" y="96"/>
                  </a:lnTo>
                  <a:lnTo>
                    <a:pt x="432" y="96"/>
                  </a:lnTo>
                  <a:lnTo>
                    <a:pt x="480" y="48"/>
                  </a:lnTo>
                  <a:lnTo>
                    <a:pt x="48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48" y="144"/>
                  </a:ln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688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0" y="48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971800" y="5029200"/>
            <a:ext cx="839880" cy="458640"/>
            <a:chOff x="2971800" y="5029200"/>
            <a:chExt cx="839880" cy="458640"/>
          </a:xfrm>
        </p:grpSpPr>
        <p:sp>
          <p:nvSpPr>
            <p:cNvPr id="256" name=""/>
            <p:cNvSpPr/>
            <p:nvPr/>
          </p:nvSpPr>
          <p:spPr>
            <a:xfrm>
              <a:off x="304812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480" y="144"/>
                  </a:lnTo>
                  <a:lnTo>
                    <a:pt x="432" y="96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180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144"/>
                  </a:moveTo>
                  <a:lnTo>
                    <a:pt x="48" y="14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48" y="48"/>
                  </a:lnTo>
                  <a:lnTo>
                    <a:pt x="48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08320" y="5356080"/>
            <a:ext cx="563400" cy="557280"/>
            <a:chOff x="2308320" y="5356080"/>
            <a:chExt cx="563400" cy="557280"/>
          </a:xfrm>
        </p:grpSpPr>
        <p:grpSp>
          <p:nvGrpSpPr>
            <p:cNvPr id="260" name=""/>
            <p:cNvGrpSpPr/>
            <p:nvPr/>
          </p:nvGrpSpPr>
          <p:grpSpPr>
            <a:xfrm>
              <a:off x="2308320" y="5356080"/>
              <a:ext cx="563400" cy="557280"/>
              <a:chOff x="2308320" y="5356080"/>
              <a:chExt cx="563400" cy="557280"/>
            </a:xfrm>
          </p:grpSpPr>
          <p:sp>
            <p:nvSpPr>
              <p:cNvPr id="261" name=""/>
              <p:cNvSpPr/>
              <p:nvPr/>
            </p:nvSpPr>
            <p:spPr>
              <a:xfrm>
                <a:off x="2500200" y="5730840"/>
                <a:ext cx="27324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79760" y="574524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05040" y="57276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00200" y="579600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79760" y="5734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97200" y="583092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5640" y="535608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24240" y="535788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09760" y="5883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08320" y="5830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341440" y="5842080"/>
                <a:ext cx="474840" cy="31680"/>
                <a:chOff x="2341440" y="5842080"/>
                <a:chExt cx="474840" cy="316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374920" y="5842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65200" y="5853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354400" y="5862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341440" y="587376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2424240" y="5402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6384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6384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475000" y="5456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98480" y="5356080"/>
            <a:ext cx="563760" cy="557280"/>
            <a:chOff x="1698480" y="5356080"/>
            <a:chExt cx="563760" cy="557280"/>
          </a:xfrm>
        </p:grpSpPr>
        <p:grpSp>
          <p:nvGrpSpPr>
            <p:cNvPr id="281" name=""/>
            <p:cNvGrpSpPr/>
            <p:nvPr/>
          </p:nvGrpSpPr>
          <p:grpSpPr>
            <a:xfrm>
              <a:off x="1698480" y="5356080"/>
              <a:ext cx="563760" cy="557280"/>
              <a:chOff x="1698480" y="5356080"/>
              <a:chExt cx="563760" cy="557280"/>
            </a:xfrm>
          </p:grpSpPr>
          <p:sp>
            <p:nvSpPr>
              <p:cNvPr id="282" name=""/>
              <p:cNvSpPr/>
              <p:nvPr/>
            </p:nvSpPr>
            <p:spPr>
              <a:xfrm>
                <a:off x="1892160" y="5730840"/>
                <a:ext cx="27000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71720" y="574524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97000" y="57276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92160" y="579600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71720" y="573408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87720" y="583236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16160" y="535608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14400" y="535788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00280" y="5883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98480" y="5832360"/>
                <a:ext cx="54468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1730520" y="5840280"/>
                <a:ext cx="476280" cy="34920"/>
                <a:chOff x="1730520" y="5840280"/>
                <a:chExt cx="476280" cy="349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765440" y="58402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755720" y="58514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744560" y="586440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730520" y="58752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814400" y="5400720"/>
                <a:ext cx="40176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558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558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865160" y="545616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527280" y="5356080"/>
            <a:ext cx="563760" cy="557280"/>
            <a:chOff x="3527280" y="5356080"/>
            <a:chExt cx="563760" cy="557280"/>
          </a:xfrm>
        </p:grpSpPr>
        <p:grpSp>
          <p:nvGrpSpPr>
            <p:cNvPr id="302" name=""/>
            <p:cNvGrpSpPr/>
            <p:nvPr/>
          </p:nvGrpSpPr>
          <p:grpSpPr>
            <a:xfrm>
              <a:off x="3527280" y="5356080"/>
              <a:ext cx="563760" cy="557280"/>
              <a:chOff x="3527280" y="5356080"/>
              <a:chExt cx="563760" cy="55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3719520" y="5730840"/>
                <a:ext cx="27288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98720" y="574524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924360" y="57276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1952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98720" y="5734080"/>
                <a:ext cx="14004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16520" y="583092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44960" y="535608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43200" y="535788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29080" y="5883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27280" y="5830920"/>
                <a:ext cx="54324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560760" y="5842080"/>
                <a:ext cx="474840" cy="31680"/>
                <a:chOff x="3560760" y="5842080"/>
                <a:chExt cx="474840" cy="316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594240" y="5842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84520" y="5853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573360" y="5862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560760" y="587376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3643200" y="5402160"/>
                <a:ext cx="40032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8316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316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693960" y="5456160"/>
              <a:ext cx="29700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917800" y="5356080"/>
            <a:ext cx="563760" cy="557280"/>
            <a:chOff x="2917800" y="5356080"/>
            <a:chExt cx="563760" cy="557280"/>
          </a:xfrm>
        </p:grpSpPr>
        <p:grpSp>
          <p:nvGrpSpPr>
            <p:cNvPr id="323" name=""/>
            <p:cNvGrpSpPr/>
            <p:nvPr/>
          </p:nvGrpSpPr>
          <p:grpSpPr>
            <a:xfrm>
              <a:off x="2917800" y="5356080"/>
              <a:ext cx="563760" cy="557280"/>
              <a:chOff x="2917800" y="5356080"/>
              <a:chExt cx="563760" cy="557280"/>
            </a:xfrm>
          </p:grpSpPr>
          <p:sp>
            <p:nvSpPr>
              <p:cNvPr id="324" name=""/>
              <p:cNvSpPr/>
              <p:nvPr/>
            </p:nvSpPr>
            <p:spPr>
              <a:xfrm>
                <a:off x="3111480" y="5730840"/>
                <a:ext cx="27000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91040" y="574524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16320" y="5727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1148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91040" y="5734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06680" y="5832360"/>
                <a:ext cx="5580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35480" y="535608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33720" y="535788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19240" y="5883120"/>
                <a:ext cx="48924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17800" y="5832360"/>
                <a:ext cx="54468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49480" y="5840280"/>
                <a:ext cx="476280" cy="34920"/>
                <a:chOff x="2949480" y="5840280"/>
                <a:chExt cx="476280" cy="34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984400" y="58402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75040" y="58514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963880" y="5864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49480" y="587520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3033720" y="5400720"/>
                <a:ext cx="40176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7512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7512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084480" y="545616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673360" y="4502160"/>
            <a:ext cx="520560" cy="520560"/>
          </a:xfrm>
          <a:prstGeom prst="rect">
            <a:avLst/>
          </a:prstGeom>
          <a:gradFill rotWithShape="0">
            <a:gsLst>
              <a:gs pos="0">
                <a:srgbClr val="646464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983200" y="3379680"/>
            <a:ext cx="2151000" cy="1160640"/>
            <a:chOff x="5983200" y="3379680"/>
            <a:chExt cx="2151000" cy="1160640"/>
          </a:xfrm>
        </p:grpSpPr>
        <p:sp>
          <p:nvSpPr>
            <p:cNvPr id="345" name=""/>
            <p:cNvSpPr/>
            <p:nvPr/>
          </p:nvSpPr>
          <p:spPr>
            <a:xfrm>
              <a:off x="5983200" y="3379680"/>
              <a:ext cx="2151000" cy="116064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8520" y="379080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4120" y="2057400"/>
            <a:ext cx="1770120" cy="1811160"/>
            <a:chOff x="5334120" y="2057400"/>
            <a:chExt cx="1770120" cy="1811160"/>
          </a:xfrm>
        </p:grpSpPr>
        <p:sp>
          <p:nvSpPr>
            <p:cNvPr id="348" name=""/>
            <p:cNvSpPr/>
            <p:nvPr/>
          </p:nvSpPr>
          <p:spPr>
            <a:xfrm>
              <a:off x="5334120" y="2057400"/>
              <a:ext cx="1770120" cy="1811160"/>
            </a:xfrm>
            <a:custGeom>
              <a:avLst/>
              <a:gdLst/>
              <a:ahLst/>
              <a:rect l="l" t="t" r="r" b="b"/>
              <a:pathLst>
                <a:path w="1681" h="1141">
                  <a:moveTo>
                    <a:pt x="0" y="0"/>
                  </a:moveTo>
                  <a:lnTo>
                    <a:pt x="1680" y="0"/>
                  </a:lnTo>
                  <a:lnTo>
                    <a:pt x="1680" y="672"/>
                  </a:lnTo>
                  <a:lnTo>
                    <a:pt x="576" y="672"/>
                  </a:lnTo>
                  <a:lnTo>
                    <a:pt x="180" y="1140"/>
                  </a:lnTo>
                  <a:lnTo>
                    <a:pt x="384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cap="rnd" w="1260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81640" y="2090520"/>
              <a:ext cx="1658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支持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IS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及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56K 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57200" y="1282680"/>
            <a:ext cx="7848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28600" bIns="228600" anchor="t">
            <a:spAutoFit/>
          </a:bodyPr>
          <a:p>
            <a:pPr>
              <a:lnSpc>
                <a:spcPts val="2798"/>
              </a:lnSpc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小型办公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OHO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要所有员工共享帐号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57200"/>
            <a:ext cx="833760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 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A300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1447560" cy="1001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5920" y="45720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295280" y="5029200"/>
            <a:ext cx="839880" cy="458640"/>
            <a:chOff x="1295280" y="5029200"/>
            <a:chExt cx="839880" cy="458640"/>
          </a:xfrm>
        </p:grpSpPr>
        <p:sp>
          <p:nvSpPr>
            <p:cNvPr id="358" name=""/>
            <p:cNvSpPr/>
            <p:nvPr/>
          </p:nvSpPr>
          <p:spPr>
            <a:xfrm>
              <a:off x="129528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0" y="240"/>
                  </a:moveTo>
                  <a:lnTo>
                    <a:pt x="0" y="144"/>
                  </a:lnTo>
                  <a:lnTo>
                    <a:pt x="48" y="96"/>
                  </a:lnTo>
                  <a:lnTo>
                    <a:pt x="432" y="96"/>
                  </a:lnTo>
                  <a:lnTo>
                    <a:pt x="480" y="48"/>
                  </a:lnTo>
                  <a:lnTo>
                    <a:pt x="48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8108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48" y="144"/>
                  </a:ln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476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0" y="48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209680" y="5029200"/>
            <a:ext cx="839880" cy="458640"/>
            <a:chOff x="2209680" y="5029200"/>
            <a:chExt cx="839880" cy="458640"/>
          </a:xfrm>
        </p:grpSpPr>
        <p:sp>
          <p:nvSpPr>
            <p:cNvPr id="362" name=""/>
            <p:cNvSpPr/>
            <p:nvPr/>
          </p:nvSpPr>
          <p:spPr>
            <a:xfrm>
              <a:off x="228600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480" y="144"/>
                  </a:lnTo>
                  <a:lnTo>
                    <a:pt x="432" y="96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0968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144"/>
                  </a:moveTo>
                  <a:lnTo>
                    <a:pt x="48" y="14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6196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48" y="48"/>
                  </a:lnTo>
                  <a:lnTo>
                    <a:pt x="48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546200" y="5356080"/>
            <a:ext cx="563400" cy="557280"/>
            <a:chOff x="1546200" y="5356080"/>
            <a:chExt cx="563400" cy="557280"/>
          </a:xfrm>
        </p:grpSpPr>
        <p:grpSp>
          <p:nvGrpSpPr>
            <p:cNvPr id="366" name=""/>
            <p:cNvGrpSpPr/>
            <p:nvPr/>
          </p:nvGrpSpPr>
          <p:grpSpPr>
            <a:xfrm>
              <a:off x="1546200" y="5356080"/>
              <a:ext cx="563400" cy="557280"/>
              <a:chOff x="1546200" y="5356080"/>
              <a:chExt cx="563400" cy="557280"/>
            </a:xfrm>
          </p:grpSpPr>
          <p:sp>
            <p:nvSpPr>
              <p:cNvPr id="367" name=""/>
              <p:cNvSpPr/>
              <p:nvPr/>
            </p:nvSpPr>
            <p:spPr>
              <a:xfrm>
                <a:off x="1738080" y="5730840"/>
                <a:ext cx="27324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17640" y="574524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42920" y="57276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38080" y="579600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17640" y="5734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35080" y="583092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63520" y="535608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62120" y="535788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47640" y="5883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6200" y="5830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1579320" y="5842080"/>
                <a:ext cx="474840" cy="31680"/>
                <a:chOff x="1579320" y="5842080"/>
                <a:chExt cx="474840" cy="316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612800" y="5842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03080" y="5853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592280" y="5862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79320" y="587376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1662120" y="5402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0172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70172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712880" y="5456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936720" y="5356080"/>
            <a:ext cx="563040" cy="557280"/>
            <a:chOff x="936720" y="5356080"/>
            <a:chExt cx="563040" cy="557280"/>
          </a:xfrm>
        </p:grpSpPr>
        <p:grpSp>
          <p:nvGrpSpPr>
            <p:cNvPr id="387" name=""/>
            <p:cNvGrpSpPr/>
            <p:nvPr/>
          </p:nvGrpSpPr>
          <p:grpSpPr>
            <a:xfrm>
              <a:off x="936720" y="5356080"/>
              <a:ext cx="563040" cy="557280"/>
              <a:chOff x="936720" y="5356080"/>
              <a:chExt cx="563040" cy="557280"/>
            </a:xfrm>
          </p:grpSpPr>
          <p:sp>
            <p:nvSpPr>
              <p:cNvPr id="388" name=""/>
              <p:cNvSpPr/>
              <p:nvPr/>
            </p:nvSpPr>
            <p:spPr>
              <a:xfrm>
                <a:off x="1130040" y="573084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09600" y="574524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34880" y="5727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004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09600" y="5734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425600" y="583236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54040" y="5356080"/>
                <a:ext cx="4572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52280" y="5357880"/>
                <a:ext cx="44568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38160" y="5883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36720" y="583236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968400" y="5840280"/>
                <a:ext cx="475560" cy="34920"/>
                <a:chOff x="968400" y="5840280"/>
                <a:chExt cx="475560" cy="349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002960" y="58402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993240" y="58514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982080" y="5864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968400" y="587520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1052280" y="540072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93680" y="5443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93680" y="5443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103040" y="545616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765520" y="5356080"/>
            <a:ext cx="563040" cy="557280"/>
            <a:chOff x="2765520" y="5356080"/>
            <a:chExt cx="563040" cy="557280"/>
          </a:xfrm>
        </p:grpSpPr>
        <p:grpSp>
          <p:nvGrpSpPr>
            <p:cNvPr id="408" name=""/>
            <p:cNvGrpSpPr/>
            <p:nvPr/>
          </p:nvGrpSpPr>
          <p:grpSpPr>
            <a:xfrm>
              <a:off x="2765520" y="5356080"/>
              <a:ext cx="563040" cy="557280"/>
              <a:chOff x="2765520" y="5356080"/>
              <a:chExt cx="563040" cy="557280"/>
            </a:xfrm>
          </p:grpSpPr>
          <p:sp>
            <p:nvSpPr>
              <p:cNvPr id="409" name=""/>
              <p:cNvSpPr/>
              <p:nvPr/>
            </p:nvSpPr>
            <p:spPr>
              <a:xfrm>
                <a:off x="2957400" y="5730840"/>
                <a:ext cx="27252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36600" y="5745240"/>
                <a:ext cx="9972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62240" y="5727600"/>
                <a:ext cx="8856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57400" y="5796000"/>
                <a:ext cx="20592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36600" y="5734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254400" y="5830920"/>
                <a:ext cx="5364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82840" y="5356080"/>
                <a:ext cx="4572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81080" y="5357880"/>
                <a:ext cx="44568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66960" y="5883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65520" y="5830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2798640" y="5842080"/>
                <a:ext cx="474120" cy="31680"/>
                <a:chOff x="2798640" y="5842080"/>
                <a:chExt cx="474120" cy="316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831760" y="58420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822040" y="58532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810880" y="586260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98640" y="587376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>
                <a:off x="2881080" y="5402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21040" y="5443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21040" y="5443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931840" y="5456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155680" y="5356080"/>
            <a:ext cx="563760" cy="557280"/>
            <a:chOff x="2155680" y="5356080"/>
            <a:chExt cx="563760" cy="557280"/>
          </a:xfrm>
        </p:grpSpPr>
        <p:grpSp>
          <p:nvGrpSpPr>
            <p:cNvPr id="429" name=""/>
            <p:cNvGrpSpPr/>
            <p:nvPr/>
          </p:nvGrpSpPr>
          <p:grpSpPr>
            <a:xfrm>
              <a:off x="2155680" y="5356080"/>
              <a:ext cx="563760" cy="557280"/>
              <a:chOff x="2155680" y="5356080"/>
              <a:chExt cx="563760" cy="557280"/>
            </a:xfrm>
          </p:grpSpPr>
          <p:sp>
            <p:nvSpPr>
              <p:cNvPr id="430" name=""/>
              <p:cNvSpPr/>
              <p:nvPr/>
            </p:nvSpPr>
            <p:spPr>
              <a:xfrm>
                <a:off x="2349360" y="5730840"/>
                <a:ext cx="27000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28920" y="574524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54200" y="5727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4936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28920" y="5734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44560" y="5832360"/>
                <a:ext cx="5580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73360" y="535608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71600" y="535788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157120" y="5883120"/>
                <a:ext cx="48924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55680" y="5832360"/>
                <a:ext cx="54468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2187360" y="5840280"/>
                <a:ext cx="476280" cy="34920"/>
                <a:chOff x="2187360" y="5840280"/>
                <a:chExt cx="476280" cy="349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222280" y="58402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212920" y="58514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201760" y="5864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187360" y="587520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2271600" y="5400720"/>
                <a:ext cx="40176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130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130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322360" y="545616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11240" y="4502160"/>
            <a:ext cx="520920" cy="520560"/>
          </a:xfrm>
          <a:prstGeom prst="rect">
            <a:avLst/>
          </a:prstGeom>
          <a:gradFill rotWithShape="0">
            <a:gsLst>
              <a:gs pos="0">
                <a:srgbClr val="646464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13372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3800" y="45720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CA545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1676520" cy="1160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324480" y="190512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6324480" y="4114800"/>
            <a:ext cx="1027080" cy="129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flipH="1">
            <a:off x="4724280" y="24382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4648320" y="396252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32680" y="13716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家中或其他地点的办公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30000" y="5992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外人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1800" y="1676520"/>
            <a:ext cx="7848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28600" bIns="228600" anchor="t">
            <a:spAutoFit/>
          </a:bodyPr>
          <a:p>
            <a:pPr>
              <a:lnSpc>
                <a:spcPts val="2798"/>
              </a:lnSpc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H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要可以在家或出外办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0"/>
            <a:ext cx="838224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 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远端用户可直接进入办公室存取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0880" y="380880"/>
            <a:ext cx="7575840" cy="79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 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办公室间互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302520" y="5083200"/>
            <a:ext cx="839160" cy="458640"/>
            <a:chOff x="6302520" y="5083200"/>
            <a:chExt cx="839160" cy="458640"/>
          </a:xfrm>
        </p:grpSpPr>
        <p:sp>
          <p:nvSpPr>
            <p:cNvPr id="464" name=""/>
            <p:cNvSpPr/>
            <p:nvPr/>
          </p:nvSpPr>
          <p:spPr>
            <a:xfrm>
              <a:off x="6302520" y="5083200"/>
              <a:ext cx="7632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0" y="240"/>
                  </a:moveTo>
                  <a:lnTo>
                    <a:pt x="0" y="144"/>
                  </a:lnTo>
                  <a:lnTo>
                    <a:pt x="48" y="96"/>
                  </a:lnTo>
                  <a:lnTo>
                    <a:pt x="432" y="96"/>
                  </a:lnTo>
                  <a:lnTo>
                    <a:pt x="480" y="48"/>
                  </a:lnTo>
                  <a:lnTo>
                    <a:pt x="48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87960" y="508320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48" y="144"/>
                  </a:ln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11640" y="5311800"/>
              <a:ext cx="7740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0" y="48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216920" y="5083200"/>
            <a:ext cx="839160" cy="458640"/>
            <a:chOff x="7216920" y="5083200"/>
            <a:chExt cx="839160" cy="458640"/>
          </a:xfrm>
        </p:grpSpPr>
        <p:sp>
          <p:nvSpPr>
            <p:cNvPr id="468" name=""/>
            <p:cNvSpPr/>
            <p:nvPr/>
          </p:nvSpPr>
          <p:spPr>
            <a:xfrm>
              <a:off x="7292880" y="5083200"/>
              <a:ext cx="7632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480" y="144"/>
                  </a:lnTo>
                  <a:lnTo>
                    <a:pt x="432" y="96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6920" y="508320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144"/>
                  </a:moveTo>
                  <a:lnTo>
                    <a:pt x="48" y="14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68840" y="5311800"/>
              <a:ext cx="7740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48" y="48"/>
                  </a:lnTo>
                  <a:lnTo>
                    <a:pt x="48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553080" y="5410080"/>
            <a:ext cx="563400" cy="557280"/>
            <a:chOff x="6553080" y="5410080"/>
            <a:chExt cx="563400" cy="557280"/>
          </a:xfrm>
        </p:grpSpPr>
        <p:grpSp>
          <p:nvGrpSpPr>
            <p:cNvPr id="472" name=""/>
            <p:cNvGrpSpPr/>
            <p:nvPr/>
          </p:nvGrpSpPr>
          <p:grpSpPr>
            <a:xfrm>
              <a:off x="6553080" y="5410080"/>
              <a:ext cx="563400" cy="557280"/>
              <a:chOff x="6553080" y="5410080"/>
              <a:chExt cx="563400" cy="557280"/>
            </a:xfrm>
          </p:grpSpPr>
          <p:sp>
            <p:nvSpPr>
              <p:cNvPr id="473" name=""/>
              <p:cNvSpPr/>
              <p:nvPr/>
            </p:nvSpPr>
            <p:spPr>
              <a:xfrm>
                <a:off x="6744960" y="5784840"/>
                <a:ext cx="27324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24520" y="579924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49800" y="57816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44960" y="585000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24520" y="5788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41960" y="588492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70400" y="541008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69000" y="541188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54520" y="5937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53080" y="5884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6586200" y="5896080"/>
                <a:ext cx="474840" cy="31680"/>
                <a:chOff x="6586200" y="5896080"/>
                <a:chExt cx="474840" cy="31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619680" y="5896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609960" y="5907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99160" y="5916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86200" y="592776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6669000" y="5456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08600" y="5497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08600" y="5497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6719760" y="5510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943600" y="5410080"/>
            <a:ext cx="563040" cy="557280"/>
            <a:chOff x="5943600" y="5410080"/>
            <a:chExt cx="563040" cy="557280"/>
          </a:xfrm>
        </p:grpSpPr>
        <p:grpSp>
          <p:nvGrpSpPr>
            <p:cNvPr id="493" name=""/>
            <p:cNvGrpSpPr/>
            <p:nvPr/>
          </p:nvGrpSpPr>
          <p:grpSpPr>
            <a:xfrm>
              <a:off x="5943600" y="5410080"/>
              <a:ext cx="563040" cy="557280"/>
              <a:chOff x="5943600" y="5410080"/>
              <a:chExt cx="563040" cy="557280"/>
            </a:xfrm>
          </p:grpSpPr>
          <p:sp>
            <p:nvSpPr>
              <p:cNvPr id="494" name=""/>
              <p:cNvSpPr/>
              <p:nvPr/>
            </p:nvSpPr>
            <p:spPr>
              <a:xfrm>
                <a:off x="6136920" y="578484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16480" y="579924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41760" y="5781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36920" y="5850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16480" y="5788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32480" y="588636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60920" y="5410080"/>
                <a:ext cx="4572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59160" y="5411880"/>
                <a:ext cx="44568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945040" y="5937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43600" y="588636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5975280" y="5894280"/>
                <a:ext cx="475560" cy="34920"/>
                <a:chOff x="5975280" y="5894280"/>
                <a:chExt cx="475560" cy="349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009840" y="58942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000120" y="59054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88960" y="5918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75280" y="592920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6059160" y="545472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100560" y="5497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00560" y="5497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6109920" y="551016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772400" y="5410080"/>
            <a:ext cx="563040" cy="557280"/>
            <a:chOff x="7772400" y="5410080"/>
            <a:chExt cx="563040" cy="557280"/>
          </a:xfrm>
        </p:grpSpPr>
        <p:grpSp>
          <p:nvGrpSpPr>
            <p:cNvPr id="514" name=""/>
            <p:cNvGrpSpPr/>
            <p:nvPr/>
          </p:nvGrpSpPr>
          <p:grpSpPr>
            <a:xfrm>
              <a:off x="7772400" y="5410080"/>
              <a:ext cx="563040" cy="557280"/>
              <a:chOff x="7772400" y="5410080"/>
              <a:chExt cx="563040" cy="557280"/>
            </a:xfrm>
          </p:grpSpPr>
          <p:sp>
            <p:nvSpPr>
              <p:cNvPr id="515" name=""/>
              <p:cNvSpPr/>
              <p:nvPr/>
            </p:nvSpPr>
            <p:spPr>
              <a:xfrm>
                <a:off x="7964280" y="5784840"/>
                <a:ext cx="27252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043480" y="5799240"/>
                <a:ext cx="9972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69120" y="5781600"/>
                <a:ext cx="8856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964280" y="5850000"/>
                <a:ext cx="20592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43480" y="5788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61280" y="5884920"/>
                <a:ext cx="5364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289720" y="5410080"/>
                <a:ext cx="4572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87960" y="5411880"/>
                <a:ext cx="44568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73840" y="5937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72400" y="5884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7805520" y="5896080"/>
                <a:ext cx="474120" cy="31680"/>
                <a:chOff x="7805520" y="5896080"/>
                <a:chExt cx="474120" cy="316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838640" y="58960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828920" y="59072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817760" y="591660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05520" y="592776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>
                <a:off x="7887960" y="5456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927920" y="5497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27920" y="5497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7938720" y="5510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162920" y="5410080"/>
            <a:ext cx="563040" cy="557280"/>
            <a:chOff x="7162920" y="5410080"/>
            <a:chExt cx="563040" cy="557280"/>
          </a:xfrm>
        </p:grpSpPr>
        <p:grpSp>
          <p:nvGrpSpPr>
            <p:cNvPr id="535" name=""/>
            <p:cNvGrpSpPr/>
            <p:nvPr/>
          </p:nvGrpSpPr>
          <p:grpSpPr>
            <a:xfrm>
              <a:off x="7162920" y="5410080"/>
              <a:ext cx="563040" cy="557280"/>
              <a:chOff x="7162920" y="5410080"/>
              <a:chExt cx="563040" cy="557280"/>
            </a:xfrm>
          </p:grpSpPr>
          <p:sp>
            <p:nvSpPr>
              <p:cNvPr id="536" name=""/>
              <p:cNvSpPr/>
              <p:nvPr/>
            </p:nvSpPr>
            <p:spPr>
              <a:xfrm>
                <a:off x="7356240" y="578484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5800" y="579924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61080" y="5781600"/>
                <a:ext cx="8676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56240" y="5850000"/>
                <a:ext cx="20592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35800" y="5788080"/>
                <a:ext cx="13752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51440" y="588636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80240" y="5410080"/>
                <a:ext cx="4572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78480" y="5411880"/>
                <a:ext cx="44568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4000" y="5937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162920" y="588636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7194240" y="5894280"/>
                <a:ext cx="475560" cy="34920"/>
                <a:chOff x="7194240" y="5894280"/>
                <a:chExt cx="475560" cy="349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228800" y="58942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19440" y="59054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208280" y="591840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194240" y="59292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7278480" y="545472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19880" y="5497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19880" y="5497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329240" y="551016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918480" y="4556160"/>
            <a:ext cx="520560" cy="520560"/>
          </a:xfrm>
          <a:prstGeom prst="rect">
            <a:avLst/>
          </a:prstGeom>
          <a:gradFill rotWithShape="0">
            <a:gsLst>
              <a:gs pos="0">
                <a:srgbClr val="646464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140600" y="3939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1080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990720" y="5181480"/>
            <a:ext cx="839160" cy="458640"/>
            <a:chOff x="990720" y="5181480"/>
            <a:chExt cx="839160" cy="458640"/>
          </a:xfrm>
        </p:grpSpPr>
        <p:sp>
          <p:nvSpPr>
            <p:cNvPr id="559" name=""/>
            <p:cNvSpPr/>
            <p:nvPr/>
          </p:nvSpPr>
          <p:spPr>
            <a:xfrm>
              <a:off x="990720" y="5181480"/>
              <a:ext cx="7632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0" y="240"/>
                  </a:moveTo>
                  <a:lnTo>
                    <a:pt x="0" y="144"/>
                  </a:lnTo>
                  <a:lnTo>
                    <a:pt x="48" y="96"/>
                  </a:lnTo>
                  <a:lnTo>
                    <a:pt x="432" y="96"/>
                  </a:lnTo>
                  <a:lnTo>
                    <a:pt x="480" y="48"/>
                  </a:lnTo>
                  <a:lnTo>
                    <a:pt x="48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6160" y="518148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48" y="144"/>
                  </a:ln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99840" y="5410080"/>
              <a:ext cx="7740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0" y="48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905120" y="5181480"/>
            <a:ext cx="839160" cy="458640"/>
            <a:chOff x="1905120" y="5181480"/>
            <a:chExt cx="839160" cy="458640"/>
          </a:xfrm>
        </p:grpSpPr>
        <p:sp>
          <p:nvSpPr>
            <p:cNvPr id="563" name=""/>
            <p:cNvSpPr/>
            <p:nvPr/>
          </p:nvSpPr>
          <p:spPr>
            <a:xfrm>
              <a:off x="1981080" y="5181480"/>
              <a:ext cx="7632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480" y="144"/>
                  </a:lnTo>
                  <a:lnTo>
                    <a:pt x="432" y="96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05120" y="518148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144"/>
                  </a:moveTo>
                  <a:lnTo>
                    <a:pt x="48" y="14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57040" y="5410080"/>
              <a:ext cx="7740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48" y="48"/>
                  </a:lnTo>
                  <a:lnTo>
                    <a:pt x="48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241280" y="5508720"/>
            <a:ext cx="563400" cy="557280"/>
            <a:chOff x="1241280" y="5508720"/>
            <a:chExt cx="563400" cy="557280"/>
          </a:xfrm>
        </p:grpSpPr>
        <p:grpSp>
          <p:nvGrpSpPr>
            <p:cNvPr id="567" name=""/>
            <p:cNvGrpSpPr/>
            <p:nvPr/>
          </p:nvGrpSpPr>
          <p:grpSpPr>
            <a:xfrm>
              <a:off x="1241280" y="5508720"/>
              <a:ext cx="563400" cy="557280"/>
              <a:chOff x="1241280" y="5508720"/>
              <a:chExt cx="563400" cy="557280"/>
            </a:xfrm>
          </p:grpSpPr>
          <p:sp>
            <p:nvSpPr>
              <p:cNvPr id="568" name=""/>
              <p:cNvSpPr/>
              <p:nvPr/>
            </p:nvSpPr>
            <p:spPr>
              <a:xfrm>
                <a:off x="1433160" y="5883480"/>
                <a:ext cx="27324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12720" y="589788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638000" y="58802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33160" y="594864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12720" y="58867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30160" y="598356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758600" y="550872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57200" y="551052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42720" y="603576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41280" y="598356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1274400" y="5994720"/>
                <a:ext cx="474840" cy="31680"/>
                <a:chOff x="1274400" y="5994720"/>
                <a:chExt cx="474840" cy="316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307880" y="599472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298160" y="60058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287360" y="6015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274400" y="602640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1357200" y="555480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96800" y="559620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396800" y="559620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1407960" y="560880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31800" y="5508720"/>
            <a:ext cx="563760" cy="557280"/>
            <a:chOff x="631800" y="5508720"/>
            <a:chExt cx="563760" cy="557280"/>
          </a:xfrm>
        </p:grpSpPr>
        <p:grpSp>
          <p:nvGrpSpPr>
            <p:cNvPr id="588" name=""/>
            <p:cNvGrpSpPr/>
            <p:nvPr/>
          </p:nvGrpSpPr>
          <p:grpSpPr>
            <a:xfrm>
              <a:off x="631800" y="5508720"/>
              <a:ext cx="563760" cy="557280"/>
              <a:chOff x="631800" y="5508720"/>
              <a:chExt cx="563760" cy="55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825480" y="5883480"/>
                <a:ext cx="27000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05040" y="589788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030320" y="588024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5480" y="594864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905040" y="58867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21040" y="598500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49480" y="550872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47720" y="551052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33600" y="603576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31800" y="5985000"/>
                <a:ext cx="54468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663840" y="5992920"/>
                <a:ext cx="476280" cy="34920"/>
                <a:chOff x="663840" y="5992920"/>
                <a:chExt cx="476280" cy="349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698760" y="599292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89040" y="6004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77880" y="601704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3840" y="602784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747720" y="5553360"/>
                <a:ext cx="40176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20" y="559620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20" y="559620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798480" y="560880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460600" y="5508720"/>
            <a:ext cx="563760" cy="557280"/>
            <a:chOff x="2460600" y="5508720"/>
            <a:chExt cx="563760" cy="557280"/>
          </a:xfrm>
        </p:grpSpPr>
        <p:grpSp>
          <p:nvGrpSpPr>
            <p:cNvPr id="609" name=""/>
            <p:cNvGrpSpPr/>
            <p:nvPr/>
          </p:nvGrpSpPr>
          <p:grpSpPr>
            <a:xfrm>
              <a:off x="2460600" y="5508720"/>
              <a:ext cx="563760" cy="557280"/>
              <a:chOff x="2460600" y="5508720"/>
              <a:chExt cx="563760" cy="557280"/>
            </a:xfrm>
          </p:grpSpPr>
          <p:sp>
            <p:nvSpPr>
              <p:cNvPr id="610" name=""/>
              <p:cNvSpPr/>
              <p:nvPr/>
            </p:nvSpPr>
            <p:spPr>
              <a:xfrm>
                <a:off x="2652840" y="5883480"/>
                <a:ext cx="27288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32040" y="589788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7680" y="58802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52840" y="594864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32040" y="5886720"/>
                <a:ext cx="14004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49840" y="598356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978280" y="550872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76520" y="551052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462400" y="603576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460600" y="5983560"/>
                <a:ext cx="54324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494080" y="5994720"/>
                <a:ext cx="474840" cy="31680"/>
                <a:chOff x="2494080" y="5994720"/>
                <a:chExt cx="474840" cy="316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527560" y="599472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517840" y="60058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506680" y="6015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494080" y="6026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2576520" y="5554800"/>
                <a:ext cx="40032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16480" y="559620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616480" y="559620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627280" y="5608800"/>
              <a:ext cx="29700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51120" y="5508720"/>
            <a:ext cx="563040" cy="557280"/>
            <a:chOff x="1851120" y="5508720"/>
            <a:chExt cx="563040" cy="557280"/>
          </a:xfrm>
        </p:grpSpPr>
        <p:grpSp>
          <p:nvGrpSpPr>
            <p:cNvPr id="630" name=""/>
            <p:cNvGrpSpPr/>
            <p:nvPr/>
          </p:nvGrpSpPr>
          <p:grpSpPr>
            <a:xfrm>
              <a:off x="1851120" y="5508720"/>
              <a:ext cx="563040" cy="557280"/>
              <a:chOff x="1851120" y="5508720"/>
              <a:chExt cx="563040" cy="557280"/>
            </a:xfrm>
          </p:grpSpPr>
          <p:sp>
            <p:nvSpPr>
              <p:cNvPr id="631" name=""/>
              <p:cNvSpPr/>
              <p:nvPr/>
            </p:nvSpPr>
            <p:spPr>
              <a:xfrm>
                <a:off x="2044440" y="588348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24000" y="589788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49280" y="5880240"/>
                <a:ext cx="8676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044440" y="5948640"/>
                <a:ext cx="20592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24000" y="5886720"/>
                <a:ext cx="13752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339640" y="5985000"/>
                <a:ext cx="5544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68440" y="5508720"/>
                <a:ext cx="4572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966680" y="5510520"/>
                <a:ext cx="44568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852200" y="603576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851120" y="598500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1882440" y="5992920"/>
                <a:ext cx="475560" cy="34920"/>
                <a:chOff x="1882440" y="5992920"/>
                <a:chExt cx="475560" cy="349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1917000" y="599292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907640" y="60040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96480" y="601704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882440" y="602784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1966680" y="555336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008080" y="559620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008080" y="559620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2017440" y="560880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06680" y="4654440"/>
            <a:ext cx="520560" cy="520920"/>
          </a:xfrm>
          <a:prstGeom prst="rect">
            <a:avLst/>
          </a:prstGeom>
          <a:gradFill rotWithShape="0">
            <a:gsLst>
              <a:gs pos="0">
                <a:srgbClr val="646464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8288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1165320" y="284148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653" name="CA545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654" name="CA545" descr=""/>
          <p:cNvPicPr/>
          <p:nvPr/>
        </p:nvPicPr>
        <p:blipFill>
          <a:blip r:embed="rId4"/>
          <a:stretch/>
        </p:blipFill>
        <p:spPr>
          <a:xfrm>
            <a:off x="6553080" y="198108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209680" y="236232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352680" y="3505320"/>
            <a:ext cx="2151000" cy="1160280"/>
            <a:chOff x="3352680" y="3505320"/>
            <a:chExt cx="2151000" cy="1160280"/>
          </a:xfrm>
        </p:grpSpPr>
        <p:sp>
          <p:nvSpPr>
            <p:cNvPr id="657" name=""/>
            <p:cNvSpPr/>
            <p:nvPr/>
          </p:nvSpPr>
          <p:spPr>
            <a:xfrm>
              <a:off x="3352680" y="3505320"/>
              <a:ext cx="2151000" cy="1160280"/>
            </a:xfrm>
            <a:custGeom>
              <a:avLst/>
              <a:gdLst/>
              <a:ahLst/>
              <a:rect l="l" t="t" r="r" b="b"/>
              <a:pathLst>
                <a:path w="1355" h="731">
                  <a:moveTo>
                    <a:pt x="215" y="172"/>
                  </a:moveTo>
                  <a:lnTo>
                    <a:pt x="226" y="152"/>
                  </a:lnTo>
                  <a:lnTo>
                    <a:pt x="243" y="132"/>
                  </a:lnTo>
                  <a:lnTo>
                    <a:pt x="270" y="115"/>
                  </a:lnTo>
                  <a:lnTo>
                    <a:pt x="304" y="103"/>
                  </a:lnTo>
                  <a:lnTo>
                    <a:pt x="332" y="96"/>
                  </a:lnTo>
                  <a:lnTo>
                    <a:pt x="366" y="88"/>
                  </a:lnTo>
                  <a:lnTo>
                    <a:pt x="419" y="84"/>
                  </a:lnTo>
                  <a:lnTo>
                    <a:pt x="470" y="88"/>
                  </a:lnTo>
                  <a:lnTo>
                    <a:pt x="517" y="96"/>
                  </a:lnTo>
                  <a:lnTo>
                    <a:pt x="551" y="106"/>
                  </a:lnTo>
                  <a:lnTo>
                    <a:pt x="571" y="73"/>
                  </a:lnTo>
                  <a:lnTo>
                    <a:pt x="598" y="47"/>
                  </a:lnTo>
                  <a:lnTo>
                    <a:pt x="634" y="26"/>
                  </a:lnTo>
                  <a:lnTo>
                    <a:pt x="681" y="11"/>
                  </a:lnTo>
                  <a:lnTo>
                    <a:pt x="739" y="1"/>
                  </a:lnTo>
                  <a:lnTo>
                    <a:pt x="795" y="0"/>
                  </a:lnTo>
                  <a:lnTo>
                    <a:pt x="846" y="5"/>
                  </a:lnTo>
                  <a:lnTo>
                    <a:pt x="902" y="18"/>
                  </a:lnTo>
                  <a:lnTo>
                    <a:pt x="945" y="41"/>
                  </a:lnTo>
                  <a:lnTo>
                    <a:pt x="976" y="63"/>
                  </a:lnTo>
                  <a:lnTo>
                    <a:pt x="996" y="85"/>
                  </a:lnTo>
                  <a:lnTo>
                    <a:pt x="1000" y="113"/>
                  </a:lnTo>
                  <a:lnTo>
                    <a:pt x="1040" y="104"/>
                  </a:lnTo>
                  <a:lnTo>
                    <a:pt x="1087" y="107"/>
                  </a:lnTo>
                  <a:lnTo>
                    <a:pt x="1126" y="115"/>
                  </a:lnTo>
                  <a:lnTo>
                    <a:pt x="1159" y="135"/>
                  </a:lnTo>
                  <a:lnTo>
                    <a:pt x="1183" y="161"/>
                  </a:lnTo>
                  <a:lnTo>
                    <a:pt x="1193" y="188"/>
                  </a:lnTo>
                  <a:lnTo>
                    <a:pt x="1192" y="209"/>
                  </a:lnTo>
                  <a:lnTo>
                    <a:pt x="1214" y="208"/>
                  </a:lnTo>
                  <a:lnTo>
                    <a:pt x="1242" y="213"/>
                  </a:lnTo>
                  <a:lnTo>
                    <a:pt x="1270" y="222"/>
                  </a:lnTo>
                  <a:lnTo>
                    <a:pt x="1293" y="234"/>
                  </a:lnTo>
                  <a:lnTo>
                    <a:pt x="1308" y="243"/>
                  </a:lnTo>
                  <a:lnTo>
                    <a:pt x="1321" y="256"/>
                  </a:lnTo>
                  <a:lnTo>
                    <a:pt x="1336" y="272"/>
                  </a:lnTo>
                  <a:lnTo>
                    <a:pt x="1344" y="292"/>
                  </a:lnTo>
                  <a:lnTo>
                    <a:pt x="1346" y="307"/>
                  </a:lnTo>
                  <a:lnTo>
                    <a:pt x="1342" y="322"/>
                  </a:lnTo>
                  <a:lnTo>
                    <a:pt x="1332" y="341"/>
                  </a:lnTo>
                  <a:lnTo>
                    <a:pt x="1344" y="362"/>
                  </a:lnTo>
                  <a:lnTo>
                    <a:pt x="1349" y="381"/>
                  </a:lnTo>
                  <a:lnTo>
                    <a:pt x="1352" y="402"/>
                  </a:lnTo>
                  <a:lnTo>
                    <a:pt x="1346" y="426"/>
                  </a:lnTo>
                  <a:lnTo>
                    <a:pt x="1341" y="441"/>
                  </a:lnTo>
                  <a:lnTo>
                    <a:pt x="1325" y="458"/>
                  </a:lnTo>
                  <a:lnTo>
                    <a:pt x="1346" y="483"/>
                  </a:lnTo>
                  <a:lnTo>
                    <a:pt x="1352" y="499"/>
                  </a:lnTo>
                  <a:lnTo>
                    <a:pt x="1354" y="521"/>
                  </a:lnTo>
                  <a:lnTo>
                    <a:pt x="1349" y="543"/>
                  </a:lnTo>
                  <a:lnTo>
                    <a:pt x="1337" y="568"/>
                  </a:lnTo>
                  <a:lnTo>
                    <a:pt x="1321" y="587"/>
                  </a:lnTo>
                  <a:lnTo>
                    <a:pt x="1297" y="603"/>
                  </a:lnTo>
                  <a:lnTo>
                    <a:pt x="1258" y="621"/>
                  </a:lnTo>
                  <a:lnTo>
                    <a:pt x="1214" y="626"/>
                  </a:lnTo>
                  <a:lnTo>
                    <a:pt x="1176" y="621"/>
                  </a:lnTo>
                  <a:lnTo>
                    <a:pt x="1150" y="612"/>
                  </a:lnTo>
                  <a:lnTo>
                    <a:pt x="1133" y="630"/>
                  </a:lnTo>
                  <a:lnTo>
                    <a:pt x="1114" y="644"/>
                  </a:lnTo>
                  <a:lnTo>
                    <a:pt x="1098" y="653"/>
                  </a:lnTo>
                  <a:lnTo>
                    <a:pt x="1067" y="665"/>
                  </a:lnTo>
                  <a:lnTo>
                    <a:pt x="1040" y="673"/>
                  </a:lnTo>
                  <a:lnTo>
                    <a:pt x="1000" y="679"/>
                  </a:lnTo>
                  <a:lnTo>
                    <a:pt x="961" y="677"/>
                  </a:lnTo>
                  <a:lnTo>
                    <a:pt x="922" y="669"/>
                  </a:lnTo>
                  <a:lnTo>
                    <a:pt x="889" y="655"/>
                  </a:lnTo>
                  <a:lnTo>
                    <a:pt x="868" y="680"/>
                  </a:lnTo>
                  <a:lnTo>
                    <a:pt x="850" y="694"/>
                  </a:lnTo>
                  <a:lnTo>
                    <a:pt x="826" y="705"/>
                  </a:lnTo>
                  <a:lnTo>
                    <a:pt x="797" y="714"/>
                  </a:lnTo>
                  <a:lnTo>
                    <a:pt x="766" y="719"/>
                  </a:lnTo>
                  <a:lnTo>
                    <a:pt x="736" y="719"/>
                  </a:lnTo>
                  <a:lnTo>
                    <a:pt x="708" y="714"/>
                  </a:lnTo>
                  <a:lnTo>
                    <a:pt x="673" y="702"/>
                  </a:lnTo>
                  <a:lnTo>
                    <a:pt x="653" y="690"/>
                  </a:lnTo>
                  <a:lnTo>
                    <a:pt x="634" y="705"/>
                  </a:lnTo>
                  <a:lnTo>
                    <a:pt x="614" y="714"/>
                  </a:lnTo>
                  <a:lnTo>
                    <a:pt x="590" y="723"/>
                  </a:lnTo>
                  <a:lnTo>
                    <a:pt x="556" y="730"/>
                  </a:lnTo>
                  <a:lnTo>
                    <a:pt x="519" y="727"/>
                  </a:lnTo>
                  <a:lnTo>
                    <a:pt x="481" y="720"/>
                  </a:lnTo>
                  <a:lnTo>
                    <a:pt x="453" y="709"/>
                  </a:lnTo>
                  <a:lnTo>
                    <a:pt x="426" y="689"/>
                  </a:lnTo>
                  <a:lnTo>
                    <a:pt x="410" y="669"/>
                  </a:lnTo>
                  <a:lnTo>
                    <a:pt x="382" y="676"/>
                  </a:lnTo>
                  <a:lnTo>
                    <a:pt x="350" y="681"/>
                  </a:lnTo>
                  <a:lnTo>
                    <a:pt x="311" y="680"/>
                  </a:lnTo>
                  <a:lnTo>
                    <a:pt x="278" y="670"/>
                  </a:lnTo>
                  <a:lnTo>
                    <a:pt x="253" y="658"/>
                  </a:lnTo>
                  <a:lnTo>
                    <a:pt x="231" y="644"/>
                  </a:lnTo>
                  <a:lnTo>
                    <a:pt x="214" y="624"/>
                  </a:lnTo>
                  <a:lnTo>
                    <a:pt x="210" y="603"/>
                  </a:lnTo>
                  <a:lnTo>
                    <a:pt x="191" y="608"/>
                  </a:lnTo>
                  <a:lnTo>
                    <a:pt x="160" y="609"/>
                  </a:lnTo>
                  <a:lnTo>
                    <a:pt x="126" y="603"/>
                  </a:lnTo>
                  <a:lnTo>
                    <a:pt x="90" y="589"/>
                  </a:lnTo>
                  <a:lnTo>
                    <a:pt x="66" y="571"/>
                  </a:lnTo>
                  <a:lnTo>
                    <a:pt x="46" y="546"/>
                  </a:lnTo>
                  <a:lnTo>
                    <a:pt x="34" y="521"/>
                  </a:lnTo>
                  <a:lnTo>
                    <a:pt x="31" y="487"/>
                  </a:lnTo>
                  <a:lnTo>
                    <a:pt x="32" y="463"/>
                  </a:lnTo>
                  <a:lnTo>
                    <a:pt x="43" y="428"/>
                  </a:lnTo>
                  <a:lnTo>
                    <a:pt x="18" y="409"/>
                  </a:lnTo>
                  <a:lnTo>
                    <a:pt x="6" y="383"/>
                  </a:lnTo>
                  <a:lnTo>
                    <a:pt x="0" y="355"/>
                  </a:lnTo>
                  <a:lnTo>
                    <a:pt x="0" y="327"/>
                  </a:lnTo>
                  <a:lnTo>
                    <a:pt x="7" y="296"/>
                  </a:lnTo>
                  <a:lnTo>
                    <a:pt x="23" y="274"/>
                  </a:lnTo>
                  <a:lnTo>
                    <a:pt x="50" y="249"/>
                  </a:lnTo>
                  <a:lnTo>
                    <a:pt x="78" y="230"/>
                  </a:lnTo>
                  <a:lnTo>
                    <a:pt x="112" y="213"/>
                  </a:lnTo>
                  <a:lnTo>
                    <a:pt x="155" y="201"/>
                  </a:lnTo>
                  <a:lnTo>
                    <a:pt x="195" y="194"/>
                  </a:lnTo>
                  <a:lnTo>
                    <a:pt x="214" y="191"/>
                  </a:lnTo>
                  <a:lnTo>
                    <a:pt x="215" y="1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98000" y="3916080"/>
              <a:ext cx="13035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2209680" y="274320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334120" y="266688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37840" y="6095880"/>
            <a:ext cx="61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OH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SDN 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互联，或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固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809880" y="2514600"/>
            <a:ext cx="1784520" cy="1143000"/>
            <a:chOff x="3809880" y="2514600"/>
            <a:chExt cx="1784520" cy="1143000"/>
          </a:xfrm>
        </p:grpSpPr>
        <p:sp>
          <p:nvSpPr>
            <p:cNvPr id="663" name=""/>
            <p:cNvSpPr/>
            <p:nvPr/>
          </p:nvSpPr>
          <p:spPr>
            <a:xfrm>
              <a:off x="3809880" y="2514600"/>
              <a:ext cx="1784520" cy="1143000"/>
            </a:xfrm>
            <a:custGeom>
              <a:avLst/>
              <a:gdLst/>
              <a:ahLst/>
              <a:rect l="l" t="t" r="r" b="b"/>
              <a:pathLst>
                <a:path w="1681" h="1141">
                  <a:moveTo>
                    <a:pt x="0" y="0"/>
                  </a:moveTo>
                  <a:lnTo>
                    <a:pt x="1680" y="0"/>
                  </a:lnTo>
                  <a:lnTo>
                    <a:pt x="1680" y="672"/>
                  </a:lnTo>
                  <a:lnTo>
                    <a:pt x="576" y="672"/>
                  </a:lnTo>
                  <a:lnTo>
                    <a:pt x="180" y="1140"/>
                  </a:lnTo>
                  <a:lnTo>
                    <a:pt x="384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cap="rnd" w="1260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49560" y="2535480"/>
              <a:ext cx="86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以固定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互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962520" y="1219320"/>
            <a:ext cx="1717560" cy="1143000"/>
            <a:chOff x="3962520" y="1219320"/>
            <a:chExt cx="1717560" cy="1143000"/>
          </a:xfrm>
        </p:grpSpPr>
        <p:sp>
          <p:nvSpPr>
            <p:cNvPr id="666" name=""/>
            <p:cNvSpPr/>
            <p:nvPr/>
          </p:nvSpPr>
          <p:spPr>
            <a:xfrm>
              <a:off x="3962520" y="1219320"/>
              <a:ext cx="1717560" cy="1143000"/>
            </a:xfrm>
            <a:custGeom>
              <a:avLst/>
              <a:gdLst/>
              <a:ahLst/>
              <a:rect l="l" t="t" r="r" b="b"/>
              <a:pathLst>
                <a:path w="1681" h="1141">
                  <a:moveTo>
                    <a:pt x="0" y="0"/>
                  </a:moveTo>
                  <a:lnTo>
                    <a:pt x="1680" y="0"/>
                  </a:lnTo>
                  <a:lnTo>
                    <a:pt x="1680" y="672"/>
                  </a:lnTo>
                  <a:lnTo>
                    <a:pt x="576" y="672"/>
                  </a:lnTo>
                  <a:lnTo>
                    <a:pt x="180" y="1140"/>
                  </a:lnTo>
                  <a:lnTo>
                    <a:pt x="384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cap="rnd" w="1260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73400" y="1240200"/>
              <a:ext cx="1251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以电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ISDN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互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0880" y="0"/>
            <a:ext cx="7575840" cy="7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功能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 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先进的防火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295280" y="5029200"/>
            <a:ext cx="839880" cy="458640"/>
            <a:chOff x="1295280" y="5029200"/>
            <a:chExt cx="839880" cy="458640"/>
          </a:xfrm>
        </p:grpSpPr>
        <p:sp>
          <p:nvSpPr>
            <p:cNvPr id="670" name=""/>
            <p:cNvSpPr/>
            <p:nvPr/>
          </p:nvSpPr>
          <p:spPr>
            <a:xfrm>
              <a:off x="129528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0" y="240"/>
                  </a:moveTo>
                  <a:lnTo>
                    <a:pt x="0" y="144"/>
                  </a:lnTo>
                  <a:lnTo>
                    <a:pt x="48" y="96"/>
                  </a:lnTo>
                  <a:lnTo>
                    <a:pt x="432" y="96"/>
                  </a:lnTo>
                  <a:lnTo>
                    <a:pt x="480" y="48"/>
                  </a:lnTo>
                  <a:lnTo>
                    <a:pt x="48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8108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48" y="144"/>
                  </a:ln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0476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0" y="48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209680" y="5029200"/>
            <a:ext cx="839880" cy="458640"/>
            <a:chOff x="2209680" y="5029200"/>
            <a:chExt cx="839880" cy="458640"/>
          </a:xfrm>
        </p:grpSpPr>
        <p:sp>
          <p:nvSpPr>
            <p:cNvPr id="674" name=""/>
            <p:cNvSpPr/>
            <p:nvPr/>
          </p:nvSpPr>
          <p:spPr>
            <a:xfrm>
              <a:off x="2286000" y="5029200"/>
              <a:ext cx="76356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480" y="144"/>
                  </a:lnTo>
                  <a:lnTo>
                    <a:pt x="432" y="96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09680" y="50292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144"/>
                  </a:moveTo>
                  <a:lnTo>
                    <a:pt x="48" y="14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61960" y="52578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48" y="48"/>
                  </a:lnTo>
                  <a:lnTo>
                    <a:pt x="48" y="1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546200" y="5356080"/>
            <a:ext cx="563400" cy="557280"/>
            <a:chOff x="1546200" y="5356080"/>
            <a:chExt cx="563400" cy="557280"/>
          </a:xfrm>
        </p:grpSpPr>
        <p:grpSp>
          <p:nvGrpSpPr>
            <p:cNvPr id="678" name=""/>
            <p:cNvGrpSpPr/>
            <p:nvPr/>
          </p:nvGrpSpPr>
          <p:grpSpPr>
            <a:xfrm>
              <a:off x="1546200" y="5356080"/>
              <a:ext cx="563400" cy="557280"/>
              <a:chOff x="1546200" y="5356080"/>
              <a:chExt cx="563400" cy="557280"/>
            </a:xfrm>
          </p:grpSpPr>
          <p:sp>
            <p:nvSpPr>
              <p:cNvPr id="679" name=""/>
              <p:cNvSpPr/>
              <p:nvPr/>
            </p:nvSpPr>
            <p:spPr>
              <a:xfrm>
                <a:off x="1738080" y="5730840"/>
                <a:ext cx="27324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17640" y="574524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942920" y="57276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38080" y="579600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817640" y="5734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035080" y="583092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063520" y="5356080"/>
                <a:ext cx="4608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62120" y="5357880"/>
                <a:ext cx="44604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47640" y="5883120"/>
                <a:ext cx="48888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546200" y="5830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1579320" y="5842080"/>
                <a:ext cx="474840" cy="31680"/>
                <a:chOff x="1579320" y="5842080"/>
                <a:chExt cx="474840" cy="316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1612800" y="58420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603080" y="58532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592280" y="586260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579320" y="587376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1662120" y="5402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0172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01720" y="5443560"/>
                <a:ext cx="32220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712880" y="5456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936720" y="5356080"/>
            <a:ext cx="563040" cy="557280"/>
            <a:chOff x="936720" y="5356080"/>
            <a:chExt cx="563040" cy="557280"/>
          </a:xfrm>
        </p:grpSpPr>
        <p:grpSp>
          <p:nvGrpSpPr>
            <p:cNvPr id="699" name=""/>
            <p:cNvGrpSpPr/>
            <p:nvPr/>
          </p:nvGrpSpPr>
          <p:grpSpPr>
            <a:xfrm>
              <a:off x="936720" y="5356080"/>
              <a:ext cx="563040" cy="557280"/>
              <a:chOff x="936720" y="5356080"/>
              <a:chExt cx="563040" cy="557280"/>
            </a:xfrm>
          </p:grpSpPr>
          <p:sp>
            <p:nvSpPr>
              <p:cNvPr id="700" name=""/>
              <p:cNvSpPr/>
              <p:nvPr/>
            </p:nvSpPr>
            <p:spPr>
              <a:xfrm>
                <a:off x="1130040" y="5730840"/>
                <a:ext cx="26964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209600" y="574524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34880" y="5727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3004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209600" y="5734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425600" y="583236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54040" y="5356080"/>
                <a:ext cx="4572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52280" y="5357880"/>
                <a:ext cx="44568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38160" y="5883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36720" y="5832360"/>
                <a:ext cx="54432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968400" y="5840280"/>
                <a:ext cx="475560" cy="34920"/>
                <a:chOff x="968400" y="5840280"/>
                <a:chExt cx="475560" cy="349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002960" y="58402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993240" y="58514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982080" y="5864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968400" y="587520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1052280" y="5400720"/>
                <a:ext cx="40140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093680" y="5443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093680" y="5443560"/>
                <a:ext cx="31860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103040" y="5456160"/>
              <a:ext cx="29664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765520" y="5356080"/>
            <a:ext cx="563040" cy="557280"/>
            <a:chOff x="2765520" y="5356080"/>
            <a:chExt cx="563040" cy="557280"/>
          </a:xfrm>
        </p:grpSpPr>
        <p:grpSp>
          <p:nvGrpSpPr>
            <p:cNvPr id="720" name=""/>
            <p:cNvGrpSpPr/>
            <p:nvPr/>
          </p:nvGrpSpPr>
          <p:grpSpPr>
            <a:xfrm>
              <a:off x="2765520" y="5356080"/>
              <a:ext cx="563040" cy="557280"/>
              <a:chOff x="2765520" y="5356080"/>
              <a:chExt cx="563040" cy="557280"/>
            </a:xfrm>
          </p:grpSpPr>
          <p:sp>
            <p:nvSpPr>
              <p:cNvPr id="721" name=""/>
              <p:cNvSpPr/>
              <p:nvPr/>
            </p:nvSpPr>
            <p:spPr>
              <a:xfrm>
                <a:off x="2957400" y="5730840"/>
                <a:ext cx="272520" cy="66600"/>
              </a:xfrm>
              <a:custGeom>
                <a:avLst/>
                <a:gdLst/>
                <a:ahLst/>
                <a:rect l="l" t="t" r="r" b="b"/>
                <a:pathLst>
                  <a:path w="172" h="42">
                    <a:moveTo>
                      <a:pt x="0" y="41"/>
                    </a:moveTo>
                    <a:lnTo>
                      <a:pt x="129" y="41"/>
                    </a:lnTo>
                    <a:lnTo>
                      <a:pt x="171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036600" y="5745240"/>
                <a:ext cx="9972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9"/>
                    </a:moveTo>
                    <a:lnTo>
                      <a:pt x="62" y="1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62240" y="5727600"/>
                <a:ext cx="8856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1"/>
                    </a:moveTo>
                    <a:lnTo>
                      <a:pt x="44" y="0"/>
                    </a:lnTo>
                    <a:lnTo>
                      <a:pt x="0" y="43"/>
                    </a:lnTo>
                    <a:lnTo>
                      <a:pt x="0" y="55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57400" y="5796000"/>
                <a:ext cx="20592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36600" y="57340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0"/>
                    </a:moveTo>
                    <a:lnTo>
                      <a:pt x="0" y="7"/>
                    </a:lnTo>
                    <a:lnTo>
                      <a:pt x="61" y="7"/>
                    </a:lnTo>
                    <a:lnTo>
                      <a:pt x="61" y="26"/>
                    </a:lnTo>
                    <a:lnTo>
                      <a:pt x="8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54400" y="5830920"/>
                <a:ext cx="5364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5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82840" y="5356080"/>
                <a:ext cx="45720" cy="38268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1"/>
                    </a:lnTo>
                    <a:lnTo>
                      <a:pt x="0" y="24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81080" y="5357880"/>
                <a:ext cx="445680" cy="46080"/>
              </a:xfrm>
              <a:custGeom>
                <a:avLst/>
                <a:gdLst/>
                <a:ahLst/>
                <a:rect l="l" t="t" r="r" b="b"/>
                <a:pathLst>
                  <a:path w="281" h="29">
                    <a:moveTo>
                      <a:pt x="0" y="28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66960" y="5883120"/>
                <a:ext cx="48852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65520" y="5830920"/>
                <a:ext cx="54288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341" y="0"/>
                    </a:moveTo>
                    <a:lnTo>
                      <a:pt x="308" y="33"/>
                    </a:lnTo>
                    <a:lnTo>
                      <a:pt x="0" y="33"/>
                    </a:lnTo>
                    <a:lnTo>
                      <a:pt x="33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2798640" y="5842080"/>
                <a:ext cx="474120" cy="31680"/>
                <a:chOff x="2798640" y="5842080"/>
                <a:chExt cx="474120" cy="316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831760" y="584208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822040" y="585324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810880" y="5862600"/>
                  <a:ext cx="4410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798640" y="5873760"/>
                  <a:ext cx="4424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2881080" y="5402160"/>
                <a:ext cx="399960" cy="33516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21040" y="5443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152"/>
                    </a:moveTo>
                    <a:lnTo>
                      <a:pt x="0" y="152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02" y="152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21040" y="5443560"/>
                <a:ext cx="321840" cy="243000"/>
              </a:xfrm>
              <a:custGeom>
                <a:avLst/>
                <a:gdLst/>
                <a:ahLst/>
                <a:rect l="l" t="t" r="r" b="b"/>
                <a:pathLst>
                  <a:path w="203" h="153">
                    <a:moveTo>
                      <a:pt x="202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48" y="103"/>
                    </a:lnTo>
                    <a:lnTo>
                      <a:pt x="147" y="53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2931840" y="54561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137"/>
                  </a:moveTo>
                  <a:lnTo>
                    <a:pt x="0" y="137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7"/>
                  </a:lnTo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155680" y="5356080"/>
            <a:ext cx="563760" cy="557280"/>
            <a:chOff x="2155680" y="5356080"/>
            <a:chExt cx="563760" cy="557280"/>
          </a:xfrm>
        </p:grpSpPr>
        <p:grpSp>
          <p:nvGrpSpPr>
            <p:cNvPr id="741" name=""/>
            <p:cNvGrpSpPr/>
            <p:nvPr/>
          </p:nvGrpSpPr>
          <p:grpSpPr>
            <a:xfrm>
              <a:off x="2155680" y="5356080"/>
              <a:ext cx="563760" cy="557280"/>
              <a:chOff x="2155680" y="5356080"/>
              <a:chExt cx="563760" cy="557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349360" y="5730840"/>
                <a:ext cx="270000" cy="6660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28920" y="5745240"/>
                <a:ext cx="96840" cy="3312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54200" y="57276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49360" y="5796000"/>
                <a:ext cx="206280" cy="27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428920" y="5734080"/>
                <a:ext cx="137880" cy="4428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44560" y="5832360"/>
                <a:ext cx="55800" cy="795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73360" y="5356080"/>
                <a:ext cx="46080" cy="38124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271600" y="5357880"/>
                <a:ext cx="446040" cy="4428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57120" y="5883120"/>
                <a:ext cx="48924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55680" y="5832360"/>
                <a:ext cx="544680" cy="5256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2187360" y="5840280"/>
                <a:ext cx="476280" cy="34920"/>
                <a:chOff x="2187360" y="5840280"/>
                <a:chExt cx="476280" cy="349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222280" y="584028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212920" y="5851440"/>
                  <a:ext cx="4413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201760" y="5864400"/>
                  <a:ext cx="442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187360" y="5875200"/>
                  <a:ext cx="44316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2271600" y="5400720"/>
                <a:ext cx="401760" cy="3348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130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13000" y="544356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2322360" y="5456160"/>
              <a:ext cx="297000" cy="21744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004a43"/>
                </a:gs>
                <a:gs pos="100000">
                  <a:srgbClr val="0096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911240" y="4502160"/>
            <a:ext cx="520920" cy="520560"/>
          </a:xfrm>
          <a:prstGeom prst="rect">
            <a:avLst/>
          </a:prstGeom>
          <a:gradFill rotWithShape="0">
            <a:gsLst>
              <a:gs pos="0">
                <a:srgbClr val="646464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13372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3800" y="45720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CA545" descr=""/>
          <p:cNvPicPr/>
          <p:nvPr/>
        </p:nvPicPr>
        <p:blipFill>
          <a:blip r:embed="rId1"/>
          <a:stretch/>
        </p:blipFill>
        <p:spPr>
          <a:xfrm>
            <a:off x="2895480" y="3533760"/>
            <a:ext cx="1143000" cy="7920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7315200" y="4191120"/>
            <a:ext cx="1027080" cy="1295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 flipH="1" flipV="1">
            <a:off x="5486400" y="37339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0000" y="5992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外人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1027080" cy="12952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201480" y="6297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公司内部人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3962520" y="2362320"/>
            <a:ext cx="1488960" cy="22334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5"/>
          <a:stretch/>
        </p:blipFill>
        <p:spPr>
          <a:xfrm>
            <a:off x="7086600" y="1905120"/>
            <a:ext cx="1108080" cy="1371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6232680" y="13716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家中或其他地点的办公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410080" y="25142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914400"/>
            <a:ext cx="1514520" cy="25336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8"/>
          <a:stretch/>
        </p:blipFill>
        <p:spPr>
          <a:xfrm>
            <a:off x="3962520" y="2971800"/>
            <a:ext cx="2404800" cy="13525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02560" y="1031760"/>
            <a:ext cx="314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限制内外部人员能否访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那些用户可以或不可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l / www / FTP / 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限制应用的范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理路由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防止外部得知内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8T05:27:37Z</dcterms:created>
  <dc:creator>DEMO</dc:creator>
  <dc:description/>
  <dc:language>en-US</dc:language>
  <cp:lastModifiedBy>user</cp:lastModifiedBy>
  <cp:lastPrinted>1998-09-17T06:06:19Z</cp:lastPrinted>
  <dcterms:modified xsi:type="dcterms:W3CDTF">1998-12-18T08:28:19Z</dcterms:modified>
  <cp:revision>11</cp:revision>
  <dc:subject/>
  <dc:title>没有幻灯片标题</dc:title>
</cp:coreProperties>
</file>